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4F2-BE95-41B6-9C3C-D7B30B1F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CB6-D675-48CA-90FE-51955C5F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1CD-6614-4FFA-901A-5EDB3D75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A98-43EA-403A-B709-4E115CC1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8C8-FE2B-4DA2-A1BA-7D364223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E05-FFA6-49EA-9E29-A272C7DD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58D-329C-4269-8F0B-5EB80474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CC2-0BB6-44B1-8150-87DBE9C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49C-77D5-4A17-A752-0FFC82A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024-F17F-4AA2-BCDE-A6151BB6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784-A5EB-4C14-8BED-DD573AA3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B07-649F-4198-B5DF-96D2FBDB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631E-2180-4059-96C6-61B1C5377D7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7785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09:54:55Z</dcterms:created>
  <dc:creator>Vedrana</dc:creator>
  <dc:description/>
  <dc:language>en-US</dc:language>
  <cp:lastModifiedBy>Antonija</cp:lastModifiedBy>
  <dcterms:modified xsi:type="dcterms:W3CDTF">2013-01-19T18:58:30Z</dcterms:modified>
  <cp:revision>1</cp:revision>
  <dc:subject/>
  <dc:title>PowerPointova prezentacija</dc:title>
</cp:coreProperties>
</file>