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3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wmf" ContentType="image/x-wmf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12.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97ED-993D-4527-9652-F88FCB7BD3B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271C-0DAF-484E-9E0F-B84C73EF2F40}" type="slidenum">
              <a:rPr b="0" lang="hr-H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Calibri"/>
              </a:rPr>
              <a:t>12.5.2011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4392-66B6-41FD-8751-2B1B4FE00684}" type="slidenum">
              <a:rPr b="0" lang="hr-H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Calibri"/>
              </a:rPr>
              <a:t>12.5.2011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A44-DDD6-4006-96C4-EDC3BEA3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D9E-FA39-4EB8-9E85-FCDCAB98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78D-3C52-47DA-BCBD-8940337E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DA9-A1CB-4CA4-8FB1-D6763FF8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D5E7F-1099-4972-A750-36770C0A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6F15A-CA7E-4F93-976F-A255D67D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21A0B-5EB9-4D12-81DD-853EB479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D1374-1DAB-4DBA-9503-3E23C9DC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536B9-577E-4B28-9875-FD11BED5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70903-28AF-4546-85C2-04FB0BE8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C0529-76BE-40C3-A2B3-FD96A810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42A-C5DD-40A0-B6B2-49B815FD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AF1D6-C226-434E-BF0D-91584B4D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F5FD3-ECD1-465E-B0AE-9445E566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35D61-B21B-427C-9F3E-167E1342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B308D-5A3B-4AD9-99AA-9AD26BC3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06818-7452-4CC8-98DF-46121B59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16B6-0B34-49CB-91E2-8658831C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ED54-9B1C-4EDE-9F53-4A81F5BA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1E61-5853-4816-BCD5-B797BB82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B78EC-74BD-4305-9D98-B667EB29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3834-2E72-4455-B3BC-B83A9AF0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464-AB47-4C1D-8AFC-BED085BE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01A1E-E6D4-4FDE-969C-D1E74A33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D7A0-36E2-4DEB-BBF5-914C5F43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3E7C6-74B2-4EBC-A7FE-6871C1B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2E2C-9B30-4525-A28B-E9609BE8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61EDC-ACF8-4DC3-9734-82D1D1D4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6E2D-9F1A-4824-8F50-37CEF079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8B58-4A5B-4A77-A60F-47DC44CF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7C923-ED1B-45D6-B0FE-6F6C9EF2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8FF03-AB4F-40EA-BFB9-BC9FE83D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89C72-18A2-4D04-B6BF-6B7CCE24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47B-777B-401F-B640-1A6ADCC4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57774-284C-4462-97D5-E4DAB612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AEC06-E769-4D92-9DB0-67F3034F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0A831-F232-4A58-9BEA-DBA4471A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DAEA8-E860-4E80-AB0B-A7392F40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7362D-6AC3-4F3C-8085-610CB84C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FA528-0859-43E2-9835-C178C315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BE91E9-5FFC-47B0-AF28-754C1A09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67BAEE-22BA-4BE5-B293-21EFFC42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9F5594-FEDF-4E0B-AC66-1A861969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BC13F-B139-491D-BF96-1CFABA48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AA0-45CC-4622-AF2B-33623BC1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486A3-DA42-41E4-8CA3-EF9C3805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37393-6E86-49A9-A6C3-1520635F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38406-214D-474B-A2FA-87EBC027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80EFC-BE05-4322-BF4B-09D87881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EFE55-A207-4839-BE28-6F95537B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4DF13-7B96-4CDE-A9B1-9CFB6913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F644A-36BF-4230-8292-ECEBD708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61132-BADA-497E-9AD7-EDC573E0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004F2-A586-47C7-91EF-6BFFB0DF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F76A4-A15E-40AF-B39B-183DD809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2EC-3713-4625-8A7E-D76EB60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67EFB-CB02-4C5B-9255-79420494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7B80A-F1D6-452B-A579-E4483B43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25C01-FFB2-4762-A9B6-2CDB97CB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AF5C1-05BC-4015-A684-5A482FAB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6E266-D09E-4FA2-8F72-A7AA7BE4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F306B-3DC8-4FAC-995C-F49A8D1C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2D5300-4E6B-43A3-9D90-40EE6388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3197E-820A-4F5D-A86B-0E306AB2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83AD1-4802-4E50-8D8A-848C2158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C4B32-9E52-4359-9518-FAAB37D8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347-6912-45B5-97B8-3615FE8C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A25D3-B66A-4012-8589-6107F8E3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FDA3B-A417-4CF8-BAB0-5E4E0B6E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85096-7E8E-490C-BFED-DBB6E595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BCB-6756-4BFA-B0FC-274C03D3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9E1-6CF8-449C-B273-25DA6AC7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12/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2331-CA38-4CBB-9C59-DFAE5D0B018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12/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E7C0-2C94-4A3A-BCCB-83FAC0455E1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12/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7C32-CD5F-4D39-989C-3F89B6C817D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6941-3BE8-40C3-BBD1-0F13F89374F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12/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12/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EEAF-7FBF-4AE3-8144-74C2382C08B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12/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CE24-65C9-4241-BD42-D3F6B79C0E0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ntonija-horvatek.from.hr/" TargetMode="External"/><Relationship Id="rId3" Type="http://schemas.openxmlformats.org/officeDocument/2006/relationships/hyperlink" Target="http://free-vu.t-com.hr/matematika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efac9"/>
                </a:solidFill>
                <a:latin typeface="Constantia"/>
              </a:rPr>
              <a:t>Rad u skupinam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Title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07CF-A740-4370-A578-D967A143A8A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342900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Napiši formule prema kojima se računa cijena prijevoza taksijem ovisno o broju prijeđenih kilometara (za obje tvrtke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Koliko će se platiti vožnja duga 8 km u jednoj, odnosno drugoj tvrtki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Koliki je put prešla gospođa Žurić taksijem „Ford“ ako je račun platila 138 kuna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Koliko bi taj put platila u tvrtki „Audi“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Title 2" descr=""/>
          <p:cNvPicPr/>
          <p:nvPr/>
        </p:nvPicPr>
        <p:blipFill>
          <a:blip r:embed="rId2"/>
          <a:stretch/>
        </p:blipFill>
        <p:spPr>
          <a:xfrm>
            <a:off x="1670040" y="378000"/>
            <a:ext cx="2755800" cy="1231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C:\Users\Korisnik\Desktop\mentorstvo\taxi2.jpg"/>
          <p:cNvPicPr/>
          <p:nvPr/>
        </p:nvPicPr>
        <p:blipFill>
          <a:blip r:embed="rId3"/>
          <a:stretch/>
        </p:blipFill>
        <p:spPr>
          <a:xfrm>
            <a:off x="5800680" y="1522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685800" y="19051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Constantia"/>
              </a:rPr>
              <a:t>„</a:t>
            </a:r>
            <a:r>
              <a:rPr b="0" lang="hr-HR" sz="2200" spc="-1" strike="noStrike">
                <a:solidFill>
                  <a:srgbClr val="ffffff"/>
                </a:solidFill>
                <a:latin typeface="Constantia"/>
              </a:rPr>
              <a:t>Ford“: start 12 kn + 9 kn/k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Constantia"/>
              </a:rPr>
              <a:t> „</a:t>
            </a:r>
            <a:r>
              <a:rPr b="0" lang="hr-HR" sz="2200" spc="-1" strike="noStrike">
                <a:solidFill>
                  <a:srgbClr val="ffffff"/>
                </a:solidFill>
                <a:latin typeface="Constantia"/>
              </a:rPr>
              <a:t>Audi“: start 25 kn + 8 kn/k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FEC5-1374-4C52-ADA6-965A3E43F9A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Udžbenik “Matematički izazovi 7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Stranica 104., zadaci: 11., 12., 13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Stranica 105., zadaci: 17., 19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Primjeri slični danas obrađeni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Sladoled, kava, štednja, mjenjačnica, renta-c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Zapisati linearnu funkcij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Izračunati vrijednost funkcije ili argu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8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4968720" cy="1231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:\Users\Korisnik\Desktop\mentorstvo\ispit.jpg"/>
          <p:cNvPicPr/>
          <p:nvPr/>
        </p:nvPicPr>
        <p:blipFill>
          <a:blip r:embed="rId3"/>
          <a:stretch/>
        </p:blipFill>
        <p:spPr>
          <a:xfrm>
            <a:off x="5791320" y="533520"/>
            <a:ext cx="2971800" cy="3205080"/>
          </a:xfrm>
          <a:prstGeom prst="rect">
            <a:avLst/>
          </a:prstGeom>
          <a:ln w="0">
            <a:noFill/>
          </a:ln>
        </p:spPr>
      </p:pic>
      <p:sp>
        <p:nvSpPr>
          <p:cNvPr id="310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D723-C98C-4DFC-85AC-077C05050A8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103400" y="4343040"/>
            <a:ext cx="700704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hr-HR" sz="1500" spc="-1" strike="noStrike">
                <a:solidFill>
                  <a:srgbClr val="ffffff"/>
                </a:solidFill>
                <a:latin typeface="Constantia"/>
              </a:rPr>
              <a:t>Najtoplije zahvaljujem autoru na dopuštenju da ove materijale stavim na svoje web stranice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500" spc="-1" strike="noStrike">
                <a:solidFill>
                  <a:srgbClr val="ffffff"/>
                </a:solidFill>
                <a:latin typeface="Constantia"/>
              </a:rPr>
              <a:t>Antonija Horvatek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http://www.antonija-horvatek.from.hr/</a:t>
            </a:r>
            <a:r>
              <a:rPr b="0" lang="hr-HR" sz="1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447920"/>
            <a:ext cx="80611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ffff"/>
                </a:solidFill>
                <a:latin typeface="Constantia"/>
              </a:rPr>
              <a:t>Autor prezentacije: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fefac9"/>
                </a:solidFill>
                <a:latin typeface="Constantia"/>
              </a:rPr>
              <a:t>Željko Brčić</a:t>
            </a:r>
            <a:endParaRPr b="0" lang="en-US" sz="43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ffffff"/>
                </a:solidFill>
                <a:uFillTx/>
                <a:latin typeface="Constantia"/>
                <a:hlinkClick r:id="rId3"/>
              </a:rPr>
              <a:t>http://free-vu.t-com.hr/matematika/</a:t>
            </a:r>
            <a:r>
              <a:rPr b="0" lang="hr-HR" sz="1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Constantia"/>
              </a:rPr>
              <a:t>Uvodni dio (5’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Constantia"/>
              </a:rPr>
              <a:t>Rad u skupinama (15’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efac9"/>
                </a:solidFill>
                <a:latin typeface="Constantia"/>
              </a:rPr>
              <a:t>rade svi zajedno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efac9"/>
                </a:solidFill>
                <a:latin typeface="Times New Roman"/>
              </a:rPr>
              <a:t>vođa</a:t>
            </a:r>
            <a:r>
              <a:rPr b="0" lang="hr-HR" sz="2000" spc="-1" strike="noStrike">
                <a:solidFill>
                  <a:srgbClr val="fefac9"/>
                </a:solidFill>
                <a:latin typeface="Constantia"/>
              </a:rPr>
              <a:t> koordinira rad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efac9"/>
                </a:solidFill>
                <a:latin typeface="Constantia"/>
              </a:rPr>
              <a:t>sve pisati u radni list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Constantia"/>
              </a:rPr>
              <a:t>Prezentacija rješenja (20’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efac9"/>
                </a:solidFill>
                <a:latin typeface="Constantia"/>
              </a:rPr>
              <a:t>benzin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efac9"/>
                </a:solidFill>
                <a:latin typeface="Constantia"/>
              </a:rPr>
              <a:t>vodovod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efac9"/>
                </a:solidFill>
                <a:latin typeface="Constantia"/>
              </a:rPr>
              <a:t>internet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efac9"/>
                </a:solidFill>
                <a:latin typeface="Constantia"/>
              </a:rPr>
              <a:t>taxi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Constantia"/>
              </a:rPr>
              <a:t>Završni dio (5’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C:\Users\Korisnik\Desktop\mentorstvo\ispit.jpg"/>
          <p:cNvPicPr/>
          <p:nvPr/>
        </p:nvPicPr>
        <p:blipFill>
          <a:blip r:embed="rId3"/>
          <a:stretch/>
        </p:blipFill>
        <p:spPr>
          <a:xfrm>
            <a:off x="4676760" y="2590920"/>
            <a:ext cx="3324240" cy="358596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4146-0090-4167-B44B-5263E44A922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0880" y="3352320"/>
            <a:ext cx="74678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100" spc="-1" strike="noStrike">
                <a:solidFill>
                  <a:srgbClr val="ffffff"/>
                </a:solidFill>
                <a:latin typeface="Constantia"/>
              </a:rPr>
              <a:t>Na benzinsku crpku stigla je cisterna s benzinom. Iz nje se gorivo istače u tank u kojem je već bilo 80 hektolitara benzina, i to brzinom od 6 hektolitara u minuti.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Title 2" descr=""/>
          <p:cNvPicPr/>
          <p:nvPr/>
        </p:nvPicPr>
        <p:blipFill>
          <a:blip r:embed="rId2"/>
          <a:stretch/>
        </p:blipFill>
        <p:spPr>
          <a:xfrm>
            <a:off x="1133640" y="1060560"/>
            <a:ext cx="2835000" cy="1231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C:\Users\Korisnik\Desktop\mentorstvo\benzin.jpg"/>
          <p:cNvPicPr/>
          <p:nvPr/>
        </p:nvPicPr>
        <p:blipFill>
          <a:blip r:embed="rId3"/>
          <a:stretch/>
        </p:blipFill>
        <p:spPr>
          <a:xfrm>
            <a:off x="5181480" y="228600"/>
            <a:ext cx="3764160" cy="2819520"/>
          </a:xfrm>
          <a:prstGeom prst="rect">
            <a:avLst/>
          </a:prstGeom>
          <a:ln w="0">
            <a:noFill/>
          </a:ln>
        </p:spPr>
      </p:pic>
      <p:sp>
        <p:nvSpPr>
          <p:cNvPr id="269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8572-D5AD-445F-B925-8772E2C15ED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0520" y="3352680"/>
            <a:ext cx="8153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Constantia"/>
              </a:rPr>
              <a:t>Zapišite funkciju koja opisuje količinu goriva u tanku nakon x minuta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hr-HR" sz="2700" spc="-1" strike="noStrike">
                <a:solidFill>
                  <a:srgbClr val="ffffff"/>
                </a:solidFill>
                <a:latin typeface="Constantia"/>
              </a:rPr>
              <a:t>Koliko će goriva biti u tanku nakon deset minuta?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hr-HR" sz="2700" spc="-1" strike="noStrike">
                <a:solidFill>
                  <a:srgbClr val="ffffff"/>
                </a:solidFill>
                <a:latin typeface="Constantia"/>
              </a:rPr>
              <a:t>Koliko će goriva biti u tanku pola sata od početka pražnjenja cisterne?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hr-HR" sz="2700" spc="-1" strike="noStrike">
                <a:solidFill>
                  <a:srgbClr val="ffffff"/>
                </a:solidFill>
                <a:latin typeface="Constantia"/>
              </a:rPr>
              <a:t>Nakon koliko vremena je u tanku bilo točno 350 hektolitara benzina?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Title 2" descr=""/>
          <p:cNvPicPr/>
          <p:nvPr/>
        </p:nvPicPr>
        <p:blipFill>
          <a:blip r:embed="rId2"/>
          <a:stretch/>
        </p:blipFill>
        <p:spPr>
          <a:xfrm>
            <a:off x="1133640" y="1060560"/>
            <a:ext cx="2835000" cy="1231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C:\Users\Korisnik\Desktop\mentorstvo\benzin.jpg"/>
          <p:cNvPicPr/>
          <p:nvPr/>
        </p:nvPicPr>
        <p:blipFill>
          <a:blip r:embed="rId3"/>
          <a:stretch/>
        </p:blipFill>
        <p:spPr>
          <a:xfrm>
            <a:off x="5181480" y="228600"/>
            <a:ext cx="3764160" cy="28195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914400" y="23623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nstantia"/>
              </a:rPr>
              <a:t>U tanku je bilo 80 hl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nstantia"/>
              </a:rPr>
              <a:t>Istače se 6 hl u svakoj minuti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5809-A63E-494B-82DD-3673C6D403C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33160" y="228600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Novim Zakonom o vodama uveden je fiksni dio usluge koju plaćaju svi potrošači bez obzira na količinu potrošene vode. Drugi dio računa ovisi o količini potrošene vode u 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Title 2" descr=""/>
          <p:cNvPicPr/>
          <p:nvPr/>
        </p:nvPicPr>
        <p:blipFill>
          <a:blip r:embed="rId2"/>
          <a:stretch/>
        </p:blipFill>
        <p:spPr>
          <a:xfrm>
            <a:off x="1365120" y="1359000"/>
            <a:ext cx="2683080" cy="860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Korisnik\Desktop\mentorstvo\voda2.jpg"/>
          <p:cNvPicPr/>
          <p:nvPr/>
        </p:nvPicPr>
        <p:blipFill>
          <a:blip r:embed="rId3"/>
          <a:stretch/>
        </p:blipFill>
        <p:spPr>
          <a:xfrm>
            <a:off x="6553080" y="228600"/>
            <a:ext cx="2352960" cy="32511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5"/>
          <p:cNvSpPr/>
          <p:nvPr/>
        </p:nvSpPr>
        <p:spPr>
          <a:xfrm>
            <a:off x="533520" y="1066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457200" y="4572000"/>
            <a:ext cx="7924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Constantia"/>
              </a:rPr>
              <a:t>U tablici je dan cjenik „Vinkovačkog vodovoda i kanalizacije“ za mjesečnu potrošnju vode do 8 </a:t>
            </a: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838080" y="5486400"/>
          <a:ext cx="7543800" cy="741240"/>
        </p:xfrm>
        <a:graphic>
          <a:graphicData uri="http://schemas.openxmlformats.org/drawingml/2006/table">
            <a:tbl>
              <a:tblPr/>
              <a:tblGrid>
                <a:gridCol w="754200"/>
                <a:gridCol w="754200"/>
                <a:gridCol w="755640"/>
                <a:gridCol w="753840"/>
                <a:gridCol w="754200"/>
                <a:gridCol w="753840"/>
                <a:gridCol w="754200"/>
                <a:gridCol w="755640"/>
                <a:gridCol w="754200"/>
                <a:gridCol w="753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3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2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81" name="Slide Number Placeholder 9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6AC-F384-431C-BB11-031DE12F132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61760" y="3047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Koliko iznosi fiksni dio vodne usluge, a koliko plaća korisnik za svaki potrošeni „kubik“ (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) vode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Kako glasi linearna funkcija kojom se računa cijena vode ovisno o broju potrošenih 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 vode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Koliko bi iznosio račun kućanstva koje je potrošilo 16 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 vode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Moj račun iz VVK-a za travanj iznosio je 127 kuna. Koliko je moja obitelj potrošila vode toga mjeseca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Title 2" descr=""/>
          <p:cNvPicPr/>
          <p:nvPr/>
        </p:nvPicPr>
        <p:blipFill>
          <a:blip r:embed="rId2"/>
          <a:stretch/>
        </p:blipFill>
        <p:spPr>
          <a:xfrm>
            <a:off x="1365120" y="1359000"/>
            <a:ext cx="2683080" cy="860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Users\Korisnik\Desktop\mentorstvo\voda2.jpg"/>
          <p:cNvPicPr/>
          <p:nvPr/>
        </p:nvPicPr>
        <p:blipFill>
          <a:blip r:embed="rId3"/>
          <a:stretch/>
        </p:blipFill>
        <p:spPr>
          <a:xfrm>
            <a:off x="6553080" y="228600"/>
            <a:ext cx="2352960" cy="32511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533520" y="1066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28600" y="304920"/>
          <a:ext cx="6248520" cy="741240"/>
        </p:xfrm>
        <a:graphic>
          <a:graphicData uri="http://schemas.openxmlformats.org/drawingml/2006/table">
            <a:tbl>
              <a:tblPr/>
              <a:tblGrid>
                <a:gridCol w="625320"/>
                <a:gridCol w="623880"/>
                <a:gridCol w="625680"/>
                <a:gridCol w="623880"/>
                <a:gridCol w="625320"/>
                <a:gridCol w="625680"/>
                <a:gridCol w="623880"/>
                <a:gridCol w="625320"/>
                <a:gridCol w="623880"/>
                <a:gridCol w="625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3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2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87" name="Slide Number Placeholder 7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86F0-99E5-4804-BC1F-79676EE708C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6840" y="45716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Telefonska kompanija naplaćuje uporabu interneta tako da na fiksni iznos mjesečne pretplate doda iznos koji ovisi o količini internet prometa u gigabajtim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Cjenik kompanije dan je gornjim grafikonom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Title 2" descr=""/>
          <p:cNvPicPr/>
          <p:nvPr/>
        </p:nvPicPr>
        <p:blipFill>
          <a:blip r:embed="rId2"/>
          <a:stretch/>
        </p:blipFill>
        <p:spPr>
          <a:xfrm>
            <a:off x="1060560" y="1444680"/>
            <a:ext cx="2755800" cy="1231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3"/>
          <a:stretch/>
        </p:blipFill>
        <p:spPr>
          <a:xfrm>
            <a:off x="3962520" y="228600"/>
            <a:ext cx="5035320" cy="4191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C:\Users\Korisnik\Desktop\mentorstvo\internet3.jpg"/>
          <p:cNvPicPr/>
          <p:nvPr/>
        </p:nvPicPr>
        <p:blipFill>
          <a:blip r:embed="rId4"/>
          <a:stretch/>
        </p:blipFill>
        <p:spPr>
          <a:xfrm>
            <a:off x="0" y="0"/>
            <a:ext cx="2577960" cy="19810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E461-570E-4742-8C76-670861E2AFB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6840" y="45716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Koliko iznosi mjesečna pretplata, a koliko plaća korisnik za svaki potrošeni gigabajt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Kako glasi linearna funkcija kojom se računa cijena uporabe interneta ovisno o broju potrošenih gigabajta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Koliko iznosi račun korisnika koji ima promet od 16 gigabajta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Marko je dobio račun od 255 kuna. Koliko je gigabajta potrošio tog mjeseca?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Title 2" descr=""/>
          <p:cNvPicPr/>
          <p:nvPr/>
        </p:nvPicPr>
        <p:blipFill>
          <a:blip r:embed="rId2"/>
          <a:stretch/>
        </p:blipFill>
        <p:spPr>
          <a:xfrm>
            <a:off x="1060560" y="1444680"/>
            <a:ext cx="2755800" cy="1231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3"/>
          <a:stretch/>
        </p:blipFill>
        <p:spPr>
          <a:xfrm>
            <a:off x="3962520" y="228600"/>
            <a:ext cx="5035320" cy="4191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C:\Users\Korisnik\Desktop\mentorstvo\internet3.jpg"/>
          <p:cNvPicPr/>
          <p:nvPr/>
        </p:nvPicPr>
        <p:blipFill>
          <a:blip r:embed="rId4"/>
          <a:stretch/>
        </p:blipFill>
        <p:spPr>
          <a:xfrm>
            <a:off x="0" y="0"/>
            <a:ext cx="2577960" cy="198108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81D7-F77C-485C-A4C7-781D69565DC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228600" y="22096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U gradu postoje dvije tvrtke koje nude usluge taksi prijevoz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Taksi služba „Ford“ svoje usluge naplaćuje prema sljedećem cjeniku: start 12 kuna, a cijena po prijeđenom kilometru 9 ku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Konkurentska tvrtka „Audi“ polazak sa stajališta naplaćuje 25 kuna, a svaki prijeđeni kilometar dodatnih 8 ku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Title 2" descr=""/>
          <p:cNvPicPr/>
          <p:nvPr/>
        </p:nvPicPr>
        <p:blipFill>
          <a:blip r:embed="rId2"/>
          <a:stretch/>
        </p:blipFill>
        <p:spPr>
          <a:xfrm>
            <a:off x="1670040" y="378000"/>
            <a:ext cx="2755800" cy="1231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C:\Users\Korisnik\Desktop\mentorstvo\taxi2.jpg"/>
          <p:cNvPicPr/>
          <p:nvPr/>
        </p:nvPicPr>
        <p:blipFill>
          <a:blip r:embed="rId3"/>
          <a:stretch/>
        </p:blipFill>
        <p:spPr>
          <a:xfrm>
            <a:off x="5800680" y="1522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301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3109-CC61-4A2A-B03B-16A12B7088C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Željko</dc:creator>
  <dc:description/>
  <dc:language>en-US</dc:language>
  <cp:lastModifiedBy>Antonija</cp:lastModifiedBy>
  <dcterms:modified xsi:type="dcterms:W3CDTF">2012-02-24T15:34:10Z</dcterms:modified>
  <cp:revision>20</cp:revision>
  <dc:subject/>
  <dc:title>Linearna funkcija</dc:title>
</cp:coreProperties>
</file>