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onstanti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C31E-A5FB-4AAA-90F0-D9FFE503D4E0}" type="slidenum">
              <a:rPr b="0" lang="hr-H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FF70-8ABE-40BC-93AC-CA4FDE008581}" type="slidenum">
              <a:rPr b="0" lang="hr-H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Calibri"/>
              </a:rPr>
              <a:t>12.5.2011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352-AD0F-47C6-A4BD-08D0766E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600-35E1-49B2-A40B-DB899B31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61D-E5A1-498C-A39A-278CE361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FCF-D9B4-474E-9886-8F8085E5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AB5D4-3E53-4BB4-A267-5681BD6F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2F132-BD83-41BA-90CA-E0D3B6A7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628F8-3CAB-4E5A-B145-C6AB9A20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C5640-952B-43A0-83A4-ECC3E84B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8A230-AC25-47B4-8ADF-0B7D64A9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7902F-B2C6-43C2-8DE2-66E0D5BB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45142-4DB8-4217-8E98-0EFEDC2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61E-56D7-447E-88F3-77621E0B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289CB-BCD2-4D76-A365-CCFA3BD8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C3190-B056-49CA-99DD-9710D571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95DA4-1BBD-4A6C-857F-7FF86B59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7E23D-096A-4D54-B1D3-CF4C1B43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603E8-2392-4580-B188-42D254F3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4AB1-5412-46A2-B8AC-61AE8016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CFF77-D466-458E-8205-E1C875A5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7C2C-E9F5-4D42-9F22-C286E3CA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8B35-A592-4A53-BD75-F4D3FD28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0797E-B823-4AE1-9000-998172A0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95D-D34A-47CB-97B6-D8D1FEAA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82AF-B4C8-4EF9-88B2-D9452DB8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AAB2-5F98-407E-8A86-4A360A9A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48C9-E73A-4694-BF21-3261819B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41B3-B793-47D8-8661-21997BE0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ED65-84F1-40A2-8895-64A87A85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00041-6D60-4301-9F33-1357C3A4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CB81-03BD-4E3A-9D16-05E0458D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3EB8A-03B2-47C3-A473-B2AB3D0C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DF1F6-6FA8-4865-848B-9CCF13C7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F4154F-0A2F-4041-8557-DF84E60C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56B-41BB-4CB1-B969-08ADB44D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82A8B-4239-4D8F-B5D9-68CD817F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F52BA-CC95-47EC-B06D-3429E840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67A35F-DF3D-409B-AE09-D0E6F173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533A2-BCFB-47CB-BAB0-FCC4C8A3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7E160-6A57-41E2-B895-56B67FB7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DFC27-D341-498B-84F0-9823B64D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BEC981-490B-40CA-97F9-613B3579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E74F19-2AB7-4AF0-A8B1-A16B96D2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27AA4-B1E3-431D-BB1B-AA7E3226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7395F6-E0D2-42CE-8D48-D859E8F4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75B-A7B7-499A-AB44-E3507342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6623C-47C6-4BAE-BBFB-F4401CC0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DE790-2F02-4B20-AD3C-4CDECFC6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5425C-4CFA-44C4-9F50-0C2A71B6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E5BDB-EB69-411E-9DB3-FB824E8D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8BDA6-A8E5-4027-9E06-4757E4CB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81F6B-0020-4D91-BAF8-CE77FCA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B0FFE-EDAD-4E76-9F88-04AD65AC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1BEC2-97AB-4C38-8558-82B00072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D22D4-51D6-4317-8E46-F3A99FBE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467E5-E20A-4484-AA66-208BF7E4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AF1-3BD4-4C48-ACF3-7B7CFFD5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DF13E-95F8-43A1-BEA3-AD65FB76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418CC-F50E-475C-BEB3-3EFEB538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693CC-3067-4718-83DC-8F2CD2C7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72724-B276-4000-8D62-E1E4896D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80EF3-7254-49FF-9396-9E6EF624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80558-3A93-4A0B-8D37-680EB13F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FD7D4-A450-499D-A862-8C3E72FB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51AB2-0840-42F1-8DA7-86ED6B97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70418-0218-49C3-9E7E-0E10F49A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5656F-4846-48D6-878E-D34EA06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602-571B-4A86-B0D5-E0556B2B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7A3B6-866B-4393-8303-DD9DCE7E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9AB24-0500-46AA-87E5-79AFCB11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AC157-0B81-4B35-8C66-6517936B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6C6-D13E-481F-9D54-B0B138B5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254-2ADE-4E8A-B0FB-6345CED6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6BA2-1C84-4E0D-A637-1C0CA482AC22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D0D6-901F-4DF2-B48E-10A3747E20C5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23FA-0574-4EDC-A962-C94237A99B9B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84C8-ADC5-4CBE-A755-3DA830AC6B41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67D5-CCF6-4ED9-B7EE-ED875E2938DD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1C8B-436B-4881-ACF8-ED5CCA0FF2C2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ntonija-horvatek.from.hr/" TargetMode="External"/><Relationship Id="rId3" Type="http://schemas.openxmlformats.org/officeDocument/2006/relationships/hyperlink" Target="http://free-vu.t-com.hr/matematika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636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Constantia"/>
              </a:rPr>
              <a:t>Uvod u linearnu funkciju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2ADE-0FD3-44DE-AABD-13EED698CEF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642960" y="714240"/>
            <a:ext cx="79297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500040" y="642960"/>
            <a:ext cx="7958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Možemo li doći do “formule” za računanje iznosa novca kojeg Josip im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1.mj.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25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· </a:t>
            </a:r>
            <a:r>
              <a:rPr b="1" lang="hr-HR" sz="2600" spc="-1" strike="noStrike">
                <a:solidFill>
                  <a:srgbClr val="ffff00"/>
                </a:solidFill>
                <a:latin typeface="Constantia"/>
              </a:rPr>
              <a:t>1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+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150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175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2.mj.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25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· </a:t>
            </a:r>
            <a:r>
              <a:rPr b="1" lang="hr-HR" sz="2600" spc="-1" strike="noStrike">
                <a:solidFill>
                  <a:srgbClr val="ffff00"/>
                </a:solidFill>
                <a:latin typeface="Constantia"/>
              </a:rPr>
              <a:t>2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+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150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3.mj.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25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· </a:t>
            </a:r>
            <a:r>
              <a:rPr b="1" lang="hr-HR" sz="2600" spc="-1" strike="noStrike">
                <a:solidFill>
                  <a:srgbClr val="ffff00"/>
                </a:solidFill>
                <a:latin typeface="Constantia"/>
              </a:rPr>
              <a:t>3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+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150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22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6.mj.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25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· </a:t>
            </a:r>
            <a:r>
              <a:rPr b="1" lang="hr-HR" sz="2600" spc="-1" strike="noStrike">
                <a:solidFill>
                  <a:srgbClr val="ffff00"/>
                </a:solidFill>
                <a:latin typeface="Constantia"/>
              </a:rPr>
              <a:t>6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+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150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3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12.mj.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25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· </a:t>
            </a:r>
            <a:r>
              <a:rPr b="1" lang="hr-HR" sz="2600" spc="-1" strike="noStrike">
                <a:solidFill>
                  <a:srgbClr val="ffff00"/>
                </a:solidFill>
                <a:latin typeface="Constantia"/>
              </a:rPr>
              <a:t>12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+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150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4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20.mj.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25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· </a:t>
            </a:r>
            <a:r>
              <a:rPr b="1" lang="hr-HR" sz="2600" spc="-1" strike="noStrike">
                <a:solidFill>
                  <a:srgbClr val="ffff00"/>
                </a:solidFill>
                <a:latin typeface="Constantia"/>
              </a:rPr>
              <a:t>20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+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150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6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Iskažite riječima način računanja Josipovog novca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13880" y="642960"/>
            <a:ext cx="77439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Iznos Josipovog novca</a:t>
            </a:r>
            <a:r>
              <a:rPr b="0" lang="hr-HR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dobijemo tako da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25 kn 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pomnožimo s </a:t>
            </a:r>
            <a:r>
              <a:rPr b="1" lang="hr-HR" sz="2600" spc="-1" strike="noStrike">
                <a:solidFill>
                  <a:srgbClr val="ffff00"/>
                </a:solidFill>
                <a:latin typeface="Constantia"/>
              </a:rPr>
              <a:t>brojem mjeseci</a:t>
            </a:r>
            <a:r>
              <a:rPr b="0" lang="hr-HR" sz="2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i dodamo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150 kn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Iznos novca</a:t>
            </a:r>
            <a:r>
              <a:rPr b="1" lang="hr-HR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=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25 kn </a:t>
            </a:r>
            <a:r>
              <a:rPr b="1" lang="hr-HR" sz="2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·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hr-HR" sz="2600" spc="-1" strike="noStrike">
                <a:solidFill>
                  <a:srgbClr val="ffff00"/>
                </a:solidFill>
                <a:latin typeface="Constantia"/>
              </a:rPr>
              <a:t>broj mjeseci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150 k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25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· </a:t>
            </a:r>
            <a:r>
              <a:rPr b="1" lang="hr-HR" sz="26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+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1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y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25</a:t>
            </a:r>
            <a:r>
              <a:rPr b="1" lang="hr-HR" sz="2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ffff00"/>
                </a:solidFill>
                <a:latin typeface="Constantia"/>
              </a:rPr>
              <a:t>x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+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1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hr-HR" sz="2600" spc="-1" strike="noStrike">
                <a:solidFill>
                  <a:srgbClr val="ff0000"/>
                </a:solidFill>
                <a:latin typeface="Constantia"/>
              </a:rPr>
              <a:t>f(x)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25</a:t>
            </a:r>
            <a:r>
              <a:rPr b="1" lang="hr-HR" sz="2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ffff00"/>
                </a:solidFill>
                <a:latin typeface="Constantia"/>
              </a:rPr>
              <a:t>x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 + </a:t>
            </a:r>
            <a:r>
              <a:rPr b="1" lang="hr-HR" sz="2600" spc="-1" strike="noStrike">
                <a:solidFill>
                  <a:srgbClr val="00b0f0"/>
                </a:solidFill>
                <a:latin typeface="Constantia"/>
              </a:rPr>
              <a:t>150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  <a:ea typeface="Arial"/>
              </a:rPr>
              <a:t>← 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ffffff"/>
                </a:solidFill>
                <a:latin typeface="Constantia"/>
              </a:rPr>
              <a:t>linearna funkcij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efac9"/>
                </a:solidFill>
                <a:latin typeface="Constantia"/>
              </a:rPr>
              <a:t>Uvodni primjer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Title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57132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Koliko će novaca imati Josip nakon 15 mjeseci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Linearna funkcija: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f(x) = 25x + 1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Content Placeholder 2"/>
          <p:cNvSpPr/>
          <p:nvPr/>
        </p:nvSpPr>
        <p:spPr>
          <a:xfrm>
            <a:off x="468360" y="2513160"/>
            <a:ext cx="822960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Za x = 15: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Content Placeholder 2"/>
          <p:cNvSpPr/>
          <p:nvPr/>
        </p:nvSpPr>
        <p:spPr>
          <a:xfrm>
            <a:off x="2627280" y="249228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f(15)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3635280" y="2492280"/>
            <a:ext cx="2160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25 · 15 + 1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Content Placeholder 2"/>
          <p:cNvSpPr/>
          <p:nvPr/>
        </p:nvSpPr>
        <p:spPr>
          <a:xfrm>
            <a:off x="5435640" y="2492280"/>
            <a:ext cx="19447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= 375 + 1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Content Placeholder 2"/>
          <p:cNvSpPr/>
          <p:nvPr/>
        </p:nvSpPr>
        <p:spPr>
          <a:xfrm>
            <a:off x="7093080" y="2492280"/>
            <a:ext cx="1081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= 52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Content Placeholder 2"/>
          <p:cNvSpPr/>
          <p:nvPr/>
        </p:nvSpPr>
        <p:spPr>
          <a:xfrm>
            <a:off x="519120" y="3500280"/>
            <a:ext cx="69325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Nakon 15 mjeseci Josip će imati 525 ku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57132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Josip želi od dobivenog novca kupiti bicikl koji košta 550 kuna. Nakon koliko mjeseci će ga moći kupiti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Josip je od roditelja već dobio 150 kn. Za bicikl mu još djed treba dati ..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...400 k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Kako mu djed ispaćuje po 25 kn, Josipu za to treba ..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400 : 25 = 1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... 16 mjeseci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57132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Jesmo li u ovom zadatku mogli koristiti formul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f(x) = 25x + 150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Hoćemo li računati f (550)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Ne, nego..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25x + 150 = 5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25x = 550 – 1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25x = 400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x = 1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Content Placeholder 2"/>
          <p:cNvSpPr/>
          <p:nvPr/>
        </p:nvSpPr>
        <p:spPr>
          <a:xfrm>
            <a:off x="5424480" y="3429000"/>
            <a:ext cx="1235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/ : 2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Content Placeholder 2"/>
          <p:cNvSpPr/>
          <p:nvPr/>
        </p:nvSpPr>
        <p:spPr>
          <a:xfrm>
            <a:off x="684360" y="4819680"/>
            <a:ext cx="7848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Došli smo do istog rješenja - treba mu 16 mjeseci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50004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Majstor Jure naplaćuje dolazak u stan 50 kn. Svaki sat rada dodatno naplaćuje 30 k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a) Kako glasi pripadna linearna funkcija po kojoj majstor Jure računa svoju zaradu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b) Koliko će zaraditi za 5 sati rad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c) Koliko je Jure radio ako mu je plaćeno 230 kun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3" name="Picture 2" descr="http://t3.gstatic.com/images?q=tbn:ANd9GcQRwl3S6kIsFmqCMZJOluNUm7icqkTjnHQzebvxzO3P1OF-8bKy"/>
          <p:cNvPicPr/>
          <p:nvPr/>
        </p:nvPicPr>
        <p:blipFill>
          <a:blip r:embed="rId2"/>
          <a:stretch/>
        </p:blipFill>
        <p:spPr>
          <a:xfrm>
            <a:off x="4876920" y="3929040"/>
            <a:ext cx="4267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50004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a) 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 f(x) = 30 · x + 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b) 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f(5) = 30 · 5 + 50 = 150 + 50 = 2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Za 5 sata rada zaradit će 200 k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c) 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30x + 50 = 23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30x = 230 – 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30x = 180     / : 3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x = 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Majstor Jure je radio 6 sati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6840" y="571320"/>
            <a:ext cx="847260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Upoznali smo dvije linearne funkcij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f(x) = 25</a:t>
            </a:r>
            <a:r>
              <a:rPr b="0" lang="hr-HR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x + 150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f(x) = 30</a:t>
            </a:r>
            <a:r>
              <a:rPr b="0" lang="hr-HR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x + 50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Svaka linearna funkcija ima oblik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f(x) = a</a:t>
            </a:r>
            <a:r>
              <a:rPr b="0" lang="hr-H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x + b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a, b – parametri ili koeficijent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a = 25, b = 150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a = 30, b = 5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x – argu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x – broj mjeseci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x – broj sati r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f(x) ili y – vrijednost funkcij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f(x) – iznos Josipova novca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f(x) – Jurina zar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50920" y="1341360"/>
            <a:ext cx="433440" cy="2303640"/>
            <a:chOff x="250920" y="1341360"/>
            <a:chExt cx="433440" cy="2303640"/>
          </a:xfrm>
        </p:grpSpPr>
        <p:sp>
          <p:nvSpPr>
            <p:cNvPr id="297" name=""/>
            <p:cNvSpPr/>
            <p:nvPr/>
          </p:nvSpPr>
          <p:spPr>
            <a:xfrm>
              <a:off x="250920" y="134136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0920" y="1341360"/>
              <a:ext cx="0" cy="230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920" y="3645000"/>
              <a:ext cx="4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524720" y="1341360"/>
            <a:ext cx="433440" cy="2303640"/>
            <a:chOff x="7524720" y="1341360"/>
            <a:chExt cx="433440" cy="2303640"/>
          </a:xfrm>
        </p:grpSpPr>
        <p:sp>
          <p:nvSpPr>
            <p:cNvPr id="301" name=""/>
            <p:cNvSpPr/>
            <p:nvPr/>
          </p:nvSpPr>
          <p:spPr>
            <a:xfrm flipH="1">
              <a:off x="7594200" y="134136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56720" y="1341360"/>
              <a:ext cx="0" cy="230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524720" y="3645000"/>
              <a:ext cx="4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571680"/>
            <a:ext cx="604368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Svakoga dana Ivan je u kasicu-prasicu ubacivao kovanicu od 5 kuna. Koliko je novca imao na kraju mjeseca, ako je na početku mjeseca u kasici bilo 45 kun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357120" y="4643280"/>
            <a:ext cx="6215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Constantia"/>
              </a:rPr>
              <a:t>Iznos novca ovisi o broju dana u mjesecu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Za 30 dana Ivan je skupio 195 ku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Picture 2" descr="http://t1.gstatic.com/images?q=tbn:ANd9GcTrYSijZSe1doGg8j7Oyxq4azfYOtkMJlII1kc_R8NpdxZIRusSnA"/>
          <p:cNvPicPr/>
          <p:nvPr/>
        </p:nvPicPr>
        <p:blipFill>
          <a:blip r:embed="rId2"/>
          <a:stretch/>
        </p:blipFill>
        <p:spPr>
          <a:xfrm>
            <a:off x="6572160" y="5716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://t3.gstatic.com/images?q=tbn:ANd9GcQspvKY6pIkOsEXeGZBqr0PCZ1TCoz8uXggXWsxTef1y6mtHF9P"/>
          <p:cNvPicPr/>
          <p:nvPr/>
        </p:nvPicPr>
        <p:blipFill>
          <a:blip r:embed="rId3"/>
          <a:stretch/>
        </p:blipFill>
        <p:spPr>
          <a:xfrm>
            <a:off x="2571840" y="24289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http://t1.gstatic.com/images?q=tbn:ANd9GcQwiXqIsZ2-9wKo5AEb9KD1-jMabQQhJz2LMNvkx0i2QP3QIIbulA"/>
          <p:cNvPicPr/>
          <p:nvPr/>
        </p:nvPicPr>
        <p:blipFill>
          <a:blip r:embed="rId4"/>
          <a:stretch/>
        </p:blipFill>
        <p:spPr>
          <a:xfrm>
            <a:off x="6572160" y="41432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103400" y="5071680"/>
            <a:ext cx="700704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1500" spc="-1" strike="noStrike">
                <a:solidFill>
                  <a:srgbClr val="ffffff"/>
                </a:solidFill>
                <a:latin typeface="Constantia"/>
              </a:rPr>
              <a:t>Najtoplije zahvaljujem autoru na dopuštenju da ove materijale stavim na svoje web stranice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500" spc="-1" strike="noStrike">
                <a:solidFill>
                  <a:srgbClr val="ffffff"/>
                </a:solidFill>
                <a:latin typeface="Constantia"/>
              </a:rPr>
              <a:t>Antonija Horvatek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http://www.antonija-horvatek.from.hr/</a:t>
            </a:r>
            <a:r>
              <a:rPr b="0" lang="hr-HR" sz="1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836640"/>
            <a:ext cx="80611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ffff"/>
                </a:solidFill>
                <a:latin typeface="Constantia"/>
              </a:rPr>
              <a:t>Autor prezentacije: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fefac9"/>
                </a:solidFill>
                <a:latin typeface="Constantia"/>
              </a:rPr>
              <a:t>Željko Brčić</a:t>
            </a:r>
            <a:endParaRPr b="0" lang="en-US" sz="43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ffffff"/>
                </a:solidFill>
                <a:uFillTx/>
                <a:latin typeface="Constantia"/>
                <a:hlinkClick r:id="rId3"/>
              </a:rPr>
              <a:t>http://free-vu.t-com.hr/matematika/</a:t>
            </a:r>
            <a:r>
              <a:rPr b="0" lang="hr-HR" sz="1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3571920"/>
            <a:ext cx="80614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Constantia"/>
              </a:rPr>
              <a:t>Uz dopuštenje autora manje izmjene unijela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Constantia"/>
              </a:rPr>
              <a:t>Antonija Horvatek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6426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Josip je za svoj rođendan od roditelja dobio 150 kuna, a djed mu je obećao svakoga mjeseca od mirovine darovati po 25 ku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Što možete zaključiti 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iznosu Josipovog novc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Picture 2" descr="http://t3.gstatic.com/images?q=tbn:ANd9GcRl_fCZyVptAUm2B9hqlxQFTT2ZNTolwuUVHWGqwE76HvED1lUF"/>
          <p:cNvPicPr/>
          <p:nvPr/>
        </p:nvPicPr>
        <p:blipFill>
          <a:blip r:embed="rId2"/>
          <a:stretch/>
        </p:blipFill>
        <p:spPr>
          <a:xfrm>
            <a:off x="4857840" y="2214720"/>
            <a:ext cx="3606840" cy="20714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4"/>
          <p:cNvSpPr/>
          <p:nvPr/>
        </p:nvSpPr>
        <p:spPr>
          <a:xfrm>
            <a:off x="571680" y="4500720"/>
            <a:ext cx="7500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Constantia"/>
              </a:rPr>
              <a:t>Iznos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 Josipova novca </a:t>
            </a:r>
            <a:r>
              <a:rPr b="0" lang="hr-HR" sz="2600" spc="-1" strike="noStrike">
                <a:solidFill>
                  <a:srgbClr val="ffff00"/>
                </a:solidFill>
                <a:latin typeface="Constantia"/>
              </a:rPr>
              <a:t>ovisi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 o tome koliko je </a:t>
            </a:r>
            <a:r>
              <a:rPr b="0" lang="hr-HR" sz="2600" spc="-1" strike="noStrike">
                <a:solidFill>
                  <a:srgbClr val="ffff00"/>
                </a:solidFill>
                <a:latin typeface="Constantia"/>
              </a:rPr>
              <a:t>mjeseci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 prošlo od njegova rođenda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57132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Koliko će novaca Josip imati nakon mjesec dan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150 kn + 25 kn = 175 k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Nakon mjesec dana Josip će imati 175 ku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Koliko će novaca Josip imati nakon dva mjesec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175 kn + 25 kn = 200 k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Nakon dva mjeseca Josip će imati 200 ku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57132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Koliko će novaca imati Josip nakon 6 mjeseci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25 kn </a:t>
            </a:r>
            <a:r>
              <a:rPr b="0" lang="hr-H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 6 + 150 kn = 150 kn + 150 kn = 300 k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Nakon 6 mjeseci Josip će imati 300 ku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57132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Već smo zaključili da iznos novca kojeg Josip ima ovisi o broju mjeseci proteklih od njegova rođenda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Ta veza može se prikazati tablico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857160" y="2500200"/>
          <a:ext cx="7358040" cy="2060640"/>
        </p:xfrm>
        <a:graphic>
          <a:graphicData uri="http://schemas.openxmlformats.org/drawingml/2006/table">
            <a:tbl>
              <a:tblPr/>
              <a:tblGrid>
                <a:gridCol w="1903680"/>
                <a:gridCol w="893520"/>
                <a:gridCol w="892080"/>
                <a:gridCol w="892440"/>
                <a:gridCol w="992160"/>
                <a:gridCol w="892080"/>
                <a:gridCol w="892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Bro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tekli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jesec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z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Josipova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(k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 k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5 k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 k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5 k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 k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0 k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Content Placeholder 3" descr=""/>
          <p:cNvPicPr/>
          <p:nvPr/>
        </p:nvPicPr>
        <p:blipFill>
          <a:blip r:embed="rId2"/>
          <a:stretch/>
        </p:blipFill>
        <p:spPr>
          <a:xfrm>
            <a:off x="592200" y="663480"/>
            <a:ext cx="79596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Content Placeholder 3" descr=""/>
          <p:cNvPicPr/>
          <p:nvPr/>
        </p:nvPicPr>
        <p:blipFill>
          <a:blip r:embed="rId2"/>
          <a:stretch/>
        </p:blipFill>
        <p:spPr>
          <a:xfrm>
            <a:off x="592200" y="663480"/>
            <a:ext cx="79596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Content Placeholder 3" descr=""/>
          <p:cNvPicPr/>
          <p:nvPr/>
        </p:nvPicPr>
        <p:blipFill>
          <a:blip r:embed="rId2"/>
          <a:stretch/>
        </p:blipFill>
        <p:spPr>
          <a:xfrm>
            <a:off x="592200" y="663480"/>
            <a:ext cx="79596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8:37:31Z</dcterms:created>
  <dc:creator>Korisnik</dc:creator>
  <dc:description/>
  <dc:language>en-US</dc:language>
  <cp:lastModifiedBy>Antonija</cp:lastModifiedBy>
  <dcterms:modified xsi:type="dcterms:W3CDTF">2012-02-24T15:31:36Z</dcterms:modified>
  <cp:revision>70</cp:revision>
  <dc:subject/>
  <dc:title>Slide 1</dc:title>
</cp:coreProperties>
</file>