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777-FFB2-4554-88ED-884F9BA7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1EA-FB60-4F12-8ED3-820BDFB1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50F-B280-4A44-9192-E0BF5D6A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653-E0AB-45A3-A4A7-F6FAAAC1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9B6-0E69-4617-B387-F60970EA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1D6-BFF4-4A32-9C19-6FEB5EE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30FF-4086-449F-95A4-6A5DE7AF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642-DAAF-4EEA-952A-16B81127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C39-27AC-48A5-A623-21BA115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00FC-F28F-4A3B-8E37-BAAB8CB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8392-F660-4BA3-BB49-58E0288B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897-4BA9-4CFD-B2E6-16D9CDC7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D215-561D-4513-8E07-9A1CCFC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61AA-A7B8-49C9-8173-D9A4D48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6D9-6ED4-4FE1-8A70-C716579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6078-D020-4698-BC62-3EA99E6C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78B-B8E2-4113-A18C-059A6F8C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AB9-3DFA-42A4-ABDC-76BC0D6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B6F-C02E-4AD9-ADC3-68E4A5C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9FB-1314-47DF-A20B-7D7FE88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D8F-C368-4B40-A91E-E292ED9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363-0C51-4BA7-87C1-26AA8CE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8B7-F60B-43AB-92BB-EE132FC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98B-7B2D-41EA-90BE-1693F73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6AB-0FFD-42AF-9148-62D6E764CE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25D3-39FA-4154-8030-EA8BB2E80B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earningbyyourself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hyperlink" Target="mailto:ahorvatek@yahoo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cc"/>
                </a:solidFill>
                <a:latin typeface="Tahoma"/>
              </a:rPr>
              <a:t>Equa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3886200"/>
            <a:ext cx="6840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perties of Equa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48292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269892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287280" cy="27000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2157120" y="2195640"/>
            <a:ext cx="3060000" cy="1102680"/>
            <a:chOff x="2157120" y="2195640"/>
            <a:chExt cx="3060000" cy="1102680"/>
          </a:xfrm>
        </p:grpSpPr>
        <p:grpSp>
          <p:nvGrpSpPr>
            <p:cNvPr id="488" name=""/>
            <p:cNvGrpSpPr/>
            <p:nvPr/>
          </p:nvGrpSpPr>
          <p:grpSpPr>
            <a:xfrm>
              <a:off x="2157120" y="2573280"/>
              <a:ext cx="3060000" cy="725040"/>
              <a:chOff x="2157120" y="2573280"/>
              <a:chExt cx="3060000" cy="725040"/>
            </a:xfrm>
          </p:grpSpPr>
          <p:sp>
            <p:nvSpPr>
              <p:cNvPr id="489" name=""/>
              <p:cNvSpPr/>
              <p:nvPr/>
            </p:nvSpPr>
            <p:spPr>
              <a:xfrm>
                <a:off x="215712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7904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73360" y="270972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51440" y="270972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12316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290124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76160" y="2709720"/>
                <a:ext cx="180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98440" y="2709720"/>
                <a:ext cx="144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76160" y="2887920"/>
                <a:ext cx="222192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687480" y="2688840"/>
                <a:ext cx="1440" cy="608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278520" y="3296880"/>
                <a:ext cx="81756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00" name="" descr=""/>
            <p:cNvPicPr/>
            <p:nvPr/>
          </p:nvPicPr>
          <p:blipFill>
            <a:blip r:embed="rId4"/>
            <a:stretch/>
          </p:blipFill>
          <p:spPr>
            <a:xfrm>
              <a:off x="2195640" y="2195640"/>
              <a:ext cx="35064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4356000" y="234936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6"/>
            <a:stretch/>
          </p:blipFill>
          <p:spPr>
            <a:xfrm>
              <a:off x="4716360" y="2438280"/>
              <a:ext cx="287280" cy="27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493236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8"/>
          <a:stretch/>
        </p:blipFill>
        <p:spPr>
          <a:xfrm>
            <a:off x="4789440" y="220500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9"/>
          <a:stretch/>
        </p:blipFill>
        <p:spPr>
          <a:xfrm>
            <a:off x="4572000" y="2222640"/>
            <a:ext cx="287280" cy="2696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590040" y="45910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pear + 3 strawber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35600" y="4503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45280" y="504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p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71920" y="5048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62080" y="504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lemon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71920" y="458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34120" y="458136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lemon + 4 strawber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81240" y="45813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- 3 strawber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66040" y="5048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strawbe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81920" y="4581360"/>
            <a:ext cx="20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did we 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to both sid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77680" y="5397480"/>
            <a:ext cx="71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remains on the left side and what on the right sid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50400" y="974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his scale is in bal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133200" y="393372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write it mathemat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61880" y="647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520" y="1087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the scale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-494280" y="155736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subtract the sam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from both the left and right sid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-41040" y="202392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 scale will stay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39640" y="1020600"/>
            <a:ext cx="7345080" cy="1544400"/>
            <a:chOff x="539640" y="1020600"/>
            <a:chExt cx="7345080" cy="1544400"/>
          </a:xfrm>
        </p:grpSpPr>
        <p:sp>
          <p:nvSpPr>
            <p:cNvPr id="525" name=""/>
            <p:cNvSpPr/>
            <p:nvPr/>
          </p:nvSpPr>
          <p:spPr>
            <a:xfrm>
              <a:off x="539640" y="1020600"/>
              <a:ext cx="73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9640" y="2565000"/>
              <a:ext cx="73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9640" y="1020600"/>
              <a:ext cx="0" cy="154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84720" y="1020600"/>
              <a:ext cx="0" cy="154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7280" y="312732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Let's say it in mathematical wa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1360" y="363852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58320" y="4111560"/>
            <a:ext cx="73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subtract the same amoun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from each s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520" y="461628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will stay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39640" y="3571920"/>
            <a:ext cx="6408360" cy="1657080"/>
            <a:chOff x="539640" y="3571920"/>
            <a:chExt cx="6408360" cy="1657080"/>
          </a:xfrm>
        </p:grpSpPr>
        <p:sp>
          <p:nvSpPr>
            <p:cNvPr id="534" name=""/>
            <p:cNvSpPr/>
            <p:nvPr/>
          </p:nvSpPr>
          <p:spPr>
            <a:xfrm>
              <a:off x="539640" y="3571920"/>
              <a:ext cx="64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9640" y="5229000"/>
              <a:ext cx="64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9640" y="3571920"/>
              <a:ext cx="0" cy="16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48000" y="3571920"/>
              <a:ext cx="0" cy="165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566680" y="189000"/>
            <a:ext cx="1417680" cy="521280"/>
            <a:chOff x="5566680" y="189000"/>
            <a:chExt cx="1417680" cy="52128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5711760" y="290520"/>
              <a:ext cx="132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"/>
            <a:stretch/>
          </p:blipFill>
          <p:spPr>
            <a:xfrm>
              <a:off x="5817960" y="290520"/>
              <a:ext cx="13320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5763960" y="189000"/>
              <a:ext cx="133200" cy="12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"/>
            <p:cNvGrpSpPr/>
            <p:nvPr/>
          </p:nvGrpSpPr>
          <p:grpSpPr>
            <a:xfrm>
              <a:off x="5566680" y="200160"/>
              <a:ext cx="1415160" cy="510120"/>
              <a:chOff x="5566680" y="200160"/>
              <a:chExt cx="1415160" cy="510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5566680" y="374760"/>
                <a:ext cx="1415160" cy="335520"/>
                <a:chOff x="5566680" y="374760"/>
                <a:chExt cx="1415160" cy="33552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5566680" y="374760"/>
                  <a:ext cx="43560" cy="63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594480" y="374760"/>
                  <a:ext cx="43560" cy="63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638040" y="437760"/>
                  <a:ext cx="3006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10240" y="437760"/>
                  <a:ext cx="3006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6938280" y="374760"/>
                  <a:ext cx="43560" cy="63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5910480" y="374760"/>
                  <a:ext cx="43560" cy="63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760360" y="437760"/>
                  <a:ext cx="720" cy="82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788520" y="437760"/>
                  <a:ext cx="720" cy="82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760360" y="520560"/>
                  <a:ext cx="10278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274440" y="428040"/>
                  <a:ext cx="720" cy="2815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85440" y="709560"/>
                  <a:ext cx="3780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4320" y="200160"/>
                <a:ext cx="162000" cy="23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3680" y="271080"/>
                <a:ext cx="1666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0360" y="312480"/>
                <a:ext cx="132840" cy="124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8" name="" descr=""/>
            <p:cNvPicPr/>
            <p:nvPr/>
          </p:nvPicPr>
          <p:blipFill>
            <a:blip r:embed="rId7"/>
            <a:stretch/>
          </p:blipFill>
          <p:spPr>
            <a:xfrm>
              <a:off x="6851520" y="317520"/>
              <a:ext cx="13284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8"/>
            <a:stretch/>
          </p:blipFill>
          <p:spPr>
            <a:xfrm>
              <a:off x="6700680" y="219240"/>
              <a:ext cx="13320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6824520" y="219240"/>
              <a:ext cx="133200" cy="1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"/>
          <p:cNvGrpSpPr/>
          <p:nvPr/>
        </p:nvGrpSpPr>
        <p:grpSpPr>
          <a:xfrm>
            <a:off x="7562160" y="196920"/>
            <a:ext cx="1415160" cy="510120"/>
            <a:chOff x="7562160" y="196920"/>
            <a:chExt cx="1415160" cy="510120"/>
          </a:xfrm>
        </p:grpSpPr>
        <p:grpSp>
          <p:nvGrpSpPr>
            <p:cNvPr id="562" name=""/>
            <p:cNvGrpSpPr/>
            <p:nvPr/>
          </p:nvGrpSpPr>
          <p:grpSpPr>
            <a:xfrm>
              <a:off x="7562160" y="371520"/>
              <a:ext cx="1415160" cy="335520"/>
              <a:chOff x="7562160" y="371520"/>
              <a:chExt cx="1415160" cy="335520"/>
            </a:xfrm>
          </p:grpSpPr>
          <p:sp>
            <p:nvSpPr>
              <p:cNvPr id="563" name=""/>
              <p:cNvSpPr/>
              <p:nvPr/>
            </p:nvSpPr>
            <p:spPr>
              <a:xfrm>
                <a:off x="7562160" y="371520"/>
                <a:ext cx="43560" cy="63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589960" y="371520"/>
                <a:ext cx="43560" cy="63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633520" y="434520"/>
                <a:ext cx="300600" cy="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05720" y="434520"/>
                <a:ext cx="300600" cy="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8933760" y="371520"/>
                <a:ext cx="43560" cy="63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7905960" y="371520"/>
                <a:ext cx="43560" cy="63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755840" y="434520"/>
                <a:ext cx="720" cy="82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4000" y="434520"/>
                <a:ext cx="720" cy="82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55840" y="517320"/>
                <a:ext cx="1027800" cy="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920" y="424800"/>
                <a:ext cx="720" cy="281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80920" y="706320"/>
                <a:ext cx="378000" cy="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10"/>
            <a:stretch/>
          </p:blipFill>
          <p:spPr>
            <a:xfrm>
              <a:off x="7579800" y="196920"/>
              <a:ext cx="162000" cy="2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11"/>
            <a:stretch/>
          </p:blipFill>
          <p:spPr>
            <a:xfrm>
              <a:off x="8579160" y="267840"/>
              <a:ext cx="1666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12"/>
            <a:stretch/>
          </p:blipFill>
          <p:spPr>
            <a:xfrm>
              <a:off x="8745840" y="309240"/>
              <a:ext cx="132840" cy="12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015560" y="256536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What about multiplication and divi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3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9920" y="1231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yellow 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901120" y="2884680"/>
            <a:ext cx="2527560" cy="440280"/>
            <a:chOff x="5901120" y="2884680"/>
            <a:chExt cx="2527560" cy="440280"/>
          </a:xfrm>
        </p:grpSpPr>
        <p:sp>
          <p:nvSpPr>
            <p:cNvPr id="581" name=""/>
            <p:cNvSpPr/>
            <p:nvPr/>
          </p:nvSpPr>
          <p:spPr>
            <a:xfrm>
              <a:off x="5901120" y="2884680"/>
              <a:ext cx="77760" cy="828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36040" y="2884680"/>
              <a:ext cx="77760" cy="828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14160" y="2967480"/>
              <a:ext cx="536760" cy="108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78880" y="2967480"/>
              <a:ext cx="536760" cy="108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350920" y="2884680"/>
              <a:ext cx="77760" cy="828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515640" y="2884680"/>
              <a:ext cx="77760" cy="828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47080" y="2967480"/>
              <a:ext cx="1440" cy="1080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82720" y="2967480"/>
              <a:ext cx="1080" cy="10800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7080" y="3075840"/>
              <a:ext cx="1835280" cy="72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5080" y="2954520"/>
              <a:ext cx="1080" cy="36936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27400" y="3324240"/>
              <a:ext cx="675000" cy="720"/>
            </a:xfrm>
            <a:prstGeom prst="line">
              <a:avLst/>
            </a:prstGeom>
            <a:ln w="28440">
              <a:solidFill>
                <a:srgbClr val="ffff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813800" y="2060640"/>
            <a:ext cx="190440" cy="323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03400" cy="3398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203040" cy="3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03040" cy="339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8001000" y="2060640"/>
            <a:ext cx="190440" cy="3236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8197920" y="2060640"/>
            <a:ext cx="190440" cy="32364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5899680" y="930240"/>
            <a:ext cx="2527560" cy="694080"/>
            <a:chOff x="5899680" y="930240"/>
            <a:chExt cx="2527560" cy="694080"/>
          </a:xfrm>
        </p:grpSpPr>
        <p:grpSp>
          <p:nvGrpSpPr>
            <p:cNvPr id="599" name=""/>
            <p:cNvGrpSpPr/>
            <p:nvPr/>
          </p:nvGrpSpPr>
          <p:grpSpPr>
            <a:xfrm>
              <a:off x="5899680" y="1184040"/>
              <a:ext cx="2527560" cy="440280"/>
              <a:chOff x="5899680" y="1184040"/>
              <a:chExt cx="2527560" cy="440280"/>
            </a:xfrm>
          </p:grpSpPr>
          <p:sp>
            <p:nvSpPr>
              <p:cNvPr id="600" name=""/>
              <p:cNvSpPr/>
              <p:nvPr/>
            </p:nvSpPr>
            <p:spPr>
              <a:xfrm>
                <a:off x="5899680" y="1184040"/>
                <a:ext cx="77760" cy="82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734600" y="1184040"/>
                <a:ext cx="77760" cy="82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12720" y="1266840"/>
                <a:ext cx="536760" cy="108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77440" y="1266840"/>
                <a:ext cx="536760" cy="108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8349480" y="1184040"/>
                <a:ext cx="77760" cy="82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514200" y="1184040"/>
                <a:ext cx="77760" cy="82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5640" y="1266840"/>
                <a:ext cx="1440" cy="10800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81280" y="1266840"/>
                <a:ext cx="1080" cy="10800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5640" y="1375200"/>
                <a:ext cx="1835280" cy="72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163640" y="1254240"/>
                <a:ext cx="1080" cy="36936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25960" y="1623600"/>
                <a:ext cx="675000" cy="72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11" name="" descr=""/>
            <p:cNvPicPr/>
            <p:nvPr/>
          </p:nvPicPr>
          <p:blipFill>
            <a:blip r:embed="rId7"/>
            <a:stretch/>
          </p:blipFill>
          <p:spPr>
            <a:xfrm>
              <a:off x="6154920" y="930240"/>
              <a:ext cx="20304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8"/>
            <a:stretch/>
          </p:blipFill>
          <p:spPr>
            <a:xfrm>
              <a:off x="7999560" y="930240"/>
              <a:ext cx="1904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"/>
          <p:cNvSpPr/>
          <p:nvPr/>
        </p:nvSpPr>
        <p:spPr>
          <a:xfrm>
            <a:off x="2237040" y="1231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82920" y="1231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lue 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21080" y="112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492080" y="1231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∙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5040" y="20239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3 yellow b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19560" y="2023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3 blue b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37040" y="2023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224440" y="2023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98240" y="3789360"/>
            <a:ext cx="44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f we put down these bag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ill scale still be in bal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227640" y="2521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101080" y="2521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63080" y="4724280"/>
            <a:ext cx="511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Yes, it will be in ba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because in the upper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we can see that weight of the yel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bag equals weight of the blue bag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so weight of 3 yellow bags equa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weight of 3 blue ba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(all they have equal weigh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5880" y="2808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60" y="327960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77720" y="371628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multipl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both sides by th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same numbe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-177480" y="414972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will stay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4000" y="3213000"/>
            <a:ext cx="6048000" cy="1510920"/>
            <a:chOff x="324000" y="3213000"/>
            <a:chExt cx="6048000" cy="1510920"/>
          </a:xfrm>
        </p:grpSpPr>
        <p:sp>
          <p:nvSpPr>
            <p:cNvPr id="630" name=""/>
            <p:cNvSpPr/>
            <p:nvPr/>
          </p:nvSpPr>
          <p:spPr>
            <a:xfrm>
              <a:off x="324000" y="3213000"/>
              <a:ext cx="604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4000" y="4723920"/>
              <a:ext cx="604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00" y="3213000"/>
              <a:ext cx="0" cy="151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72000" y="3213000"/>
              <a:ext cx="0" cy="151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45360" y="515160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-368640" y="5589720"/>
            <a:ext cx="73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divid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both sides by th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same numbe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177480" y="602136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will stay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24000" y="5084640"/>
            <a:ext cx="6263640" cy="1512720"/>
            <a:chOff x="324000" y="5084640"/>
            <a:chExt cx="6263640" cy="1512720"/>
          </a:xfrm>
        </p:grpSpPr>
        <p:sp>
          <p:nvSpPr>
            <p:cNvPr id="638" name=""/>
            <p:cNvSpPr/>
            <p:nvPr/>
          </p:nvSpPr>
          <p:spPr>
            <a:xfrm>
              <a:off x="324000" y="5084640"/>
              <a:ext cx="62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4000" y="6597360"/>
              <a:ext cx="62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4000" y="5084640"/>
              <a:ext cx="0" cy="151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87640" y="5084640"/>
              <a:ext cx="0" cy="1512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-339480" y="5180040"/>
            <a:ext cx="50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do you think - what about divis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19720" y="5589720"/>
            <a:ext cx="32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Can you explain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using upper pic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44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46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48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50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52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393 E">
                                      <p:cBhvr>
                                        <p:cTn id="954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54440" y="1700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umma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29800" y="241632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96320" y="288936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do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the sam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to both s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774520" y="33940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stays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2349360"/>
            <a:ext cx="4967280" cy="1655640"/>
            <a:chOff x="1981080" y="2349360"/>
            <a:chExt cx="4967280" cy="1655640"/>
          </a:xfrm>
        </p:grpSpPr>
        <p:sp>
          <p:nvSpPr>
            <p:cNvPr id="649" name=""/>
            <p:cNvSpPr/>
            <p:nvPr/>
          </p:nvSpPr>
          <p:spPr>
            <a:xfrm>
              <a:off x="1981080" y="2349360"/>
              <a:ext cx="496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4005000"/>
              <a:ext cx="496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81080" y="2349360"/>
              <a:ext cx="0" cy="16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48360" y="2349360"/>
              <a:ext cx="0" cy="16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320200" y="2343240"/>
            <a:ext cx="47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Let's learn other usef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operties of equalitie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4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562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130176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consider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ome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left side of equali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60920" y="234936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subtract numbe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from the both side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59160" y="125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438080" y="1360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3960" y="1808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68760" y="1808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40080" y="1808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547640" y="1844280"/>
            <a:ext cx="287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1908000" y="1844280"/>
            <a:ext cx="287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840" y="273204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numbers are +5 and -5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1692000" y="2276280"/>
            <a:ext cx="142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908000" y="2276280"/>
            <a:ext cx="142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309600" y="2732040"/>
            <a:ext cx="71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happens with them when we add them (one to another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-93960" y="2708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rewrite what remains on the both side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09760" y="2311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70560" y="2311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10480" y="19098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.g. number 5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13960" y="128916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do we have after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lef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on the right si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8680" y="2924280"/>
            <a:ext cx="49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4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09760" y="2311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770560" y="2311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82520" y="28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are differences between these two row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92360" y="1268280"/>
            <a:ext cx="576000" cy="5763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80000" y="1700280"/>
            <a:ext cx="576000" cy="5763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6600" y="299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-79560" y="3357720"/>
            <a:ext cx="713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e can get the second row from the first 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rewriting everything in the same way, except number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0320" y="4070520"/>
            <a:ext cx="61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Number 5 was moved from the left onto right s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5080" y="4502160"/>
            <a:ext cx="49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doing so, number 5 changed its 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49480" y="4478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sign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9320" y="5267160"/>
            <a:ext cx="700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check in one another examp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happens with number's sign when we move this nu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from left onto right side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8960" y="2924280"/>
            <a:ext cx="49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67052E-007 L -0.05226 -0.07584 E">
                                      <p:cBhvr>
                                        <p:cTn id="1231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233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235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5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562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05080" y="130176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Now let's consider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ome another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left side of equali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683320" y="2643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add numbe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o both side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59160" y="125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484160" y="1360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7880" y="1808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14840" y="1808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40080" y="1808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71640" y="184428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08000" y="1844280"/>
            <a:ext cx="287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1186920" y="227628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692360" y="2276280"/>
            <a:ext cx="287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63680" y="2311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16640" y="2311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840280" y="2184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.g. number -4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169600" y="134136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do we have after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lef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on the right si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5840" y="273204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numbers are -4 and +4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-309600" y="2779560"/>
            <a:ext cx="71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happens with them when we add them (one to another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-93960" y="278136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rewrite what remains on the both side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4000" y="2924280"/>
            <a:ext cx="49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5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363680" y="2311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816640" y="2311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2520" y="28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are differences between these two row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317600" y="1327320"/>
            <a:ext cx="432000" cy="43164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1280" y="1785960"/>
            <a:ext cx="447840" cy="447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800" y="5079960"/>
            <a:ext cx="62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about changing sign when w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move a number from the </a:t>
            </a:r>
            <a:r>
              <a:rPr b="1" lang="hr-HR" sz="1600" spc="-1" strike="noStrike">
                <a:solidFill>
                  <a:srgbClr val="ffffff"/>
                </a:solidFill>
                <a:latin typeface="Tahoma"/>
              </a:rPr>
              <a:t>right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side </a:t>
            </a:r>
            <a:r>
              <a:rPr b="1" lang="hr-HR" sz="1600" spc="-1" strike="noStrike">
                <a:solidFill>
                  <a:srgbClr val="ffffff"/>
                </a:solidFill>
                <a:latin typeface="Tahoma"/>
              </a:rPr>
              <a:t>to the left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on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760" y="2919240"/>
            <a:ext cx="49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6600" y="299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-103320" y="3357720"/>
            <a:ext cx="72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e can derive the second row from the first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rewriting everything in the same way, except number -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-41760" y="4070520"/>
            <a:ext cx="65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Number -4 was moved from the left to the right s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1320" y="4502160"/>
            <a:ext cx="50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doing so, number -4 changed its 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20760" y="4478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sign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67052E-007 L -0.05226 -0.07584 E">
                                      <p:cBhvr>
                                        <p:cTn id="1440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442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444" dur="2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276560" y="981000"/>
            <a:ext cx="113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hich of the signs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&lt;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=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should we put instead of the queastion mar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15280" y="1413000"/>
            <a:ext cx="2408040" cy="1199160"/>
            <a:chOff x="215280" y="1413000"/>
            <a:chExt cx="2408040" cy="1199160"/>
          </a:xfrm>
        </p:grpSpPr>
        <p:sp>
          <p:nvSpPr>
            <p:cNvPr id="92" name=""/>
            <p:cNvSpPr/>
            <p:nvPr/>
          </p:nvSpPr>
          <p:spPr>
            <a:xfrm>
              <a:off x="215280" y="141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ahoma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0680" y="1782720"/>
              <a:ext cx="1862640" cy="829440"/>
              <a:chOff x="760680" y="1782720"/>
              <a:chExt cx="1862640" cy="829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760680" y="2171520"/>
                <a:ext cx="1862640" cy="440640"/>
                <a:chOff x="760680" y="2171520"/>
                <a:chExt cx="1862640" cy="440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6068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1320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70800" y="225432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17920" y="225432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256608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121356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015920" y="2254320"/>
                  <a:ext cx="1080" cy="1083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368800" y="2254320"/>
                  <a:ext cx="720" cy="1083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15920" y="2362680"/>
                  <a:ext cx="135288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692360" y="2241360"/>
                  <a:ext cx="720" cy="369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443240" y="2611440"/>
                  <a:ext cx="49752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6400" y="1795320"/>
                <a:ext cx="27072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2280" y="1782720"/>
                <a:ext cx="290160" cy="48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"/>
          <p:cNvGrpSpPr/>
          <p:nvPr/>
        </p:nvGrpSpPr>
        <p:grpSpPr>
          <a:xfrm>
            <a:off x="3206160" y="1413000"/>
            <a:ext cx="2367360" cy="1188000"/>
            <a:chOff x="3206160" y="1413000"/>
            <a:chExt cx="2367360" cy="1188000"/>
          </a:xfrm>
        </p:grpSpPr>
        <p:sp>
          <p:nvSpPr>
            <p:cNvPr id="109" name=""/>
            <p:cNvSpPr/>
            <p:nvPr/>
          </p:nvSpPr>
          <p:spPr>
            <a:xfrm>
              <a:off x="3206160" y="141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ahoma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712680" y="1687320"/>
              <a:ext cx="1860840" cy="913680"/>
              <a:chOff x="3712680" y="1687320"/>
              <a:chExt cx="1860840" cy="9136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3712680" y="2057760"/>
                <a:ext cx="1860840" cy="543240"/>
                <a:chOff x="3712680" y="2057760"/>
                <a:chExt cx="1860840" cy="5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12680" y="2251440"/>
                  <a:ext cx="57960" cy="838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056920" y="2057760"/>
                  <a:ext cx="57960" cy="835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115240" y="2141640"/>
                  <a:ext cx="40032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770640" y="2335320"/>
                  <a:ext cx="40068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5515560" y="2057760"/>
                  <a:ext cx="57960" cy="835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171320" y="2251440"/>
                  <a:ext cx="57960" cy="838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971160" y="2335320"/>
                  <a:ext cx="720" cy="109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15400" y="2141640"/>
                  <a:ext cx="720" cy="109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3970800" y="2251440"/>
                  <a:ext cx="1343880" cy="1936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643280" y="2225520"/>
                  <a:ext cx="1080" cy="3747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91280" y="2600280"/>
                  <a:ext cx="50400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6800" y="1687320"/>
                <a:ext cx="274320" cy="46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6640" y="1859400"/>
                <a:ext cx="293760" cy="48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" name=""/>
          <p:cNvGrpSpPr/>
          <p:nvPr/>
        </p:nvGrpSpPr>
        <p:grpSpPr>
          <a:xfrm>
            <a:off x="6184080" y="1438200"/>
            <a:ext cx="2415240" cy="1171080"/>
            <a:chOff x="6184080" y="1438200"/>
            <a:chExt cx="2415240" cy="1171080"/>
          </a:xfrm>
        </p:grpSpPr>
        <p:grpSp>
          <p:nvGrpSpPr>
            <p:cNvPr id="126" name=""/>
            <p:cNvGrpSpPr/>
            <p:nvPr/>
          </p:nvGrpSpPr>
          <p:grpSpPr>
            <a:xfrm>
              <a:off x="6808320" y="1725480"/>
              <a:ext cx="1791000" cy="883800"/>
              <a:chOff x="6808320" y="1725480"/>
              <a:chExt cx="1791000" cy="8838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808320" y="2109960"/>
                <a:ext cx="1791000" cy="499320"/>
                <a:chOff x="6808320" y="2109960"/>
                <a:chExt cx="1791000" cy="4993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808320" y="2109960"/>
                  <a:ext cx="56520" cy="81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94960" y="2229840"/>
                  <a:ext cx="56880" cy="81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152200" y="2311920"/>
                  <a:ext cx="39096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865200" y="2192040"/>
                  <a:ext cx="39096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542800" y="2229840"/>
                  <a:ext cx="56520" cy="81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7256160" y="2109960"/>
                  <a:ext cx="56880" cy="81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60680" y="2192040"/>
                  <a:ext cx="1080" cy="1072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347680" y="2311920"/>
                  <a:ext cx="720" cy="1069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060680" y="2299320"/>
                  <a:ext cx="1286640" cy="1195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04000" y="2235960"/>
                  <a:ext cx="720" cy="3718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58120" y="2608200"/>
                  <a:ext cx="49176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10880" y="1865160"/>
                <a:ext cx="267840" cy="45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912360" y="1725480"/>
                <a:ext cx="286920" cy="47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6184080" y="1438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ahoma"/>
                </a:rPr>
                <a:t>c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5972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824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668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404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9376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148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9360" y="3189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6800" y="3189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&l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40320" y="3224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7760" y="318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1960" y="4289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603000" y="467532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 scale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in balanc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can be represented wit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67532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quality sign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=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4219560"/>
            <a:ext cx="8280000" cy="1008000"/>
            <a:chOff x="179280" y="4219560"/>
            <a:chExt cx="8280000" cy="1008000"/>
          </a:xfrm>
        </p:grpSpPr>
        <p:sp>
          <p:nvSpPr>
            <p:cNvPr id="156" name=""/>
            <p:cNvSpPr/>
            <p:nvPr/>
          </p:nvSpPr>
          <p:spPr>
            <a:xfrm>
              <a:off x="179280" y="4219560"/>
              <a:ext cx="82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280" y="5227560"/>
              <a:ext cx="82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421956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59280" y="421956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218760" y="266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ffffff"/>
                </a:solidFill>
                <a:uFillTx/>
                <a:latin typeface="Tahoma"/>
              </a:rPr>
              <a:t>The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85360" y="3189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00480" y="3189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6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4562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11160" y="130176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Now let's consider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ome number o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right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side of equali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89880" y="2637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add numbe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o both side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259160" y="125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484160" y="1360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7880" y="1808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4840" y="1808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440080" y="1808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564000" y="184428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024440" y="184428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465640" y="27320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number are -3 i +3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3708000" y="2276280"/>
            <a:ext cx="144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997440" y="2276280"/>
            <a:ext cx="142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36520" y="2781360"/>
            <a:ext cx="71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happens with them when we add them (one to another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-128880" y="280512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rewrite what remains on the both side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19320" y="2311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 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90880" y="2311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916600" y="22050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.g. number -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61320" y="134136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have we got after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lef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on the right si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-261000" y="2876400"/>
            <a:ext cx="57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Again, let’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6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62920" y="1341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79280" y="1341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440080" y="134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9320" y="2311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6 - 4 + 5 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90880" y="2311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41880" y="2311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322200" y="249228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are differences between these two row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05240" y="1327320"/>
            <a:ext cx="431640" cy="43164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720800" y="1785960"/>
            <a:ext cx="447840" cy="4474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336760" y="460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-351720" y="5229360"/>
            <a:ext cx="60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f we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move 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ither from the left side to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r from the right to the left o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his number 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68360" y="5084640"/>
            <a:ext cx="4464000" cy="1584000"/>
            <a:chOff x="468360" y="5084640"/>
            <a:chExt cx="4464000" cy="1584000"/>
          </a:xfrm>
        </p:grpSpPr>
        <p:sp>
          <p:nvSpPr>
            <p:cNvPr id="776" name=""/>
            <p:cNvSpPr/>
            <p:nvPr/>
          </p:nvSpPr>
          <p:spPr>
            <a:xfrm>
              <a:off x="468360" y="5084640"/>
              <a:ext cx="446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8360" y="6668640"/>
              <a:ext cx="446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8360" y="5084640"/>
              <a:ext cx="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2360" y="5084640"/>
              <a:ext cx="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992240" y="602136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changes its sign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6600" y="2637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-103320" y="2997360"/>
            <a:ext cx="72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e can make the second row from the first 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rewriting everything in the same way, except number -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-88560" y="371016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Number -3 was moved from the right side to the left 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320" y="4141800"/>
            <a:ext cx="50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By doing so, number -3 changed its 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971520" y="41180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sign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-261000" y="2876400"/>
            <a:ext cx="57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Again, let’s compare the first and third row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8.67052E-007 L 0.00035 -0.07584 E">
                                      <p:cBhvr>
                                        <p:cTn id="1649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651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33 E">
                                      <p:cBhvr>
                                        <p:cTn id="1653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2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7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2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7" dur="500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2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011480" y="1868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ummar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246760" y="259092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move a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from one side to the oth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is number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changes its sign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484360" y="2421000"/>
            <a:ext cx="4248360" cy="1439280"/>
            <a:chOff x="2484360" y="2421000"/>
            <a:chExt cx="4248360" cy="1439280"/>
          </a:xfrm>
        </p:grpSpPr>
        <p:sp>
          <p:nvSpPr>
            <p:cNvPr id="790" name=""/>
            <p:cNvSpPr/>
            <p:nvPr/>
          </p:nvSpPr>
          <p:spPr>
            <a:xfrm>
              <a:off x="2484360" y="2421000"/>
              <a:ext cx="42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84360" y="3860280"/>
              <a:ext cx="42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84360" y="2421000"/>
              <a:ext cx="0" cy="143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32720" y="2421000"/>
              <a:ext cx="0" cy="143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9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4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9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547640" y="1866960"/>
            <a:ext cx="626436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Monotype Corsiva"/>
              </a:rPr>
              <a:t>Author of pres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cc00"/>
                </a:solidFill>
                <a:latin typeface="Monotype Corsiva"/>
              </a:rPr>
              <a:t>Antonija Horvat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Monotype Corsiva"/>
              </a:rPr>
              <a:t>Croatia, January 200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0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195640" y="1941480"/>
            <a:ext cx="489744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anks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00"/>
                </a:solidFill>
                <a:latin typeface="Monotype Corsiva"/>
              </a:rPr>
              <a:t>Moti Le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00"/>
                </a:solidFill>
                <a:latin typeface="Monotype Corsiva"/>
              </a:rPr>
              <a:t>( 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Monotype Corsiva"/>
                <a:hlinkClick r:id="rId1"/>
              </a:rPr>
              <a:t>http://www.LearningByYourself.com/</a:t>
            </a:r>
            <a:r>
              <a:rPr b="0" lang="hr-HR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hr-HR" sz="1800" spc="-1" strike="noStrike">
                <a:solidFill>
                  <a:srgbClr val="ffcc0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cc00"/>
                </a:solidFill>
                <a:latin typeface="Comic Sans MS"/>
              </a:rPr>
              <a:t>for helping me with transl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cc00"/>
                </a:solidFill>
                <a:latin typeface="Comic Sans MS"/>
              </a:rPr>
              <a:t>to Englis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0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503280" y="16477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You can use this presentation in your teac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dditionally, you can change some parts of it if used solely for teach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4560" y="2727360"/>
            <a:ext cx="78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However, if you want to use it in public lectures, workshop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writing books, articles, on CDs or any public form or commercial purpos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t is nessesary to recieve permission by the aut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411080" y="4254480"/>
            <a:ext cx="339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tonija Horva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public.carnet.hr/~ahor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ahorvatek@yahoo.com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20520" y="55864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nversel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31800" y="5972040"/>
            <a:ext cx="71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we can imagine it 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597204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a scale in balan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9280" y="5516640"/>
            <a:ext cx="8064360" cy="1008000"/>
            <a:chOff x="179280" y="5516640"/>
            <a:chExt cx="8064360" cy="1008000"/>
          </a:xfrm>
        </p:grpSpPr>
        <p:sp>
          <p:nvSpPr>
            <p:cNvPr id="167" name=""/>
            <p:cNvSpPr/>
            <p:nvPr/>
          </p:nvSpPr>
          <p:spPr>
            <a:xfrm>
              <a:off x="179280" y="5516640"/>
              <a:ext cx="806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6524640"/>
              <a:ext cx="806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551664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43640" y="551664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13288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6160" y="2060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7 +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67240" y="2671920"/>
            <a:ext cx="2850120" cy="809280"/>
            <a:chOff x="5367240" y="2671920"/>
            <a:chExt cx="2850120" cy="809280"/>
          </a:xfrm>
        </p:grpSpPr>
        <p:grpSp>
          <p:nvGrpSpPr>
            <p:cNvPr id="174" name=""/>
            <p:cNvGrpSpPr/>
            <p:nvPr/>
          </p:nvGrpSpPr>
          <p:grpSpPr>
            <a:xfrm>
              <a:off x="5470200" y="2945160"/>
              <a:ext cx="2595240" cy="536040"/>
              <a:chOff x="5470200" y="2945160"/>
              <a:chExt cx="2595240" cy="536040"/>
            </a:xfrm>
          </p:grpSpPr>
          <p:sp>
            <p:nvSpPr>
              <p:cNvPr id="175" name=""/>
              <p:cNvSpPr/>
              <p:nvPr/>
            </p:nvSpPr>
            <p:spPr>
              <a:xfrm>
                <a:off x="5470200" y="2945160"/>
                <a:ext cx="79920" cy="100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54440" y="2945160"/>
                <a:ext cx="79920" cy="100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34360" y="3045960"/>
                <a:ext cx="551160" cy="1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50120" y="3045960"/>
                <a:ext cx="551160" cy="1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985520" y="2945160"/>
                <a:ext cx="79920" cy="100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101280" y="2945160"/>
                <a:ext cx="79920" cy="10044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25520" y="3045960"/>
                <a:ext cx="1440" cy="13176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10120" y="3045960"/>
                <a:ext cx="1080" cy="13176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25520" y="3177720"/>
                <a:ext cx="1884240" cy="108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68000" y="3030480"/>
                <a:ext cx="1080" cy="44928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21320" y="3480120"/>
                <a:ext cx="693000" cy="1080"/>
              </a:xfrm>
              <a:prstGeom prst="line">
                <a:avLst/>
              </a:prstGeom>
              <a:ln w="28440">
                <a:solidFill>
                  <a:srgbClr val="fff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274520" y="26719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00"/>
                  </a:solidFill>
                  <a:latin typeface="Tahoma"/>
                </a:rPr>
                <a:t>3 </a:t>
              </a:r>
              <a:r>
                <a:rPr b="0" lang="en-US" sz="2000" spc="-1" strike="noStrike">
                  <a:solidFill>
                    <a:srgbClr val="ffcc00"/>
                  </a:solidFill>
                  <a:latin typeface="Tahoma"/>
                </a:rPr>
                <a:t>·</a:t>
              </a:r>
              <a:r>
                <a:rPr b="0" lang="hr-HR" sz="2000" spc="-1" strike="noStrike">
                  <a:solidFill>
                    <a:srgbClr val="ffcc00"/>
                  </a:solidFill>
                  <a:latin typeface="Tahoma"/>
                </a:rPr>
                <a:t>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7240" y="26719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00"/>
                  </a:solidFill>
                  <a:latin typeface="Tahoma"/>
                </a:rPr>
                <a:t>7 +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841440" y="2060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760" y="2060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16800" y="2060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5280" y="1413000"/>
            <a:ext cx="2408040" cy="1199160"/>
            <a:chOff x="215280" y="1413000"/>
            <a:chExt cx="2408040" cy="1199160"/>
          </a:xfrm>
        </p:grpSpPr>
        <p:sp>
          <p:nvSpPr>
            <p:cNvPr id="192" name=""/>
            <p:cNvSpPr/>
            <p:nvPr/>
          </p:nvSpPr>
          <p:spPr>
            <a:xfrm>
              <a:off x="215280" y="1413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Tahoma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0680" y="1782720"/>
              <a:ext cx="1862640" cy="829440"/>
              <a:chOff x="760680" y="1782720"/>
              <a:chExt cx="1862640" cy="829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760680" y="2171520"/>
                <a:ext cx="1862640" cy="440640"/>
                <a:chOff x="760680" y="2171520"/>
                <a:chExt cx="1862640" cy="4406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6068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1320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170800" y="225432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17920" y="225432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256608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1213560" y="217152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15920" y="2254320"/>
                  <a:ext cx="1080" cy="1083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68800" y="2254320"/>
                  <a:ext cx="720" cy="1083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15920" y="2362680"/>
                  <a:ext cx="135288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92360" y="2241360"/>
                  <a:ext cx="720" cy="369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43240" y="2611440"/>
                  <a:ext cx="49752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6400" y="1795320"/>
                <a:ext cx="27072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2280" y="1782720"/>
                <a:ext cx="290160" cy="48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8" name=""/>
          <p:cNvSpPr/>
          <p:nvPr/>
        </p:nvSpPr>
        <p:spPr>
          <a:xfrm>
            <a:off x="45972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8240" y="2765520"/>
            <a:ext cx="10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b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85360" y="3189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1960" y="4289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9280" y="4219560"/>
            <a:ext cx="8280000" cy="1008000"/>
            <a:chOff x="179280" y="4219560"/>
            <a:chExt cx="8280000" cy="1008000"/>
          </a:xfrm>
        </p:grpSpPr>
        <p:sp>
          <p:nvSpPr>
            <p:cNvPr id="213" name=""/>
            <p:cNvSpPr/>
            <p:nvPr/>
          </p:nvSpPr>
          <p:spPr>
            <a:xfrm>
              <a:off x="179280" y="4219560"/>
              <a:ext cx="82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9280" y="5227560"/>
              <a:ext cx="82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280" y="421956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9280" y="4219560"/>
              <a:ext cx="0" cy="100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-603000" y="467532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 scale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in balance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can be represented with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67532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equality sign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=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18760" y="266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ffffff"/>
                </a:solidFill>
                <a:uFillTx/>
                <a:latin typeface="Tahoma"/>
              </a:rPr>
              <a:t>The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276560" y="981000"/>
            <a:ext cx="113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hich of the signs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&lt;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&gt;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hr-HR" sz="2000" spc="-1" strike="noStrike">
                <a:solidFill>
                  <a:srgbClr val="ffffcc"/>
                </a:solidFill>
                <a:latin typeface="Tahoma"/>
              </a:rPr>
              <a:t>=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should we put instead of the queastion mar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98480" y="2544840"/>
            <a:ext cx="76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What can we do to each side of the sca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nd still keep it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in bal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6320" y="5721480"/>
            <a:ext cx="88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try to find the answers through the following example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89240" y="260280"/>
            <a:ext cx="2225160" cy="1105920"/>
            <a:chOff x="6789240" y="260280"/>
            <a:chExt cx="2225160" cy="1105920"/>
          </a:xfrm>
        </p:grpSpPr>
        <p:sp>
          <p:nvSpPr>
            <p:cNvPr id="224" name=""/>
            <p:cNvSpPr/>
            <p:nvPr/>
          </p:nvSpPr>
          <p:spPr>
            <a:xfrm>
              <a:off x="6984000" y="10288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cc00"/>
                  </a:solidFill>
                  <a:latin typeface="Tahoma"/>
                </a:rPr>
                <a:t>7 + 8 = 3 </a:t>
              </a:r>
              <a:r>
                <a:rPr b="0" lang="en-US" sz="1600" spc="-1" strike="noStrike">
                  <a:solidFill>
                    <a:srgbClr val="ffcc00"/>
                  </a:solidFill>
                  <a:latin typeface="Tahoma"/>
                </a:rPr>
                <a:t>·</a:t>
              </a:r>
              <a:r>
                <a:rPr b="0" lang="hr-HR" sz="1600" spc="-1" strike="noStrike">
                  <a:solidFill>
                    <a:srgbClr val="ffcc00"/>
                  </a:solidFill>
                  <a:latin typeface="Tahoma"/>
                </a:rPr>
                <a:t>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789240" y="260280"/>
              <a:ext cx="2225160" cy="664200"/>
              <a:chOff x="6789240" y="260280"/>
              <a:chExt cx="2225160" cy="6642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6885720" y="511200"/>
                <a:ext cx="1996200" cy="413280"/>
                <a:chOff x="6885720" y="511200"/>
                <a:chExt cx="1996200" cy="413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885720" y="511200"/>
                  <a:ext cx="61200" cy="774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335440" y="511200"/>
                  <a:ext cx="61200" cy="774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396640" y="588600"/>
                  <a:ext cx="42408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47280" y="588600"/>
                  <a:ext cx="42408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8820720" y="511200"/>
                  <a:ext cx="61200" cy="774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7371360" y="511200"/>
                  <a:ext cx="61200" cy="774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159320" y="588600"/>
                  <a:ext cx="1080" cy="1015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609040" y="588600"/>
                  <a:ext cx="720" cy="1015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59320" y="690480"/>
                  <a:ext cx="144972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884000" y="576720"/>
                  <a:ext cx="720" cy="3466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617240" y="923760"/>
                  <a:ext cx="53316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8224200" y="26028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cc00"/>
                    </a:solidFill>
                    <a:latin typeface="Tahoma"/>
                  </a:rPr>
                  <a:t>3 </a:t>
                </a:r>
                <a:r>
                  <a:rPr b="0" lang="en-US" sz="1600" spc="-1" strike="noStrike">
                    <a:solidFill>
                      <a:srgbClr val="ffcc00"/>
                    </a:solidFill>
                    <a:latin typeface="Tahoma"/>
                  </a:rPr>
                  <a:t>·</a:t>
                </a:r>
                <a:r>
                  <a:rPr b="0" lang="hr-HR" sz="1600" spc="-1" strike="noStrike">
                    <a:solidFill>
                      <a:srgbClr val="ffcc00"/>
                    </a:solidFill>
                    <a:latin typeface="Tahoma"/>
                  </a:rPr>
                  <a:t> 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89240" y="26028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600" spc="-1" strike="noStrike">
                    <a:solidFill>
                      <a:srgbClr val="ffcc00"/>
                    </a:solidFill>
                    <a:latin typeface="Tahoma"/>
                  </a:rPr>
                  <a:t>7 + 8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60120" y="189000"/>
            <a:ext cx="3472560" cy="1200960"/>
            <a:chOff x="60120" y="189000"/>
            <a:chExt cx="3472560" cy="1200960"/>
          </a:xfrm>
        </p:grpSpPr>
        <p:grpSp>
          <p:nvGrpSpPr>
            <p:cNvPr id="241" name=""/>
            <p:cNvGrpSpPr/>
            <p:nvPr/>
          </p:nvGrpSpPr>
          <p:grpSpPr>
            <a:xfrm>
              <a:off x="760680" y="189000"/>
              <a:ext cx="1862640" cy="828720"/>
              <a:chOff x="760680" y="189000"/>
              <a:chExt cx="1862640" cy="82872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760680" y="577440"/>
                <a:ext cx="1862640" cy="440280"/>
                <a:chOff x="760680" y="577440"/>
                <a:chExt cx="1862640" cy="440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60680" y="57744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113200" y="57744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70800" y="66024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17920" y="660240"/>
                  <a:ext cx="395640" cy="108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2566080" y="57744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1213560" y="577440"/>
                  <a:ext cx="57240" cy="828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5920" y="660240"/>
                  <a:ext cx="1080" cy="1080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68800" y="660240"/>
                  <a:ext cx="720" cy="10800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015920" y="768600"/>
                  <a:ext cx="135288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92360" y="647280"/>
                  <a:ext cx="720" cy="36936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443240" y="1017000"/>
                  <a:ext cx="497520" cy="720"/>
                </a:xfrm>
                <a:prstGeom prst="line">
                  <a:avLst/>
                </a:prstGeom>
                <a:ln w="28440">
                  <a:solidFill>
                    <a:srgbClr val="ffff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6400" y="201600"/>
                <a:ext cx="270720" cy="45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2280" y="189000"/>
                <a:ext cx="290160" cy="48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"/>
            <p:cNvSpPr/>
            <p:nvPr/>
          </p:nvSpPr>
          <p:spPr>
            <a:xfrm>
              <a:off x="60120" y="1052640"/>
              <a:ext cx="34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cc00"/>
                  </a:solidFill>
                  <a:latin typeface="Tahoma"/>
                </a:rPr>
                <a:t>yellow weight = blue weigh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05680" y="420120"/>
            <a:ext cx="6032880" cy="1330200"/>
            <a:chOff x="1705680" y="420120"/>
            <a:chExt cx="6032880" cy="1330200"/>
          </a:xfrm>
        </p:grpSpPr>
        <p:grpSp>
          <p:nvGrpSpPr>
            <p:cNvPr id="258" name=""/>
            <p:cNvGrpSpPr/>
            <p:nvPr/>
          </p:nvGrpSpPr>
          <p:grpSpPr>
            <a:xfrm>
              <a:off x="3717000" y="420120"/>
              <a:ext cx="2094840" cy="911520"/>
              <a:chOff x="3717000" y="420120"/>
              <a:chExt cx="2094840" cy="9115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717000" y="858240"/>
                <a:ext cx="1996560" cy="473400"/>
                <a:chOff x="3717000" y="858240"/>
                <a:chExt cx="1996560" cy="4734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717000" y="858240"/>
                  <a:ext cx="6120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66720" y="858240"/>
                  <a:ext cx="6120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228280" y="947520"/>
                  <a:ext cx="424080" cy="10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778560" y="947520"/>
                  <a:ext cx="424080" cy="10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5652360" y="858240"/>
                  <a:ext cx="6120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4202640" y="858240"/>
                  <a:ext cx="6120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990600" y="947520"/>
                  <a:ext cx="1080" cy="1162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440680" y="947520"/>
                  <a:ext cx="720" cy="1162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990600" y="1063800"/>
                  <a:ext cx="144972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15640" y="933840"/>
                  <a:ext cx="720" cy="3970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48880" y="1330920"/>
                  <a:ext cx="53316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1" name="" descr=""/>
              <p:cNvPicPr/>
              <p:nvPr/>
            </p:nvPicPr>
            <p:blipFill>
              <a:blip r:embed="rId3"/>
              <a:stretch/>
            </p:blipFill>
            <p:spPr>
              <a:xfrm rot="2421000">
                <a:off x="5147640" y="549000"/>
                <a:ext cx="576360" cy="482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779640" y="621000"/>
                <a:ext cx="431640" cy="321840"/>
                <a:chOff x="3779640" y="621000"/>
                <a:chExt cx="431640" cy="321840"/>
              </a:xfrm>
            </p:grpSpPr>
            <p:pic>
              <p:nvPicPr>
                <p:cNvPr id="2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79640" y="764280"/>
                  <a:ext cx="2462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65040" y="764280"/>
                  <a:ext cx="246240" cy="178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6"/>
                <a:stretch/>
              </p:blipFill>
              <p:spPr>
                <a:xfrm flipH="1" rot="10800000">
                  <a:off x="3904200" y="621000"/>
                  <a:ext cx="246240" cy="178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6" name=""/>
            <p:cNvSpPr/>
            <p:nvPr/>
          </p:nvSpPr>
          <p:spPr>
            <a:xfrm>
              <a:off x="1705680" y="1413000"/>
              <a:ext cx="603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ffcc00"/>
                  </a:solidFill>
                  <a:latin typeface="Tahoma"/>
                </a:rPr>
                <a:t>weight of 3 chestnuts = weight of 5 strawber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28840" y="404820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What can we do to each side of the equa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nd still keep the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91160" y="3789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at i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19800" y="23493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We would like to know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157120" y="1557360"/>
            <a:ext cx="3060000" cy="1108800"/>
            <a:chOff x="2157120" y="1557360"/>
            <a:chExt cx="3060000" cy="1108800"/>
          </a:xfrm>
        </p:grpSpPr>
        <p:grpSp>
          <p:nvGrpSpPr>
            <p:cNvPr id="281" name=""/>
            <p:cNvGrpSpPr/>
            <p:nvPr/>
          </p:nvGrpSpPr>
          <p:grpSpPr>
            <a:xfrm>
              <a:off x="2157120" y="1941120"/>
              <a:ext cx="3060000" cy="725040"/>
              <a:chOff x="2157120" y="1941120"/>
              <a:chExt cx="3060000" cy="725040"/>
            </a:xfrm>
          </p:grpSpPr>
          <p:sp>
            <p:nvSpPr>
              <p:cNvPr id="282" name=""/>
              <p:cNvSpPr/>
              <p:nvPr/>
            </p:nvSpPr>
            <p:spPr>
              <a:xfrm>
                <a:off x="2157120" y="194112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79040" y="194112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73360" y="207756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51440" y="207756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5123160" y="194112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901240" y="194112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576160" y="2077560"/>
                <a:ext cx="180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98440" y="2077560"/>
                <a:ext cx="144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76160" y="2255760"/>
                <a:ext cx="222192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87480" y="2056680"/>
                <a:ext cx="1440" cy="608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78520" y="2664720"/>
                <a:ext cx="81756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2423880" y="1658880"/>
              <a:ext cx="615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4843080" y="1711080"/>
              <a:ext cx="35568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4479840" y="1557360"/>
              <a:ext cx="35064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2174760" y="1660320"/>
              <a:ext cx="3906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"/>
          <p:cNvSpPr/>
          <p:nvPr/>
        </p:nvSpPr>
        <p:spPr>
          <a:xfrm>
            <a:off x="4738680" y="2349360"/>
            <a:ext cx="49813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On the scale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- apple and banana on the lef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- pear and peach 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9040" y="164772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s this scale in bal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60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00"/>
                </a:solidFill>
                <a:latin typeface="Tahoma"/>
              </a:rPr>
              <a:t>Yes, it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04520" y="234144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What can we conclude from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23200" y="3078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apple + ban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00640" y="3078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74320" y="3078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pear + p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2535120" y="10144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670280" y="10461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816800" y="1576440"/>
            <a:ext cx="49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f we put onto both sid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dentical apricots, will this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till be in bal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89240" y="3463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7000" y="3463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311040" y="411156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apple + banana + apricot =  pear + peach 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50760" y="25574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00"/>
                </a:solidFill>
                <a:latin typeface="Tahoma"/>
              </a:rPr>
              <a:t>Yes, it w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1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-8.33333E-007 0.07338 E">
                                      <p:cBhvr>
                                        <p:cTn id="37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4.44444E-006 0.04769 E">
                                      <p:cBhvr>
                                        <p:cTn id="37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61880" y="647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20" y="1087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the scale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490320" y="1447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add the sam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nto both the left and right sid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-211680" y="1844640"/>
            <a:ext cx="55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 scale will still be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9640" y="1020600"/>
            <a:ext cx="6911640" cy="1328400"/>
            <a:chOff x="539640" y="1020600"/>
            <a:chExt cx="6911640" cy="1328400"/>
          </a:xfrm>
        </p:grpSpPr>
        <p:sp>
          <p:nvSpPr>
            <p:cNvPr id="317" name=""/>
            <p:cNvSpPr/>
            <p:nvPr/>
          </p:nvSpPr>
          <p:spPr>
            <a:xfrm>
              <a:off x="539640" y="1020600"/>
              <a:ext cx="69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640" y="2349000"/>
              <a:ext cx="69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9640" y="1020600"/>
              <a:ext cx="0" cy="132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51280" y="1020600"/>
              <a:ext cx="0" cy="132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-59040" y="2521080"/>
            <a:ext cx="48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We can say it in another (mathematical) wa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1360" y="296064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-544680" y="3321000"/>
            <a:ext cx="97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add the same amoun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to both the left and right sid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-132480" y="37162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will still b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39640" y="2894040"/>
            <a:ext cx="7632360" cy="1326600"/>
            <a:chOff x="539640" y="2894040"/>
            <a:chExt cx="7632360" cy="1326600"/>
          </a:xfrm>
        </p:grpSpPr>
        <p:sp>
          <p:nvSpPr>
            <p:cNvPr id="326" name=""/>
            <p:cNvSpPr/>
            <p:nvPr/>
          </p:nvSpPr>
          <p:spPr>
            <a:xfrm>
              <a:off x="539640" y="2894040"/>
              <a:ext cx="76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9640" y="4220640"/>
              <a:ext cx="76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9640" y="2894040"/>
              <a:ext cx="0" cy="132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72000" y="2894040"/>
              <a:ext cx="0" cy="132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10040" y="426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E.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003640" y="5079960"/>
            <a:ext cx="1297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61560" y="5627520"/>
            <a:ext cx="46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Slash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means that everything right 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refers both sides of equality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2120" y="5627520"/>
            <a:ext cx="66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So, we will add apricot to </a:t>
            </a: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both left and right sides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011000" y="272880"/>
            <a:ext cx="1530360" cy="645480"/>
            <a:chOff x="7011000" y="272880"/>
            <a:chExt cx="1530360" cy="645480"/>
          </a:xfrm>
        </p:grpSpPr>
        <p:grpSp>
          <p:nvGrpSpPr>
            <p:cNvPr id="335" name=""/>
            <p:cNvGrpSpPr/>
            <p:nvPr/>
          </p:nvGrpSpPr>
          <p:grpSpPr>
            <a:xfrm>
              <a:off x="7011000" y="364680"/>
              <a:ext cx="1530360" cy="553680"/>
              <a:chOff x="7011000" y="364680"/>
              <a:chExt cx="1530360" cy="5536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7011000" y="556200"/>
                <a:ext cx="1530360" cy="362160"/>
                <a:chOff x="7011000" y="556200"/>
                <a:chExt cx="1530360" cy="3621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01100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12232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169480" y="624240"/>
                  <a:ext cx="325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8160" y="624240"/>
                  <a:ext cx="325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849456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738324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20520" y="624240"/>
                  <a:ext cx="72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331840" y="624240"/>
                  <a:ext cx="72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20520" y="713160"/>
                  <a:ext cx="111132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776360" y="613800"/>
                  <a:ext cx="720" cy="3034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571880" y="917640"/>
                  <a:ext cx="4086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4200" y="415080"/>
                <a:ext cx="30780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54160" y="441360"/>
                <a:ext cx="177840" cy="17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72360" y="364680"/>
                <a:ext cx="17532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19640" y="41580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7200000" y="344160"/>
              <a:ext cx="21564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8267760" y="2728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474800" y="44280"/>
            <a:ext cx="1615320" cy="872280"/>
            <a:chOff x="4474800" y="44280"/>
            <a:chExt cx="1615320" cy="872280"/>
          </a:xfrm>
        </p:grpSpPr>
        <p:grpSp>
          <p:nvGrpSpPr>
            <p:cNvPr id="355" name=""/>
            <p:cNvGrpSpPr/>
            <p:nvPr/>
          </p:nvGrpSpPr>
          <p:grpSpPr>
            <a:xfrm>
              <a:off x="4474800" y="330840"/>
              <a:ext cx="1615320" cy="585720"/>
              <a:chOff x="4474800" y="330840"/>
              <a:chExt cx="1615320" cy="5857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4474800" y="533520"/>
                <a:ext cx="1615320" cy="383040"/>
                <a:chOff x="4474800" y="533520"/>
                <a:chExt cx="1615320" cy="3830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47480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4732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697360" y="605520"/>
                  <a:ext cx="343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524480" y="605520"/>
                  <a:ext cx="343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604044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486756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695840" y="605520"/>
                  <a:ext cx="720" cy="939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68720" y="605520"/>
                  <a:ext cx="720" cy="939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695840" y="699840"/>
                  <a:ext cx="11728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82280" y="594360"/>
                  <a:ext cx="720" cy="3214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066640" y="915840"/>
                  <a:ext cx="4312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15200" y="384480"/>
                <a:ext cx="325080" cy="2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92120" y="411840"/>
                <a:ext cx="187560" cy="18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00600" y="330840"/>
                <a:ext cx="185040" cy="2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83800" y="385200"/>
                <a:ext cx="205920" cy="21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2" name="" descr=""/>
            <p:cNvPicPr/>
            <p:nvPr/>
          </p:nvPicPr>
          <p:blipFill>
            <a:blip r:embed="rId11"/>
            <a:stretch/>
          </p:blipFill>
          <p:spPr>
            <a:xfrm>
              <a:off x="4673880" y="44280"/>
              <a:ext cx="227520" cy="2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5801040" y="60840"/>
              <a:ext cx="227880" cy="22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1333800" y="458460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pple + banana =  pear + p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34040" y="45496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Tahoma"/>
              </a:rPr>
              <a:t>/</a:t>
            </a: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3200" y="50418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pple + banana</a:t>
            </a: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 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45000" y="504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2360" y="504180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ear + peach</a:t>
            </a:r>
            <a:r>
              <a:rPr b="0" lang="hr-HR" sz="2000" spc="-1" strike="noStrike">
                <a:solidFill>
                  <a:srgbClr val="ffcc00"/>
                </a:solidFill>
                <a:latin typeface="Tahoma"/>
              </a:rPr>
              <a:t> + apri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63280" y="4441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53080" y="4441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24 :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1760" y="444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29160" y="444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26760" y="440676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 +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4572000" y="4911840"/>
            <a:ext cx="7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68400" y="5511960"/>
            <a:ext cx="46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e add 6 to </a:t>
            </a:r>
            <a:r>
              <a:rPr b="0" lang="hr-HR" sz="1600" spc="-1" strike="noStrike">
                <a:solidFill>
                  <a:srgbClr val="ffff00"/>
                </a:solidFill>
                <a:latin typeface="Tahoma"/>
              </a:rPr>
              <a:t>both left and right sid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3240" y="491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0 - 2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011000" y="272880"/>
            <a:ext cx="1530360" cy="645480"/>
            <a:chOff x="7011000" y="272880"/>
            <a:chExt cx="1530360" cy="645480"/>
          </a:xfrm>
        </p:grpSpPr>
        <p:grpSp>
          <p:nvGrpSpPr>
            <p:cNvPr id="388" name=""/>
            <p:cNvGrpSpPr/>
            <p:nvPr/>
          </p:nvGrpSpPr>
          <p:grpSpPr>
            <a:xfrm>
              <a:off x="7011000" y="364680"/>
              <a:ext cx="1530360" cy="553680"/>
              <a:chOff x="7011000" y="364680"/>
              <a:chExt cx="1530360" cy="55368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7011000" y="556200"/>
                <a:ext cx="1530360" cy="362160"/>
                <a:chOff x="7011000" y="556200"/>
                <a:chExt cx="1530360" cy="3621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01100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12232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169480" y="624240"/>
                  <a:ext cx="325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58160" y="624240"/>
                  <a:ext cx="325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849456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7383240" y="556200"/>
                  <a:ext cx="46800" cy="68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20520" y="624240"/>
                  <a:ext cx="72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331840" y="624240"/>
                  <a:ext cx="720" cy="88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20520" y="713160"/>
                  <a:ext cx="111132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76360" y="613800"/>
                  <a:ext cx="720" cy="3034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71880" y="917640"/>
                  <a:ext cx="40860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4200" y="415080"/>
                <a:ext cx="30780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54160" y="441360"/>
                <a:ext cx="177840" cy="17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72360" y="364680"/>
                <a:ext cx="17532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19640" y="41580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5" name="" descr=""/>
            <p:cNvPicPr/>
            <p:nvPr/>
          </p:nvPicPr>
          <p:blipFill>
            <a:blip r:embed="rId5"/>
            <a:stretch/>
          </p:blipFill>
          <p:spPr>
            <a:xfrm>
              <a:off x="7200000" y="344160"/>
              <a:ext cx="21564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6"/>
            <a:stretch/>
          </p:blipFill>
          <p:spPr>
            <a:xfrm>
              <a:off x="8267760" y="272880"/>
              <a:ext cx="21600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7" name=""/>
          <p:cNvGrpSpPr/>
          <p:nvPr/>
        </p:nvGrpSpPr>
        <p:grpSpPr>
          <a:xfrm>
            <a:off x="4474800" y="44280"/>
            <a:ext cx="1615320" cy="872280"/>
            <a:chOff x="4474800" y="44280"/>
            <a:chExt cx="1615320" cy="872280"/>
          </a:xfrm>
        </p:grpSpPr>
        <p:grpSp>
          <p:nvGrpSpPr>
            <p:cNvPr id="408" name=""/>
            <p:cNvGrpSpPr/>
            <p:nvPr/>
          </p:nvGrpSpPr>
          <p:grpSpPr>
            <a:xfrm>
              <a:off x="4474800" y="330840"/>
              <a:ext cx="1615320" cy="585720"/>
              <a:chOff x="4474800" y="330840"/>
              <a:chExt cx="1615320" cy="58572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4474800" y="533520"/>
                <a:ext cx="1615320" cy="383040"/>
                <a:chOff x="4474800" y="533520"/>
                <a:chExt cx="1615320" cy="3830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47480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4732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697360" y="605520"/>
                  <a:ext cx="343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24480" y="605520"/>
                  <a:ext cx="3430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04044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4867560" y="533520"/>
                  <a:ext cx="49680" cy="72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95840" y="605520"/>
                  <a:ext cx="720" cy="939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68720" y="605520"/>
                  <a:ext cx="720" cy="939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95840" y="699840"/>
                  <a:ext cx="11728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82280" y="594360"/>
                  <a:ext cx="720" cy="3214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066640" y="915840"/>
                  <a:ext cx="431280" cy="7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15200" y="384480"/>
                <a:ext cx="325080" cy="2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92120" y="411840"/>
                <a:ext cx="187560" cy="18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00600" y="330840"/>
                <a:ext cx="185040" cy="27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83800" y="385200"/>
                <a:ext cx="205920" cy="21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" descr=""/>
            <p:cNvPicPr/>
            <p:nvPr/>
          </p:nvPicPr>
          <p:blipFill>
            <a:blip r:embed="rId11"/>
            <a:stretch/>
          </p:blipFill>
          <p:spPr>
            <a:xfrm>
              <a:off x="4673880" y="44280"/>
              <a:ext cx="227520" cy="22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2"/>
            <a:stretch/>
          </p:blipFill>
          <p:spPr>
            <a:xfrm>
              <a:off x="5801040" y="60840"/>
              <a:ext cx="227880" cy="22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>
            <a:off x="2828160" y="491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24 : 3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+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30600" y="4911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8360" y="449568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Let's try to do the same with the number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1440" y="529920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Check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equalit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31000" y="546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56160" y="5464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35880" y="546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41360" y="551196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What does slash mea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1880" y="647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S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20" y="1087560"/>
            <a:ext cx="49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the scale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490320" y="1447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add the sam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onto both the left and right sid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211680" y="1844640"/>
            <a:ext cx="55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he scale will still be i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balance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640" y="1020600"/>
            <a:ext cx="6911640" cy="1328400"/>
            <a:chOff x="539640" y="1020600"/>
            <a:chExt cx="6911640" cy="1328400"/>
          </a:xfrm>
        </p:grpSpPr>
        <p:sp>
          <p:nvSpPr>
            <p:cNvPr id="440" name=""/>
            <p:cNvSpPr/>
            <p:nvPr/>
          </p:nvSpPr>
          <p:spPr>
            <a:xfrm>
              <a:off x="539640" y="1020600"/>
              <a:ext cx="69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640" y="2349000"/>
              <a:ext cx="69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9640" y="1020600"/>
              <a:ext cx="0" cy="132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51280" y="1020600"/>
              <a:ext cx="0" cy="132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-59040" y="2521080"/>
            <a:ext cx="48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We can say it in another (mathematical) wa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1360" y="296064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f we hav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132480" y="37162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t will still be an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equality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0040" y="426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E.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544680" y="3321000"/>
            <a:ext cx="97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d if we </a:t>
            </a:r>
            <a:r>
              <a:rPr b="0" lang="hr-HR" sz="2000" spc="-1" strike="noStrike">
                <a:solidFill>
                  <a:srgbClr val="ffff00"/>
                </a:solidFill>
                <a:latin typeface="Tahoma"/>
              </a:rPr>
              <a:t>add the same amount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to both the left and right sid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39640" y="2894040"/>
            <a:ext cx="7632360" cy="1326600"/>
            <a:chOff x="539640" y="2894040"/>
            <a:chExt cx="7632360" cy="1326600"/>
          </a:xfrm>
        </p:grpSpPr>
        <p:sp>
          <p:nvSpPr>
            <p:cNvPr id="450" name=""/>
            <p:cNvSpPr/>
            <p:nvPr/>
          </p:nvSpPr>
          <p:spPr>
            <a:xfrm>
              <a:off x="539640" y="2894040"/>
              <a:ext cx="76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9640" y="4220640"/>
              <a:ext cx="7632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9640" y="2894040"/>
              <a:ext cx="0" cy="132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72000" y="2894040"/>
              <a:ext cx="0" cy="132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739880" y="256536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What about subtracting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from both sid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77120" y="39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Tahoma"/>
              </a:rPr>
              <a:t>Exampl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-50400" y="9748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This scale is in bal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48292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69892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287280" cy="270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2157120" y="2195640"/>
            <a:ext cx="3060000" cy="1102680"/>
            <a:chOff x="2157120" y="2195640"/>
            <a:chExt cx="3060000" cy="1102680"/>
          </a:xfrm>
        </p:grpSpPr>
        <p:grpSp>
          <p:nvGrpSpPr>
            <p:cNvPr id="461" name=""/>
            <p:cNvGrpSpPr/>
            <p:nvPr/>
          </p:nvGrpSpPr>
          <p:grpSpPr>
            <a:xfrm>
              <a:off x="2157120" y="2573280"/>
              <a:ext cx="3060000" cy="725040"/>
              <a:chOff x="2157120" y="2573280"/>
              <a:chExt cx="3060000" cy="725040"/>
            </a:xfrm>
          </p:grpSpPr>
          <p:sp>
            <p:nvSpPr>
              <p:cNvPr id="462" name=""/>
              <p:cNvSpPr/>
              <p:nvPr/>
            </p:nvSpPr>
            <p:spPr>
              <a:xfrm>
                <a:off x="215712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7904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73360" y="270972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51440" y="2709720"/>
                <a:ext cx="649800" cy="1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12316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901240" y="2573280"/>
                <a:ext cx="93960" cy="13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576160" y="2709720"/>
                <a:ext cx="180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98440" y="2709720"/>
                <a:ext cx="1440" cy="178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76160" y="2887920"/>
                <a:ext cx="222192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87480" y="2688840"/>
                <a:ext cx="1440" cy="608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78520" y="3296880"/>
                <a:ext cx="817560" cy="1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73" name="" descr=""/>
            <p:cNvPicPr/>
            <p:nvPr/>
          </p:nvPicPr>
          <p:blipFill>
            <a:blip r:embed="rId4"/>
            <a:stretch/>
          </p:blipFill>
          <p:spPr>
            <a:xfrm>
              <a:off x="2195640" y="2195640"/>
              <a:ext cx="35064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5"/>
            <a:stretch/>
          </p:blipFill>
          <p:spPr>
            <a:xfrm>
              <a:off x="4356000" y="234936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6"/>
            <a:stretch/>
          </p:blipFill>
          <p:spPr>
            <a:xfrm>
              <a:off x="4716360" y="2438280"/>
              <a:ext cx="287280" cy="27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4932360" y="243828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8"/>
          <a:stretch/>
        </p:blipFill>
        <p:spPr>
          <a:xfrm>
            <a:off x="4789440" y="2205000"/>
            <a:ext cx="28728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9"/>
          <a:stretch/>
        </p:blipFill>
        <p:spPr>
          <a:xfrm>
            <a:off x="4572000" y="2222640"/>
            <a:ext cx="287280" cy="269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-564840" y="3925800"/>
            <a:ext cx="84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f we remove (subtract)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3 equal strawberries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from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each sid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-7200" y="4357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t will stay in 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70840" y="4329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balance 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-133200" y="393372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Let's write it mathemat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52120" y="45990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In the beginning there were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7:57:49Z</dcterms:created>
  <dc:creator>Antonija</dc:creator>
  <dc:description/>
  <dc:language>en-US</dc:language>
  <cp:lastModifiedBy>Antonija</cp:lastModifiedBy>
  <dcterms:modified xsi:type="dcterms:W3CDTF">2007-04-19T21:22:33Z</dcterms:modified>
  <cp:revision>354</cp:revision>
  <dc:subject/>
  <dc:title>Jednadžbe i vaganje</dc:title>
</cp:coreProperties>
</file>