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13D-6338-4CA2-BE5B-4085D44D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1451-D658-4753-B9B4-42F5306D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2FA-56CF-4DC3-B2FC-D56070B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EE4-1DE0-4731-A598-47B4E84E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BB7D-820F-4555-BC81-8418F50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B30-FD76-40B7-8126-3356D996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93D5-8EEB-4BC4-98AE-2CAE23FE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12CB-F9EB-478C-8099-DD619FA3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11A3-54D3-4E05-96FC-C2222C7A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08E-33C1-4B33-939F-B07803FC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C90-3B2F-496F-BE8A-B9A0D74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9CB-597E-43DD-BCCC-22743CD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22E7-2397-4969-B0E4-82D02CA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8A8-E30F-4CAB-8507-BD5112E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FBF6-2162-4523-9C3C-39ED6C3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5F45-587C-43E1-BE9B-20BA9DF6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2DCC-EA84-4297-A9AC-659C1F94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C33-AC0C-4758-9F0A-FCE9AE06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91FE-E607-43D1-BF1B-0D80C82C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84C-4CAC-4D4E-8B7A-5F5D4622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C51-5E4F-4BB1-BCE2-D421816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915-EE88-4041-82C5-ED7777A6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394-59E5-439C-AC94-FB1AE12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F3C-4963-4D53-9F78-D35CC67B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045-DB4F-4076-82C1-702F562277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822-38F4-435C-91D6-FD7A3DAFB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ahorvatek@yahoo.com" TargetMode="External"/><Relationship Id="rId2" Type="http://schemas.openxmlformats.org/officeDocument/2006/relationships/hyperlink" Target="mailto:ahorvatek@yahoo.com" TargetMode="External"/><Relationship Id="rId3" Type="http://schemas.openxmlformats.org/officeDocument/2006/relationships/hyperlink" Target="mailto:ahorvatek@yahoo.com" TargetMode="External"/><Relationship Id="rId4" Type="http://schemas.openxmlformats.org/officeDocument/2006/relationships/hyperlink" Target="mailto:ahorvatek@yahoo.com" TargetMode="External"/><Relationship Id="rId5" Type="http://schemas.openxmlformats.org/officeDocument/2006/relationships/hyperlink" Target="mailto:ahorvatek@yahoo.com" TargetMode="External"/><Relationship Id="rId6" Type="http://schemas.openxmlformats.org/officeDocument/2006/relationships/hyperlink" Target="http://public.carnet.hr/~ahorvate" TargetMode="External"/><Relationship Id="rId7" Type="http://schemas.openxmlformats.org/officeDocument/2006/relationships/hyperlink" Target="http://public.carnet.hr/~ahorvate" TargetMode="External"/><Relationship Id="rId8" Type="http://schemas.openxmlformats.org/officeDocument/2006/relationships/hyperlink" Target="http://public.carnet.hr/~ahorvate" TargetMode="External"/><Relationship Id="rId9" Type="http://schemas.openxmlformats.org/officeDocument/2006/relationships/hyperlink" Target="http://public.carnet.hr/~ahorvate" TargetMode="External"/><Relationship Id="rId10" Type="http://schemas.openxmlformats.org/officeDocument/2006/relationships/hyperlink" Target="http://public.carnet.hr/~ahorvate" TargetMode="External"/><Relationship Id="rId11" Type="http://schemas.openxmlformats.org/officeDocument/2006/relationships/hyperlink" Target="http://public.carnet.hr/~ahorvate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124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800" spc="-1" strike="noStrike">
                <a:solidFill>
                  <a:srgbClr val="ffcc66"/>
                </a:solidFill>
                <a:latin typeface="Monotype Corsiva"/>
              </a:rPr>
              <a:t>Functions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45960" y="88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76720" y="2666880"/>
            <a:ext cx="47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s given the function in that wa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995640" y="2997360"/>
            <a:ext cx="20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No, it isn'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76720" y="3716280"/>
            <a:ext cx="20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hy no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176720" y="4076640"/>
            <a:ext cx="50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February maps to two numbers 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2560" y="892080"/>
            <a:ext cx="3241440" cy="4626000"/>
            <a:chOff x="682560" y="892080"/>
            <a:chExt cx="3241440" cy="4626000"/>
          </a:xfrm>
        </p:grpSpPr>
        <p:sp>
          <p:nvSpPr>
            <p:cNvPr id="557" name=""/>
            <p:cNvSpPr/>
            <p:nvPr/>
          </p:nvSpPr>
          <p:spPr>
            <a:xfrm>
              <a:off x="2843640" y="938160"/>
              <a:ext cx="84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994400" y="892080"/>
              <a:ext cx="694080" cy="520560"/>
              <a:chOff x="1994400" y="892080"/>
              <a:chExt cx="694080" cy="520560"/>
            </a:xfrm>
          </p:grpSpPr>
          <p:sp>
            <p:nvSpPr>
              <p:cNvPr id="559" name=""/>
              <p:cNvSpPr/>
              <p:nvPr/>
            </p:nvSpPr>
            <p:spPr>
              <a:xfrm>
                <a:off x="1994400" y="89208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0492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757080" y="9381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anua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43640" y="13143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8, 2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1994400" y="1268280"/>
              <a:ext cx="694080" cy="520560"/>
              <a:chOff x="1994400" y="1268280"/>
              <a:chExt cx="694080" cy="520560"/>
            </a:xfrm>
          </p:grpSpPr>
          <p:sp>
            <p:nvSpPr>
              <p:cNvPr id="564" name=""/>
              <p:cNvSpPr/>
              <p:nvPr/>
            </p:nvSpPr>
            <p:spPr>
              <a:xfrm>
                <a:off x="1994400" y="126828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0492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84360" y="1314360"/>
              <a:ext cx="15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Februa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43640" y="167472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1994400" y="1628640"/>
              <a:ext cx="694080" cy="520560"/>
              <a:chOff x="1994400" y="1628640"/>
              <a:chExt cx="694080" cy="520560"/>
            </a:xfrm>
          </p:grpSpPr>
          <p:sp>
            <p:nvSpPr>
              <p:cNvPr id="569" name=""/>
              <p:cNvSpPr/>
              <p:nvPr/>
            </p:nvSpPr>
            <p:spPr>
              <a:xfrm>
                <a:off x="1994400" y="162864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0492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84360" y="16747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Mar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843640" y="206064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1994400" y="2060640"/>
              <a:ext cx="694080" cy="520560"/>
              <a:chOff x="1994400" y="2060640"/>
              <a:chExt cx="694080" cy="520560"/>
            </a:xfrm>
          </p:grpSpPr>
          <p:sp>
            <p:nvSpPr>
              <p:cNvPr id="574" name=""/>
              <p:cNvSpPr/>
              <p:nvPr/>
            </p:nvSpPr>
            <p:spPr>
              <a:xfrm>
                <a:off x="1994400" y="206064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04920" y="2306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84360" y="2060640"/>
              <a:ext cx="138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Apri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43640" y="242100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994400" y="2374920"/>
              <a:ext cx="694080" cy="520560"/>
              <a:chOff x="1994400" y="2374920"/>
              <a:chExt cx="694080" cy="520560"/>
            </a:xfrm>
          </p:grpSpPr>
          <p:sp>
            <p:nvSpPr>
              <p:cNvPr id="579" name=""/>
              <p:cNvSpPr/>
              <p:nvPr/>
            </p:nvSpPr>
            <p:spPr>
              <a:xfrm>
                <a:off x="1994400" y="237492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0492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684360" y="2421000"/>
              <a:ext cx="13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M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43640" y="281160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1994400" y="2765520"/>
              <a:ext cx="694080" cy="520560"/>
              <a:chOff x="1994400" y="2765520"/>
              <a:chExt cx="694080" cy="520560"/>
            </a:xfrm>
          </p:grpSpPr>
          <p:sp>
            <p:nvSpPr>
              <p:cNvPr id="584" name=""/>
              <p:cNvSpPr/>
              <p:nvPr/>
            </p:nvSpPr>
            <p:spPr>
              <a:xfrm>
                <a:off x="1994400" y="276552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0492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684360" y="2811600"/>
              <a:ext cx="14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u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3640" y="317196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994400" y="3125880"/>
              <a:ext cx="694080" cy="520560"/>
              <a:chOff x="1994400" y="3125880"/>
              <a:chExt cx="694080" cy="520560"/>
            </a:xfrm>
          </p:grpSpPr>
          <p:sp>
            <p:nvSpPr>
              <p:cNvPr id="589" name=""/>
              <p:cNvSpPr/>
              <p:nvPr/>
            </p:nvSpPr>
            <p:spPr>
              <a:xfrm>
                <a:off x="1994400" y="3125880"/>
                <a:ext cx="694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04920" y="3372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684360" y="3171960"/>
              <a:ext cx="17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ul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41840" y="354636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1992960" y="3500280"/>
              <a:ext cx="693720" cy="520560"/>
              <a:chOff x="1992960" y="3500280"/>
              <a:chExt cx="693720" cy="520560"/>
            </a:xfrm>
          </p:grpSpPr>
          <p:sp>
            <p:nvSpPr>
              <p:cNvPr id="594" name=""/>
              <p:cNvSpPr/>
              <p:nvPr/>
            </p:nvSpPr>
            <p:spPr>
              <a:xfrm>
                <a:off x="1992960" y="3500280"/>
                <a:ext cx="69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03480" y="3746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82560" y="3546360"/>
              <a:ext cx="161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Augu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1840" y="393228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992960" y="3932280"/>
              <a:ext cx="693720" cy="520560"/>
              <a:chOff x="1992960" y="3932280"/>
              <a:chExt cx="693720" cy="520560"/>
            </a:xfrm>
          </p:grpSpPr>
          <p:sp>
            <p:nvSpPr>
              <p:cNvPr id="599" name=""/>
              <p:cNvSpPr/>
              <p:nvPr/>
            </p:nvSpPr>
            <p:spPr>
              <a:xfrm>
                <a:off x="1992960" y="3932280"/>
                <a:ext cx="69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103480" y="4178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682560" y="3932280"/>
              <a:ext cx="18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cc66"/>
                  </a:solidFill>
                  <a:latin typeface="Comic Sans MS"/>
                </a:rPr>
                <a:t>Septemb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992960" y="4246560"/>
              <a:ext cx="693720" cy="520560"/>
              <a:chOff x="1992960" y="4246560"/>
              <a:chExt cx="693720" cy="520560"/>
            </a:xfrm>
          </p:grpSpPr>
          <p:sp>
            <p:nvSpPr>
              <p:cNvPr id="603" name=""/>
              <p:cNvSpPr/>
              <p:nvPr/>
            </p:nvSpPr>
            <p:spPr>
              <a:xfrm>
                <a:off x="1992960" y="4246560"/>
                <a:ext cx="69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103480" y="44928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682560" y="4292640"/>
              <a:ext cx="138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Octo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1992960" y="4637160"/>
              <a:ext cx="693720" cy="520560"/>
              <a:chOff x="1992960" y="4637160"/>
              <a:chExt cx="693720" cy="520560"/>
            </a:xfrm>
          </p:grpSpPr>
          <p:sp>
            <p:nvSpPr>
              <p:cNvPr id="607" name=""/>
              <p:cNvSpPr/>
              <p:nvPr/>
            </p:nvSpPr>
            <p:spPr>
              <a:xfrm>
                <a:off x="1992960" y="4637160"/>
                <a:ext cx="69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03480" y="48834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682560" y="4683240"/>
              <a:ext cx="14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Novem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992960" y="4997520"/>
              <a:ext cx="693720" cy="520560"/>
              <a:chOff x="1992960" y="4997520"/>
              <a:chExt cx="693720" cy="520560"/>
            </a:xfrm>
          </p:grpSpPr>
          <p:sp>
            <p:nvSpPr>
              <p:cNvPr id="611" name=""/>
              <p:cNvSpPr/>
              <p:nvPr/>
            </p:nvSpPr>
            <p:spPr>
              <a:xfrm>
                <a:off x="1992960" y="4997520"/>
                <a:ext cx="69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03480" y="5243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682560" y="5043600"/>
              <a:ext cx="17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Decem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843640" y="429264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43640" y="468324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43640" y="5043600"/>
              <a:ext cx="72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4138560" y="9381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03640" y="1700280"/>
            <a:ext cx="45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month maps to the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0360" y="205884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of days in that mont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290680" y="32220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45960" y="88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828720" y="892080"/>
            <a:ext cx="2881440" cy="2003400"/>
            <a:chOff x="828720" y="892080"/>
            <a:chExt cx="2881440" cy="2003400"/>
          </a:xfrm>
        </p:grpSpPr>
        <p:sp>
          <p:nvSpPr>
            <p:cNvPr id="624" name=""/>
            <p:cNvSpPr/>
            <p:nvPr/>
          </p:nvSpPr>
          <p:spPr>
            <a:xfrm>
              <a:off x="828720" y="9381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333440" y="892080"/>
              <a:ext cx="647640" cy="520560"/>
              <a:chOff x="1333440" y="892080"/>
              <a:chExt cx="647640" cy="520560"/>
            </a:xfrm>
          </p:grpSpPr>
          <p:sp>
            <p:nvSpPr>
              <p:cNvPr id="626" name=""/>
              <p:cNvSpPr/>
              <p:nvPr/>
            </p:nvSpPr>
            <p:spPr>
              <a:xfrm>
                <a:off x="133344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43676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982880" y="93816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o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8720" y="1314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1333440" y="1268280"/>
              <a:ext cx="647640" cy="520560"/>
              <a:chOff x="1333440" y="1268280"/>
              <a:chExt cx="647640" cy="520560"/>
            </a:xfrm>
          </p:grpSpPr>
          <p:sp>
            <p:nvSpPr>
              <p:cNvPr id="631" name=""/>
              <p:cNvSpPr/>
              <p:nvPr/>
            </p:nvSpPr>
            <p:spPr>
              <a:xfrm>
                <a:off x="133344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43676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1982880" y="1314360"/>
              <a:ext cx="143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tw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28720" y="1674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333440" y="1628640"/>
              <a:ext cx="647640" cy="520560"/>
              <a:chOff x="1333440" y="1628640"/>
              <a:chExt cx="647640" cy="520560"/>
            </a:xfrm>
          </p:grpSpPr>
          <p:sp>
            <p:nvSpPr>
              <p:cNvPr id="636" name=""/>
              <p:cNvSpPr/>
              <p:nvPr/>
            </p:nvSpPr>
            <p:spPr>
              <a:xfrm>
                <a:off x="133344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43676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982880" y="1674720"/>
              <a:ext cx="15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thre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2872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333440" y="1989000"/>
              <a:ext cx="647640" cy="520560"/>
              <a:chOff x="1333440" y="1989000"/>
              <a:chExt cx="647640" cy="52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133344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3676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1982880" y="2060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fou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8720" y="2421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333440" y="2374920"/>
              <a:ext cx="647640" cy="520560"/>
              <a:chOff x="1333440" y="2374920"/>
              <a:chExt cx="647640" cy="520560"/>
            </a:xfrm>
          </p:grpSpPr>
          <p:sp>
            <p:nvSpPr>
              <p:cNvPr id="646" name=""/>
              <p:cNvSpPr/>
              <p:nvPr/>
            </p:nvSpPr>
            <p:spPr>
              <a:xfrm>
                <a:off x="1333440" y="23749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43676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1982880" y="2421000"/>
              <a:ext cx="12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fiv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3710160" y="981000"/>
            <a:ext cx="43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73440" y="1773360"/>
            <a:ext cx="500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digit from 1 to 5 maps to 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73440" y="213840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name/appropriate wo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90680" y="32220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746520" y="2924280"/>
            <a:ext cx="514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s given the function in this wa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6920" y="3271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Yes, it 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708360" y="384012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xplain your answ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4322880"/>
            <a:ext cx="557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ach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digit in the left column maps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e </a:t>
            </a: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xactly one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word in the second o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0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84440" y="1339920"/>
            <a:ext cx="199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Rememb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42160" y="2435400"/>
            <a:ext cx="246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Comic Sans MS"/>
              </a:rPr>
              <a:t>Function ma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018160" y="2924280"/>
            <a:ext cx="49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ffff00"/>
                </a:solidFill>
                <a:uFillTx/>
                <a:latin typeface="Comic Sans MS"/>
              </a:rPr>
              <a:t>each</a:t>
            </a:r>
            <a:r>
              <a:rPr b="0" lang="hr-HR" sz="2600" spc="-1" strike="noStrike">
                <a:solidFill>
                  <a:srgbClr val="ffff00"/>
                </a:solidFill>
                <a:latin typeface="Comic Sans MS"/>
              </a:rPr>
              <a:t> element from the first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378800" y="3427560"/>
            <a:ext cx="62067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Comic Sans MS"/>
              </a:rPr>
              <a:t>to the </a:t>
            </a:r>
            <a:r>
              <a:rPr b="0" lang="hr-HR" sz="2600" spc="-1" strike="noStrike" u="sng">
                <a:solidFill>
                  <a:srgbClr val="ffff00"/>
                </a:solidFill>
                <a:uFillTx/>
                <a:latin typeface="Comic Sans MS"/>
              </a:rPr>
              <a:t>exactly one e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00"/>
                </a:solidFill>
                <a:latin typeface="Comic Sans MS"/>
              </a:rPr>
              <a:t>from the second or the same (first) se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258920" y="2203560"/>
            <a:ext cx="6479640" cy="2520000"/>
            <a:chOff x="1258920" y="2203560"/>
            <a:chExt cx="6479640" cy="2520000"/>
          </a:xfrm>
        </p:grpSpPr>
        <p:sp>
          <p:nvSpPr>
            <p:cNvPr id="663" name=""/>
            <p:cNvSpPr/>
            <p:nvPr/>
          </p:nvSpPr>
          <p:spPr>
            <a:xfrm>
              <a:off x="1258920" y="2203560"/>
              <a:ext cx="6479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58920" y="4723560"/>
              <a:ext cx="6479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58920" y="2203560"/>
              <a:ext cx="0" cy="2520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738560" y="2203560"/>
              <a:ext cx="0" cy="2520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ssolve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1645200" y="2062080"/>
            <a:ext cx="594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Mathematicians as mathematician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26160" y="2581200"/>
            <a:ext cx="657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...they like to map 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Comic Sans MS"/>
              </a:rPr>
              <a:t>numbers</a:t>
            </a: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Comic Sans MS"/>
              </a:rPr>
              <a:t>numbers</a:t>
            </a: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297440" y="3516480"/>
            <a:ext cx="670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So, let's consider some number example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25800" y="2498760"/>
            <a:ext cx="507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s given the function in this wa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916360" y="283356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Yes, it 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025800" y="3408480"/>
            <a:ext cx="32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xplain your answ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89440" y="3819600"/>
            <a:ext cx="615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ach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number in the first column maps to the </a:t>
            </a: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xactly one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number in the second o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87640" y="90792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952720" y="160956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number in the first column maps to the double numb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755640" y="892080"/>
            <a:ext cx="1800360" cy="2394000"/>
            <a:chOff x="755640" y="892080"/>
            <a:chExt cx="1800360" cy="2394000"/>
          </a:xfrm>
        </p:grpSpPr>
        <p:sp>
          <p:nvSpPr>
            <p:cNvPr id="678" name=""/>
            <p:cNvSpPr/>
            <p:nvPr/>
          </p:nvSpPr>
          <p:spPr>
            <a:xfrm>
              <a:off x="828720" y="9381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1333440" y="892080"/>
              <a:ext cx="647640" cy="520560"/>
              <a:chOff x="1333440" y="892080"/>
              <a:chExt cx="647640" cy="520560"/>
            </a:xfrm>
          </p:grpSpPr>
          <p:sp>
            <p:nvSpPr>
              <p:cNvPr id="680" name=""/>
              <p:cNvSpPr/>
              <p:nvPr/>
            </p:nvSpPr>
            <p:spPr>
              <a:xfrm>
                <a:off x="133344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3676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28720" y="1314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333440" y="1268280"/>
              <a:ext cx="647640" cy="520560"/>
              <a:chOff x="1333440" y="1268280"/>
              <a:chExt cx="647640" cy="520560"/>
            </a:xfrm>
          </p:grpSpPr>
          <p:sp>
            <p:nvSpPr>
              <p:cNvPr id="684" name=""/>
              <p:cNvSpPr/>
              <p:nvPr/>
            </p:nvSpPr>
            <p:spPr>
              <a:xfrm>
                <a:off x="133344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3676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828720" y="1674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333440" y="1628640"/>
              <a:ext cx="647640" cy="520560"/>
              <a:chOff x="1333440" y="1628640"/>
              <a:chExt cx="647640" cy="520560"/>
            </a:xfrm>
          </p:grpSpPr>
          <p:sp>
            <p:nvSpPr>
              <p:cNvPr id="688" name=""/>
              <p:cNvSpPr/>
              <p:nvPr/>
            </p:nvSpPr>
            <p:spPr>
              <a:xfrm>
                <a:off x="133344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3676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82872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1333440" y="1989000"/>
              <a:ext cx="647640" cy="520560"/>
              <a:chOff x="1333440" y="1989000"/>
              <a:chExt cx="647640" cy="520560"/>
            </a:xfrm>
          </p:grpSpPr>
          <p:sp>
            <p:nvSpPr>
              <p:cNvPr id="692" name=""/>
              <p:cNvSpPr/>
              <p:nvPr/>
            </p:nvSpPr>
            <p:spPr>
              <a:xfrm>
                <a:off x="133344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3676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55640" y="2421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1333440" y="2374920"/>
              <a:ext cx="647640" cy="520560"/>
              <a:chOff x="1333440" y="2374920"/>
              <a:chExt cx="647640" cy="520560"/>
            </a:xfrm>
          </p:grpSpPr>
          <p:sp>
            <p:nvSpPr>
              <p:cNvPr id="696" name=""/>
              <p:cNvSpPr/>
              <p:nvPr/>
            </p:nvSpPr>
            <p:spPr>
              <a:xfrm>
                <a:off x="1333440" y="23749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43676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2050920" y="9367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50920" y="1312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79640" y="1673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79640" y="2075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79640" y="2455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640" y="28116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1333440" y="2765520"/>
              <a:ext cx="647640" cy="520560"/>
              <a:chOff x="1333440" y="2765520"/>
              <a:chExt cx="647640" cy="520560"/>
            </a:xfrm>
          </p:grpSpPr>
          <p:sp>
            <p:nvSpPr>
              <p:cNvPr id="705" name=""/>
              <p:cNvSpPr/>
              <p:nvPr/>
            </p:nvSpPr>
            <p:spPr>
              <a:xfrm>
                <a:off x="1333440" y="2765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43676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1979640" y="2846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75564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2916360" y="938160"/>
            <a:ext cx="62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f we want to describ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the 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52720" y="170028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is function maps each number to the double numb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916360" y="12733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unctio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211640" y="126828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e can sa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16360" y="2492280"/>
            <a:ext cx="62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Mathematicians don't like to write so long sentences, so they devised shorter no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ere it 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32000" y="386064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mic Sans MS"/>
              </a:rPr>
              <a:t>f (x) = 2∙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989440" y="4581360"/>
            <a:ext cx="30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explain it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1979640" y="4365720"/>
            <a:ext cx="1152360" cy="5760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-108000" y="488808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is the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of th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-254160" y="55515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The name of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can be any le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We will use most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the letters  </a:t>
            </a:r>
            <a:r>
              <a:rPr b="0" lang="hr-HR" sz="1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, </a:t>
            </a:r>
            <a:r>
              <a:rPr b="0" lang="hr-HR" sz="1800" spc="-1" strike="noStrike">
                <a:solidFill>
                  <a:srgbClr val="ffff00"/>
                </a:solidFill>
                <a:latin typeface="Comic Sans MS"/>
              </a:rPr>
              <a:t>g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, </a:t>
            </a:r>
            <a:r>
              <a:rPr b="0" lang="hr-HR" sz="18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780000" y="4365360"/>
            <a:ext cx="0" cy="86364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79640" y="5375160"/>
            <a:ext cx="34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in the paren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represents any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which maps to something</a:t>
            </a: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4932000" y="4437000"/>
            <a:ext cx="934920" cy="4320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6720" y="4941720"/>
            <a:ext cx="40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Expression </a:t>
            </a: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2∙x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after the </a:t>
            </a: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says to which number maps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number </a:t>
            </a: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from parenth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435640" y="5884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In this example it maps to </a:t>
            </a:r>
            <a:r>
              <a:rPr b="0" lang="hr-HR" sz="1800" spc="-1" strike="noStrike">
                <a:solidFill>
                  <a:srgbClr val="ffff00"/>
                </a:solidFill>
                <a:latin typeface="Comic Sans MS"/>
              </a:rPr>
              <a:t>2∙x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that is to the double numb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755640" y="892080"/>
            <a:ext cx="1800360" cy="2394000"/>
            <a:chOff x="755640" y="892080"/>
            <a:chExt cx="1800360" cy="2394000"/>
          </a:xfrm>
        </p:grpSpPr>
        <p:sp>
          <p:nvSpPr>
            <p:cNvPr id="726" name=""/>
            <p:cNvSpPr/>
            <p:nvPr/>
          </p:nvSpPr>
          <p:spPr>
            <a:xfrm>
              <a:off x="828720" y="9381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1333440" y="892080"/>
              <a:ext cx="647640" cy="520560"/>
              <a:chOff x="1333440" y="892080"/>
              <a:chExt cx="647640" cy="520560"/>
            </a:xfrm>
          </p:grpSpPr>
          <p:sp>
            <p:nvSpPr>
              <p:cNvPr id="728" name=""/>
              <p:cNvSpPr/>
              <p:nvPr/>
            </p:nvSpPr>
            <p:spPr>
              <a:xfrm>
                <a:off x="133344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43676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828720" y="1314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1333440" y="1268280"/>
              <a:ext cx="647640" cy="520560"/>
              <a:chOff x="1333440" y="1268280"/>
              <a:chExt cx="647640" cy="520560"/>
            </a:xfrm>
          </p:grpSpPr>
          <p:sp>
            <p:nvSpPr>
              <p:cNvPr id="732" name=""/>
              <p:cNvSpPr/>
              <p:nvPr/>
            </p:nvSpPr>
            <p:spPr>
              <a:xfrm>
                <a:off x="133344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43676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828720" y="1674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333440" y="1628640"/>
              <a:ext cx="647640" cy="520560"/>
              <a:chOff x="1333440" y="1628640"/>
              <a:chExt cx="647640" cy="520560"/>
            </a:xfrm>
          </p:grpSpPr>
          <p:sp>
            <p:nvSpPr>
              <p:cNvPr id="736" name=""/>
              <p:cNvSpPr/>
              <p:nvPr/>
            </p:nvSpPr>
            <p:spPr>
              <a:xfrm>
                <a:off x="133344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3676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82872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1333440" y="1989000"/>
              <a:ext cx="647640" cy="520560"/>
              <a:chOff x="1333440" y="1989000"/>
              <a:chExt cx="647640" cy="520560"/>
            </a:xfrm>
          </p:grpSpPr>
          <p:sp>
            <p:nvSpPr>
              <p:cNvPr id="740" name=""/>
              <p:cNvSpPr/>
              <p:nvPr/>
            </p:nvSpPr>
            <p:spPr>
              <a:xfrm>
                <a:off x="133344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43676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55640" y="2421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" name=""/>
            <p:cNvGrpSpPr/>
            <p:nvPr/>
          </p:nvGrpSpPr>
          <p:grpSpPr>
            <a:xfrm>
              <a:off x="1333440" y="2374920"/>
              <a:ext cx="647640" cy="520560"/>
              <a:chOff x="1333440" y="2374920"/>
              <a:chExt cx="647640" cy="520560"/>
            </a:xfrm>
          </p:grpSpPr>
          <p:sp>
            <p:nvSpPr>
              <p:cNvPr id="744" name=""/>
              <p:cNvSpPr/>
              <p:nvPr/>
            </p:nvSpPr>
            <p:spPr>
              <a:xfrm>
                <a:off x="1333440" y="23749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43676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2050920" y="9367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050920" y="1312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79640" y="1673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979640" y="2075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979640" y="2455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5640" y="28116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1333440" y="2765520"/>
              <a:ext cx="647640" cy="520560"/>
              <a:chOff x="1333440" y="2765520"/>
              <a:chExt cx="647640" cy="520560"/>
            </a:xfrm>
          </p:grpSpPr>
          <p:sp>
            <p:nvSpPr>
              <p:cNvPr id="753" name=""/>
              <p:cNvSpPr/>
              <p:nvPr/>
            </p:nvSpPr>
            <p:spPr>
              <a:xfrm>
                <a:off x="1333440" y="2765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43676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1979640" y="2846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75564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5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8" dur="50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1" dur="50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4" dur="50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611280" y="486900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e read i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403280" y="4365720"/>
            <a:ext cx="1297080" cy="503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1280" y="48434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 f of x equals 2 times x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11280" y="5373720"/>
            <a:ext cx="36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o,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(x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should be rea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22560" y="5348160"/>
            <a:ext cx="17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 f  of  x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32000" y="386064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Comic Sans MS"/>
              </a:rPr>
              <a:t>f (x) = 2∙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98920" y="3645000"/>
            <a:ext cx="2665080" cy="93636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755640" y="892080"/>
            <a:ext cx="1800360" cy="2394000"/>
            <a:chOff x="755640" y="892080"/>
            <a:chExt cx="1800360" cy="2394000"/>
          </a:xfrm>
        </p:grpSpPr>
        <p:sp>
          <p:nvSpPr>
            <p:cNvPr id="765" name=""/>
            <p:cNvSpPr/>
            <p:nvPr/>
          </p:nvSpPr>
          <p:spPr>
            <a:xfrm>
              <a:off x="828720" y="9381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1333440" y="892080"/>
              <a:ext cx="647640" cy="520560"/>
              <a:chOff x="1333440" y="892080"/>
              <a:chExt cx="647640" cy="52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133344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43676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828720" y="1314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1333440" y="1268280"/>
              <a:ext cx="647640" cy="520560"/>
              <a:chOff x="1333440" y="1268280"/>
              <a:chExt cx="647640" cy="520560"/>
            </a:xfrm>
          </p:grpSpPr>
          <p:sp>
            <p:nvSpPr>
              <p:cNvPr id="771" name=""/>
              <p:cNvSpPr/>
              <p:nvPr/>
            </p:nvSpPr>
            <p:spPr>
              <a:xfrm>
                <a:off x="133344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43676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828720" y="1674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1333440" y="1628640"/>
              <a:ext cx="647640" cy="520560"/>
              <a:chOff x="1333440" y="1628640"/>
              <a:chExt cx="647640" cy="520560"/>
            </a:xfrm>
          </p:grpSpPr>
          <p:sp>
            <p:nvSpPr>
              <p:cNvPr id="775" name=""/>
              <p:cNvSpPr/>
              <p:nvPr/>
            </p:nvSpPr>
            <p:spPr>
              <a:xfrm>
                <a:off x="133344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3676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82872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333440" y="1989000"/>
              <a:ext cx="647640" cy="520560"/>
              <a:chOff x="1333440" y="1989000"/>
              <a:chExt cx="647640" cy="520560"/>
            </a:xfrm>
          </p:grpSpPr>
          <p:sp>
            <p:nvSpPr>
              <p:cNvPr id="779" name=""/>
              <p:cNvSpPr/>
              <p:nvPr/>
            </p:nvSpPr>
            <p:spPr>
              <a:xfrm>
                <a:off x="133344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43676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755640" y="2421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1333440" y="2374920"/>
              <a:ext cx="647640" cy="520560"/>
              <a:chOff x="1333440" y="2374920"/>
              <a:chExt cx="647640" cy="520560"/>
            </a:xfrm>
          </p:grpSpPr>
          <p:sp>
            <p:nvSpPr>
              <p:cNvPr id="783" name=""/>
              <p:cNvSpPr/>
              <p:nvPr/>
            </p:nvSpPr>
            <p:spPr>
              <a:xfrm>
                <a:off x="1333440" y="23749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43676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2050920" y="9367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050920" y="1312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979640" y="1673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979640" y="2075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979640" y="2455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55640" y="28116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333440" y="2765520"/>
              <a:ext cx="647640" cy="520560"/>
              <a:chOff x="1333440" y="2765520"/>
              <a:chExt cx="647640" cy="520560"/>
            </a:xfrm>
          </p:grpSpPr>
          <p:sp>
            <p:nvSpPr>
              <p:cNvPr id="792" name=""/>
              <p:cNvSpPr/>
              <p:nvPr/>
            </p:nvSpPr>
            <p:spPr>
              <a:xfrm>
                <a:off x="1333440" y="2765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3676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1979640" y="2846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75564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938160"/>
            <a:ext cx="62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f we want to describ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the 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952720" y="170028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is function maps each number to the double numb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16360" y="127332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unctio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11640" y="1268280"/>
            <a:ext cx="201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e can sa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6360" y="2492280"/>
            <a:ext cx="62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Mathematicians don't like to write so long sentences, so they devised shorter no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ere it 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77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3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2916360" y="920880"/>
            <a:ext cx="54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he notation   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(x) = 2∙x  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o which number maps any number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imilary, the notation 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(3) = 6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s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o which number maps the number 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t maps to the number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55640" y="892080"/>
            <a:ext cx="1800360" cy="2394000"/>
            <a:chOff x="755640" y="892080"/>
            <a:chExt cx="1800360" cy="2394000"/>
          </a:xfrm>
        </p:grpSpPr>
        <p:sp>
          <p:nvSpPr>
            <p:cNvPr id="804" name=""/>
            <p:cNvSpPr/>
            <p:nvPr/>
          </p:nvSpPr>
          <p:spPr>
            <a:xfrm>
              <a:off x="828720" y="9381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333440" y="892080"/>
              <a:ext cx="647640" cy="520560"/>
              <a:chOff x="1333440" y="892080"/>
              <a:chExt cx="647640" cy="520560"/>
            </a:xfrm>
          </p:grpSpPr>
          <p:sp>
            <p:nvSpPr>
              <p:cNvPr id="806" name=""/>
              <p:cNvSpPr/>
              <p:nvPr/>
            </p:nvSpPr>
            <p:spPr>
              <a:xfrm>
                <a:off x="133344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3676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/>
            <p:nvPr/>
          </p:nvSpPr>
          <p:spPr>
            <a:xfrm>
              <a:off x="828720" y="1314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333440" y="1268280"/>
              <a:ext cx="647640" cy="520560"/>
              <a:chOff x="1333440" y="1268280"/>
              <a:chExt cx="647640" cy="520560"/>
            </a:xfrm>
          </p:grpSpPr>
          <p:sp>
            <p:nvSpPr>
              <p:cNvPr id="810" name=""/>
              <p:cNvSpPr/>
              <p:nvPr/>
            </p:nvSpPr>
            <p:spPr>
              <a:xfrm>
                <a:off x="133344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3676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828720" y="16747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1333440" y="1628640"/>
              <a:ext cx="647640" cy="520560"/>
              <a:chOff x="1333440" y="1628640"/>
              <a:chExt cx="647640" cy="520560"/>
            </a:xfrm>
          </p:grpSpPr>
          <p:sp>
            <p:nvSpPr>
              <p:cNvPr id="814" name=""/>
              <p:cNvSpPr/>
              <p:nvPr/>
            </p:nvSpPr>
            <p:spPr>
              <a:xfrm>
                <a:off x="133344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43676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828720" y="20606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1333440" y="1989000"/>
              <a:ext cx="647640" cy="520560"/>
              <a:chOff x="1333440" y="1989000"/>
              <a:chExt cx="647640" cy="520560"/>
            </a:xfrm>
          </p:grpSpPr>
          <p:sp>
            <p:nvSpPr>
              <p:cNvPr id="818" name=""/>
              <p:cNvSpPr/>
              <p:nvPr/>
            </p:nvSpPr>
            <p:spPr>
              <a:xfrm>
                <a:off x="133344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43676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755640" y="24210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1333440" y="2374920"/>
              <a:ext cx="647640" cy="520560"/>
              <a:chOff x="1333440" y="2374920"/>
              <a:chExt cx="647640" cy="520560"/>
            </a:xfrm>
          </p:grpSpPr>
          <p:sp>
            <p:nvSpPr>
              <p:cNvPr id="822" name=""/>
              <p:cNvSpPr/>
              <p:nvPr/>
            </p:nvSpPr>
            <p:spPr>
              <a:xfrm>
                <a:off x="1333440" y="23749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43676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2050920" y="93672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0920" y="13129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979640" y="1673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79640" y="20750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79640" y="24559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5640" y="28116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1333440" y="2765520"/>
              <a:ext cx="647640" cy="520560"/>
              <a:chOff x="1333440" y="2765520"/>
              <a:chExt cx="647640" cy="520560"/>
            </a:xfrm>
          </p:grpSpPr>
          <p:sp>
            <p:nvSpPr>
              <p:cNvPr id="831" name=""/>
              <p:cNvSpPr/>
              <p:nvPr/>
            </p:nvSpPr>
            <p:spPr>
              <a:xfrm>
                <a:off x="1333440" y="2765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3676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1979640" y="2846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755640" y="29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40360" y="26002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6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6360" y="1628640"/>
            <a:ext cx="1979640" cy="5050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360" y="314640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e read the notation 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(3) = 6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in this wa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51280" y="3506760"/>
            <a:ext cx="36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 f of 3 equals 6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"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00000" y="37893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exercis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044720" y="4264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 (1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08000" y="42703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044720" y="4697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 (2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908000" y="47037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44720" y="5129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 (8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908000" y="51354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044720" y="5559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 (10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052720" y="55594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044720" y="59929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f (7,3)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22560" y="599292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00"/>
                </a:solidFill>
                <a:latin typeface="Comic Sans MS"/>
              </a:rPr>
              <a:t>14,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060720" y="42559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060720" y="4603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f of 1 equals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60720" y="4905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60720" y="524844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is function maps numb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o number 2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116000" y="458136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cecff"/>
                </a:solidFill>
                <a:latin typeface="Comic Sans MS"/>
              </a:rPr>
              <a:t>( Which number does number 1 map to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869080" y="1916280"/>
            <a:ext cx="1295280" cy="4330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11280" y="907920"/>
            <a:ext cx="1979640" cy="5050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11280" y="1268280"/>
            <a:ext cx="1979640" cy="5050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24360" y="907920"/>
            <a:ext cx="1548000" cy="4622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32000" y="4724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132000" y="5102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f of 2 equals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32000" y="547992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32000" y="582300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is function maps number 2 to number 4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14560" y="501336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ccecff"/>
                </a:solidFill>
                <a:latin typeface="Comic Sans MS"/>
              </a:rPr>
              <a:t>( Which number does number 2 map to ? 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4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88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10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10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0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3" dur="500"/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6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9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2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1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2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1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10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1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7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0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3" dur="5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6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2987640" y="938160"/>
            <a:ext cx="61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952720" y="1341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number maps to the number lesser by 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022560" y="2108160"/>
            <a:ext cx="61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ow to write it by using symbolic nota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11280" y="668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468360" y="1036800"/>
            <a:ext cx="1800000" cy="3185640"/>
            <a:chOff x="468360" y="1036800"/>
            <a:chExt cx="1800000" cy="3185640"/>
          </a:xfrm>
        </p:grpSpPr>
        <p:sp>
          <p:nvSpPr>
            <p:cNvPr id="871" name=""/>
            <p:cNvSpPr/>
            <p:nvPr/>
          </p:nvSpPr>
          <p:spPr>
            <a:xfrm>
              <a:off x="541440" y="1082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1046160" y="1036800"/>
              <a:ext cx="647640" cy="520560"/>
              <a:chOff x="1046160" y="1036800"/>
              <a:chExt cx="647640" cy="520560"/>
            </a:xfrm>
          </p:grpSpPr>
          <p:sp>
            <p:nvSpPr>
              <p:cNvPr id="873" name=""/>
              <p:cNvSpPr/>
              <p:nvPr/>
            </p:nvSpPr>
            <p:spPr>
              <a:xfrm>
                <a:off x="1046160" y="1036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149480" y="12830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541440" y="14590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6" name=""/>
            <p:cNvGrpSpPr/>
            <p:nvPr/>
          </p:nvGrpSpPr>
          <p:grpSpPr>
            <a:xfrm>
              <a:off x="1046160" y="1413000"/>
              <a:ext cx="647640" cy="520560"/>
              <a:chOff x="1046160" y="1413000"/>
              <a:chExt cx="647640" cy="520560"/>
            </a:xfrm>
          </p:grpSpPr>
          <p:sp>
            <p:nvSpPr>
              <p:cNvPr id="877" name=""/>
              <p:cNvSpPr/>
              <p:nvPr/>
            </p:nvSpPr>
            <p:spPr>
              <a:xfrm>
                <a:off x="1046160" y="1413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49480" y="1659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541440" y="1819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1046160" y="1773360"/>
              <a:ext cx="647640" cy="520560"/>
              <a:chOff x="1046160" y="1773360"/>
              <a:chExt cx="647640" cy="520560"/>
            </a:xfrm>
          </p:grpSpPr>
          <p:sp>
            <p:nvSpPr>
              <p:cNvPr id="881" name=""/>
              <p:cNvSpPr/>
              <p:nvPr/>
            </p:nvSpPr>
            <p:spPr>
              <a:xfrm>
                <a:off x="1046160" y="17733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49480" y="20196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41440" y="2205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1046160" y="2133720"/>
              <a:ext cx="647640" cy="520560"/>
              <a:chOff x="1046160" y="2133720"/>
              <a:chExt cx="647640" cy="520560"/>
            </a:xfrm>
          </p:grpSpPr>
          <p:sp>
            <p:nvSpPr>
              <p:cNvPr id="885" name=""/>
              <p:cNvSpPr/>
              <p:nvPr/>
            </p:nvSpPr>
            <p:spPr>
              <a:xfrm>
                <a:off x="1046160" y="21337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49480" y="23799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468360" y="2565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046160" y="2519280"/>
              <a:ext cx="647640" cy="520560"/>
              <a:chOff x="1046160" y="2519280"/>
              <a:chExt cx="647640" cy="520560"/>
            </a:xfrm>
          </p:grpSpPr>
          <p:sp>
            <p:nvSpPr>
              <p:cNvPr id="889" name=""/>
              <p:cNvSpPr/>
              <p:nvPr/>
            </p:nvSpPr>
            <p:spPr>
              <a:xfrm>
                <a:off x="1046160" y="2519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149480" y="2765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763640" y="10810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63640" y="1457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763640" y="1817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92360" y="2219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692360" y="2600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8360" y="29559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"/>
            <p:cNvGrpSpPr/>
            <p:nvPr/>
          </p:nvGrpSpPr>
          <p:grpSpPr>
            <a:xfrm>
              <a:off x="1046160" y="2909880"/>
              <a:ext cx="647640" cy="520560"/>
              <a:chOff x="1046160" y="2909880"/>
              <a:chExt cx="647640" cy="520560"/>
            </a:xfrm>
          </p:grpSpPr>
          <p:sp>
            <p:nvSpPr>
              <p:cNvPr id="898" name=""/>
              <p:cNvSpPr/>
              <p:nvPr/>
            </p:nvSpPr>
            <p:spPr>
              <a:xfrm>
                <a:off x="1046160" y="2909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49480" y="3156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1692360" y="29908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8360" y="33577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1046160" y="3311640"/>
              <a:ext cx="647640" cy="520560"/>
              <a:chOff x="1046160" y="3311640"/>
              <a:chExt cx="647640" cy="520560"/>
            </a:xfrm>
          </p:grpSpPr>
          <p:sp>
            <p:nvSpPr>
              <p:cNvPr id="903" name=""/>
              <p:cNvSpPr/>
              <p:nvPr/>
            </p:nvSpPr>
            <p:spPr>
              <a:xfrm>
                <a:off x="1046160" y="3311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149480" y="3557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692360" y="3392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8360" y="37479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07" name=""/>
            <p:cNvGrpSpPr/>
            <p:nvPr/>
          </p:nvGrpSpPr>
          <p:grpSpPr>
            <a:xfrm>
              <a:off x="1046160" y="3701880"/>
              <a:ext cx="647640" cy="520560"/>
              <a:chOff x="1046160" y="3701880"/>
              <a:chExt cx="647640" cy="520560"/>
            </a:xfrm>
          </p:grpSpPr>
          <p:sp>
            <p:nvSpPr>
              <p:cNvPr id="908" name=""/>
              <p:cNvSpPr/>
              <p:nvPr/>
            </p:nvSpPr>
            <p:spPr>
              <a:xfrm>
                <a:off x="1046160" y="3701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49480" y="3948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0" name=""/>
            <p:cNvSpPr/>
            <p:nvPr/>
          </p:nvSpPr>
          <p:spPr>
            <a:xfrm>
              <a:off x="1692360" y="37828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61128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348000" y="2540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Comic Sans MS"/>
              </a:rPr>
              <a:t>g (x)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392720" y="2540160"/>
            <a:ext cx="9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Comic Sans MS"/>
              </a:rPr>
              <a:t>x -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059280" y="3284640"/>
            <a:ext cx="2482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094200" y="3645000"/>
            <a:ext cx="51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g of x equals x minus 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195640" y="333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2916360" y="1052640"/>
            <a:ext cx="25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comple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52720" y="155592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g (4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1280" y="6681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468360" y="1036800"/>
            <a:ext cx="1800000" cy="3185640"/>
            <a:chOff x="468360" y="1036800"/>
            <a:chExt cx="1800000" cy="3185640"/>
          </a:xfrm>
        </p:grpSpPr>
        <p:sp>
          <p:nvSpPr>
            <p:cNvPr id="922" name=""/>
            <p:cNvSpPr/>
            <p:nvPr/>
          </p:nvSpPr>
          <p:spPr>
            <a:xfrm>
              <a:off x="541440" y="10825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1046160" y="1036800"/>
              <a:ext cx="647640" cy="520560"/>
              <a:chOff x="1046160" y="1036800"/>
              <a:chExt cx="647640" cy="520560"/>
            </a:xfrm>
          </p:grpSpPr>
          <p:sp>
            <p:nvSpPr>
              <p:cNvPr id="924" name=""/>
              <p:cNvSpPr/>
              <p:nvPr/>
            </p:nvSpPr>
            <p:spPr>
              <a:xfrm>
                <a:off x="1046160" y="1036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149480" y="12830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541440" y="145908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1046160" y="1413000"/>
              <a:ext cx="647640" cy="520560"/>
              <a:chOff x="1046160" y="1413000"/>
              <a:chExt cx="647640" cy="520560"/>
            </a:xfrm>
          </p:grpSpPr>
          <p:sp>
            <p:nvSpPr>
              <p:cNvPr id="928" name=""/>
              <p:cNvSpPr/>
              <p:nvPr/>
            </p:nvSpPr>
            <p:spPr>
              <a:xfrm>
                <a:off x="1046160" y="1413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149480" y="1659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541440" y="181944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1046160" y="1773360"/>
              <a:ext cx="647640" cy="520560"/>
              <a:chOff x="1046160" y="1773360"/>
              <a:chExt cx="647640" cy="520560"/>
            </a:xfrm>
          </p:grpSpPr>
          <p:sp>
            <p:nvSpPr>
              <p:cNvPr id="932" name=""/>
              <p:cNvSpPr/>
              <p:nvPr/>
            </p:nvSpPr>
            <p:spPr>
              <a:xfrm>
                <a:off x="1046160" y="17733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149480" y="20196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41440" y="220500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1046160" y="2133720"/>
              <a:ext cx="647640" cy="520560"/>
              <a:chOff x="1046160" y="2133720"/>
              <a:chExt cx="647640" cy="520560"/>
            </a:xfrm>
          </p:grpSpPr>
          <p:sp>
            <p:nvSpPr>
              <p:cNvPr id="936" name=""/>
              <p:cNvSpPr/>
              <p:nvPr/>
            </p:nvSpPr>
            <p:spPr>
              <a:xfrm>
                <a:off x="1046160" y="21337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149480" y="23799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468360" y="25653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1046160" y="2519280"/>
              <a:ext cx="647640" cy="520560"/>
              <a:chOff x="1046160" y="2519280"/>
              <a:chExt cx="647640" cy="520560"/>
            </a:xfrm>
          </p:grpSpPr>
          <p:sp>
            <p:nvSpPr>
              <p:cNvPr id="940" name=""/>
              <p:cNvSpPr/>
              <p:nvPr/>
            </p:nvSpPr>
            <p:spPr>
              <a:xfrm>
                <a:off x="1046160" y="2519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149480" y="2765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1763640" y="10810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763640" y="14572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763640" y="1817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692360" y="221940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692360" y="26002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68360" y="29559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1046160" y="2909880"/>
              <a:ext cx="647640" cy="520560"/>
              <a:chOff x="1046160" y="2909880"/>
              <a:chExt cx="647640" cy="520560"/>
            </a:xfrm>
          </p:grpSpPr>
          <p:sp>
            <p:nvSpPr>
              <p:cNvPr id="949" name=""/>
              <p:cNvSpPr/>
              <p:nvPr/>
            </p:nvSpPr>
            <p:spPr>
              <a:xfrm>
                <a:off x="1046160" y="2909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49480" y="3156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1692360" y="29908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8360" y="335772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1046160" y="3311640"/>
              <a:ext cx="647640" cy="520560"/>
              <a:chOff x="1046160" y="3311640"/>
              <a:chExt cx="647640" cy="520560"/>
            </a:xfrm>
          </p:grpSpPr>
          <p:sp>
            <p:nvSpPr>
              <p:cNvPr id="954" name=""/>
              <p:cNvSpPr/>
              <p:nvPr/>
            </p:nvSpPr>
            <p:spPr>
              <a:xfrm>
                <a:off x="1046160" y="3311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49480" y="3557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692360" y="33926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68360" y="374796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1046160" y="3701880"/>
              <a:ext cx="647640" cy="520560"/>
              <a:chOff x="1046160" y="3701880"/>
              <a:chExt cx="647640" cy="520560"/>
            </a:xfrm>
          </p:grpSpPr>
          <p:sp>
            <p:nvSpPr>
              <p:cNvPr id="959" name=""/>
              <p:cNvSpPr/>
              <p:nvPr/>
            </p:nvSpPr>
            <p:spPr>
              <a:xfrm>
                <a:off x="1046160" y="37018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49480" y="3948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1692360" y="37828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611280" y="4005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924360" y="1560600"/>
            <a:ext cx="46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60360" y="1441440"/>
            <a:ext cx="1979640" cy="43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59280" y="1574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859280" y="19335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g of 4 equals 1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859280" y="2295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859280" y="265572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is function maps number 4 to number 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952720" y="203184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g (-2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203040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74760" y="3716280"/>
            <a:ext cx="2109600" cy="476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32360" y="206064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932360" y="2367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g of -2 equals -5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32360" y="272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932360" y="308772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is function maps nu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-2 to number -5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973240" y="2492280"/>
            <a:ext cx="12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g (0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922560" y="251928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4000" y="2924280"/>
            <a:ext cx="2109600" cy="476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32360" y="2511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932360" y="2871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g of 0 equals -3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932360" y="3232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932360" y="359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This function maps number 0 to number -3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195640" y="333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10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10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10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2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5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8" dur="5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1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10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10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10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8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1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4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7" dur="5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0" dur="5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9" dur="1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1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3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6" dur="5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9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2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640" y="1271160"/>
            <a:ext cx="74880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What are func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What do functions consist of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What symbolic expressions do we use while writing func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51520" y="4316400"/>
            <a:ext cx="4610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Let's sta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by considering some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omic Sans MS"/>
              </a:rPr>
              <a:t>from everyday life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2268360" y="189000"/>
            <a:ext cx="66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complete the following notations if we want that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7320" y="189000"/>
            <a:ext cx="211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971640" y="134136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79640" y="1341360"/>
            <a:ext cx="8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5 ∙ 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95280" y="907920"/>
            <a:ext cx="720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a) maps each number to the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5 times greater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635280" y="13478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680000" y="1343160"/>
            <a:ext cx="8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5 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989440" y="1347840"/>
            <a:ext cx="50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971640" y="2276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79640" y="2276640"/>
            <a:ext cx="82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x +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95280" y="1844640"/>
            <a:ext cx="70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b) maps each number to the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number greater by 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971640" y="336240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979640" y="3355920"/>
            <a:ext cx="826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95280" y="2852640"/>
            <a:ext cx="720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) maps each number to the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 times lesser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979640" y="3141720"/>
            <a:ext cx="718920" cy="865440"/>
            <a:chOff x="1979640" y="3141720"/>
            <a:chExt cx="718920" cy="865440"/>
          </a:xfrm>
        </p:grpSpPr>
        <p:sp>
          <p:nvSpPr>
            <p:cNvPr id="999" name=""/>
            <p:cNvSpPr/>
            <p:nvPr/>
          </p:nvSpPr>
          <p:spPr>
            <a:xfrm>
              <a:off x="1979640" y="322740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ffff00"/>
                  </a:solidFill>
                  <a:latin typeface="Comic Sans MS"/>
                </a:rPr>
                <a:t>__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050920" y="314172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050920" y="3578040"/>
              <a:ext cx="647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ffff00"/>
                  </a:solidFill>
                  <a:latin typeface="Comic Sans MS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971640" y="443700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79640" y="44370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95280" y="400536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d) maps each number to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e same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971640" y="5300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79640" y="5300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-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95280" y="4869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) maps each number to the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opossite num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971640" y="623736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f (x) =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979640" y="623736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95280" y="580536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) maps each number to the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number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564" dur="indefinite" restart="never" nodeType="tmRoot">
          <p:childTnLst>
            <p:seq>
              <p:cTn id="1565" dur="indefinite" nodeType="mainSeq">
                <p:childTnLst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8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2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0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5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0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5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3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39640" y="90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Comic Sans MS"/>
              </a:rPr>
              <a:t>h (x) = 2x -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539640" y="1557360"/>
            <a:ext cx="23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ow to read i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39640" y="1986120"/>
            <a:ext cx="36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of x equals 2x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124000" y="333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ere is the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7" dur="10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1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7" dur="1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10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6" dur="5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19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39640" y="90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Comic Sans MS"/>
              </a:rPr>
              <a:t>h (x) = 2x -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24000" y="333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ere is the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95280" y="162864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find what the function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maps to the numbers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1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,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and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5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30200" y="407664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474920" y="4076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690560" y="4076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33480" y="407664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(-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409840" y="407664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625840" y="407664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33440" y="450360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77800" y="450360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835280" y="45036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474920" y="4430880"/>
            <a:ext cx="936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33440" y="494028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477800" y="494028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395280" y="4935600"/>
            <a:ext cx="1655640" cy="431640"/>
            <a:chOff x="395280" y="4935600"/>
            <a:chExt cx="1655640" cy="431640"/>
          </a:xfrm>
        </p:grpSpPr>
        <p:sp>
          <p:nvSpPr>
            <p:cNvPr id="1033" name=""/>
            <p:cNvSpPr/>
            <p:nvPr/>
          </p:nvSpPr>
          <p:spPr>
            <a:xfrm>
              <a:off x="395280" y="4935600"/>
              <a:ext cx="1655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5280" y="5367240"/>
              <a:ext cx="1655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5280" y="4935600"/>
              <a:ext cx="0" cy="431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50920" y="4935600"/>
              <a:ext cx="0" cy="431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95280" y="206064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o, we should calculate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,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3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and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5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95280" y="2708280"/>
            <a:ext cx="35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start with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213000"/>
            <a:ext cx="88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n calculating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, we need to use the function ru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8360" y="386064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insert the number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1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instead of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x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00360" y="408924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Insert number </a:t>
            </a: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-1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instead of  </a:t>
            </a:r>
            <a:r>
              <a:rPr b="0" lang="hr-HR" sz="2000" spc="-1" strike="noStrike">
                <a:solidFill>
                  <a:srgbClr val="ffcc00"/>
                </a:solidFill>
                <a:latin typeface="Comic Sans MS"/>
              </a:rPr>
              <a:t>x </a:t>
            </a:r>
            <a:r>
              <a:rPr b="0" lang="hr-HR" sz="2000" spc="-1" strike="noStrike">
                <a:solidFill>
                  <a:srgbClr val="ffffff"/>
                </a:solidFill>
                <a:latin typeface="Comic Sans MS"/>
              </a:rPr>
              <a:t>again,</a:t>
            </a:r>
            <a:r>
              <a:rPr b="0" lang="hr-HR" sz="2000" spc="-1" strike="noStrike">
                <a:solidFill>
                  <a:srgbClr val="ccecff"/>
                </a:solidFill>
                <a:latin typeface="Comic Sans MS"/>
              </a:rPr>
              <a:t> and rewite everything els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050920" y="450360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0000" y="4940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Now we know what number does the number </a:t>
            </a:r>
            <a:r>
              <a:rPr b="0" lang="hr-HR" sz="1800" spc="-1" strike="noStrike">
                <a:solidFill>
                  <a:srgbClr val="ffcc00"/>
                </a:solidFill>
                <a:latin typeface="Comic Sans MS"/>
              </a:rPr>
              <a:t>-1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 map 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It maps to the 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859280" y="52228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cc00"/>
                </a:solidFill>
                <a:latin typeface="Comic Sans MS"/>
              </a:rPr>
              <a:t>-9</a:t>
            </a: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79280" y="836640"/>
            <a:ext cx="2952720" cy="64764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0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2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7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3" dur="10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7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8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539640" y="90792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Comic Sans MS"/>
              </a:rPr>
              <a:t>h (x) = 2x -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0200" y="407664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474920" y="40766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690560" y="4076640"/>
            <a:ext cx="2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833480" y="407664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(-1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409840" y="407664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25840" y="407664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3440" y="450360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477800" y="450360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35280" y="450360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74920" y="4430880"/>
            <a:ext cx="936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33440" y="494028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-1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477800" y="494028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395280" y="4935600"/>
            <a:ext cx="1655640" cy="431640"/>
            <a:chOff x="395280" y="4935600"/>
            <a:chExt cx="1655640" cy="431640"/>
          </a:xfrm>
        </p:grpSpPr>
        <p:sp>
          <p:nvSpPr>
            <p:cNvPr id="1060" name=""/>
            <p:cNvSpPr/>
            <p:nvPr/>
          </p:nvSpPr>
          <p:spPr>
            <a:xfrm>
              <a:off x="395280" y="4935600"/>
              <a:ext cx="1655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95280" y="5367240"/>
              <a:ext cx="16556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95280" y="4935600"/>
              <a:ext cx="0" cy="431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50920" y="4935600"/>
              <a:ext cx="0" cy="4316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2050920" y="4503600"/>
            <a:ext cx="6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79280" y="836640"/>
            <a:ext cx="2952720" cy="64764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309840" y="408312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3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281480" y="408312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497480" y="40831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40400" y="4083120"/>
            <a:ext cx="71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929120" y="40831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145120" y="40831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313080" y="451008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3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286160" y="451008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570560" y="451008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2760" y="4443480"/>
            <a:ext cx="576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313080" y="494676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3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281480" y="4946760"/>
            <a:ext cx="50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274920" y="4941720"/>
            <a:ext cx="1509840" cy="432000"/>
            <a:chOff x="3274920" y="4941720"/>
            <a:chExt cx="1509840" cy="432000"/>
          </a:xfrm>
        </p:grpSpPr>
        <p:sp>
          <p:nvSpPr>
            <p:cNvPr id="1079" name=""/>
            <p:cNvSpPr/>
            <p:nvPr/>
          </p:nvSpPr>
          <p:spPr>
            <a:xfrm>
              <a:off x="3274920" y="4941720"/>
              <a:ext cx="15098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74920" y="5373720"/>
              <a:ext cx="15098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74920" y="4941720"/>
              <a:ext cx="0" cy="432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784760" y="4941720"/>
              <a:ext cx="0" cy="432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5977080" y="4083120"/>
            <a:ext cx="118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5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948360" y="40831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7164360" y="40831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307280" y="4083120"/>
            <a:ext cx="71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596360" y="4083120"/>
            <a:ext cx="50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812000" y="40831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979960" y="451008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5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953400" y="4510080"/>
            <a:ext cx="50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378560" y="4510080"/>
            <a:ext cx="36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7020000" y="4443480"/>
            <a:ext cx="5763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79960" y="4946760"/>
            <a:ext cx="11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 (5)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948360" y="4946760"/>
            <a:ext cx="50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5942160" y="4941720"/>
            <a:ext cx="1509480" cy="432000"/>
            <a:chOff x="5942160" y="4941720"/>
            <a:chExt cx="1509480" cy="432000"/>
          </a:xfrm>
        </p:grpSpPr>
        <p:sp>
          <p:nvSpPr>
            <p:cNvPr id="1096" name=""/>
            <p:cNvSpPr/>
            <p:nvPr/>
          </p:nvSpPr>
          <p:spPr>
            <a:xfrm>
              <a:off x="5942160" y="4941720"/>
              <a:ext cx="15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42160" y="5373720"/>
              <a:ext cx="15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42160" y="4941720"/>
              <a:ext cx="0" cy="432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51640" y="4941720"/>
              <a:ext cx="0" cy="4320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3203640" y="408780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hat about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3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203640" y="446724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e must start from the function rule agai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insert the number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instead of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786200" y="45147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596360" y="45147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124000" y="333360"/>
            <a:ext cx="33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Here is the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95280" y="162864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find what the function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maps to the numbers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-1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,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3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and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5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95280" y="206064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o, we should calculate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,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3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and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5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 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95280" y="2708280"/>
            <a:ext cx="35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Let's start with 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95280" y="3213000"/>
            <a:ext cx="885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n calculating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h(-1)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, we need to use the function ru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0" dur="10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10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9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2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5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5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0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0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867320" y="2058840"/>
            <a:ext cx="490500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I hope you underst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basics about fun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mic Sans MS"/>
              </a:rPr>
              <a:t>and enjoyed this presentatio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39640" y="438120"/>
            <a:ext cx="8064720" cy="5892840"/>
            <a:chOff x="539640" y="438120"/>
            <a:chExt cx="8064720" cy="5892840"/>
          </a:xfrm>
        </p:grpSpPr>
        <p:pic>
          <p:nvPicPr>
            <p:cNvPr id="1112" name="" descr=""/>
            <p:cNvPicPr/>
            <p:nvPr/>
          </p:nvPicPr>
          <p:blipFill>
            <a:blip r:embed="rId1"/>
            <a:stretch/>
          </p:blipFill>
          <p:spPr>
            <a:xfrm>
              <a:off x="4284720" y="4437000"/>
              <a:ext cx="102852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" descr=""/>
            <p:cNvPicPr/>
            <p:nvPr/>
          </p:nvPicPr>
          <p:blipFill>
            <a:blip r:embed="rId2"/>
            <a:stretch/>
          </p:blipFill>
          <p:spPr>
            <a:xfrm>
              <a:off x="7451640" y="3068640"/>
              <a:ext cx="5335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4" name="" descr=""/>
            <p:cNvPicPr/>
            <p:nvPr/>
          </p:nvPicPr>
          <p:blipFill>
            <a:blip r:embed="rId3"/>
            <a:stretch/>
          </p:blipFill>
          <p:spPr>
            <a:xfrm>
              <a:off x="539640" y="2133720"/>
              <a:ext cx="476280" cy="47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" descr=""/>
            <p:cNvPicPr/>
            <p:nvPr/>
          </p:nvPicPr>
          <p:blipFill>
            <a:blip r:embed="rId4"/>
            <a:stretch/>
          </p:blipFill>
          <p:spPr>
            <a:xfrm>
              <a:off x="6877080" y="549360"/>
              <a:ext cx="4762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6" name="" descr=""/>
            <p:cNvPicPr/>
            <p:nvPr/>
          </p:nvPicPr>
          <p:blipFill>
            <a:blip r:embed="rId5"/>
            <a:stretch/>
          </p:blipFill>
          <p:spPr>
            <a:xfrm>
              <a:off x="3564000" y="692280"/>
              <a:ext cx="190476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6"/>
            <a:stretch/>
          </p:blipFill>
          <p:spPr>
            <a:xfrm>
              <a:off x="900000" y="3860640"/>
              <a:ext cx="100800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7"/>
            <a:stretch/>
          </p:blipFill>
          <p:spPr>
            <a:xfrm>
              <a:off x="971640" y="43812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8"/>
            <a:stretch/>
          </p:blipFill>
          <p:spPr>
            <a:xfrm>
              <a:off x="7883640" y="1628640"/>
              <a:ext cx="720720" cy="5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0" name="" descr=""/>
            <p:cNvPicPr/>
            <p:nvPr/>
          </p:nvPicPr>
          <p:blipFill>
            <a:blip r:embed="rId9"/>
            <a:stretch/>
          </p:blipFill>
          <p:spPr>
            <a:xfrm>
              <a:off x="755640" y="5877000"/>
              <a:ext cx="4316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1" name="" descr=""/>
            <p:cNvPicPr/>
            <p:nvPr/>
          </p:nvPicPr>
          <p:blipFill>
            <a:blip r:embed="rId10"/>
            <a:stretch/>
          </p:blipFill>
          <p:spPr>
            <a:xfrm>
              <a:off x="2484360" y="51577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2" name="" descr=""/>
            <p:cNvPicPr/>
            <p:nvPr/>
          </p:nvPicPr>
          <p:blipFill>
            <a:blip r:embed="rId11"/>
            <a:stretch/>
          </p:blipFill>
          <p:spPr>
            <a:xfrm>
              <a:off x="8028000" y="52293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12"/>
            <a:stretch/>
          </p:blipFill>
          <p:spPr>
            <a:xfrm>
              <a:off x="6156360" y="5950080"/>
              <a:ext cx="4762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13"/>
            <a:stretch/>
          </p:blipFill>
          <p:spPr>
            <a:xfrm>
              <a:off x="6516720" y="3933720"/>
              <a:ext cx="382680" cy="587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over dir="d"/>
  </p:transition>
  <p:timing>
    <p:tnLst>
      <p:par>
        <p:cTn id="2016" dur="indefinite" restart="never" nodeType="tmRoot">
          <p:childTnLst>
            <p:seq>
              <p:cTn id="2017" dur="indefinite" nodeType="mainSeq">
                <p:childTnLst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2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1547640" y="1866960"/>
            <a:ext cx="626436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Monotype Corsiva"/>
              </a:rPr>
              <a:t>Author of  pres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ff00"/>
                </a:solidFill>
                <a:latin typeface="Monotype Corsiva"/>
              </a:rPr>
              <a:t>Antonija Horvate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Monotype Corsiva"/>
              </a:rPr>
              <a:t>Croat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00"/>
                </a:solidFill>
                <a:latin typeface="Monotype Corsiva"/>
              </a:rPr>
              <a:t>Made in April 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23" dur="indefinite" restart="never" nodeType="tmRoot">
          <p:childTnLst>
            <p:seq>
              <p:cTn id="2024" dur="indefinite" nodeType="mainSeq">
                <p:childTnLst>
                  <p:par>
                    <p:cTn id="2025" fill="hold">
                      <p:stCondLst>
                        <p:cond delay="0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9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925560" y="18637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f you want, you can use this presentation in your teac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lso, if you want, you can change some parts of it in this purpo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904320" y="2962440"/>
            <a:ext cx="59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But, if you want to use it in public lectures, workshop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n writing books, articles, on CDs and simila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then is nessesary to ask and to get permission of auth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840200" y="4653000"/>
            <a:ext cx="37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ntonija Horva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ahorvatek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@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yahoo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.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5"/>
              </a:rPr>
              <a:t>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7"/>
              </a:rPr>
              <a:t>public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8"/>
              </a:rPr>
              <a:t>.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9"/>
              </a:rPr>
              <a:t>carnet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10"/>
              </a:rPr>
              <a:t>.hr/~</a:t>
            </a:r>
            <a:r>
              <a:rPr b="0" lang="hr-HR" sz="1800" spc="-1" strike="noStrike" u="sng">
                <a:solidFill>
                  <a:srgbClr val="ffff00"/>
                </a:solidFill>
                <a:uFillTx/>
                <a:latin typeface="Arial"/>
                <a:hlinkClick r:id="rId11"/>
              </a:rPr>
              <a:t>ahor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6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9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3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8000" y="307800"/>
            <a:ext cx="211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ccecff"/>
                </a:solidFill>
                <a:uFillTx/>
                <a:latin typeface="Comic Sans MS"/>
              </a:rPr>
              <a:t>Example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95640" y="3222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When we were k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82224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about names of the week day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132552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the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 1st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 day is 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Monday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26226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e can write it in this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2611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900000" y="2565360"/>
            <a:ext cx="647640" cy="520560"/>
            <a:chOff x="900000" y="2565360"/>
            <a:chExt cx="647640" cy="520560"/>
          </a:xfrm>
        </p:grpSpPr>
        <p:sp>
          <p:nvSpPr>
            <p:cNvPr id="221" name=""/>
            <p:cNvSpPr/>
            <p:nvPr/>
          </p:nvSpPr>
          <p:spPr>
            <a:xfrm>
              <a:off x="900000" y="25653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03320" y="281160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549440" y="261144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Mo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38560" y="13255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the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 2nd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 one is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Tuesday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51280" y="184464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0872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and when we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3100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3054240"/>
            <a:ext cx="647640" cy="520560"/>
            <a:chOff x="900000" y="3054240"/>
            <a:chExt cx="647640" cy="520560"/>
          </a:xfrm>
        </p:grpSpPr>
        <p:sp>
          <p:nvSpPr>
            <p:cNvPr id="229" name=""/>
            <p:cNvSpPr/>
            <p:nvPr/>
          </p:nvSpPr>
          <p:spPr>
            <a:xfrm>
              <a:off x="900000" y="30542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03320" y="33004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549440" y="310032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Tu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3605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00000" y="3559320"/>
            <a:ext cx="647640" cy="520560"/>
            <a:chOff x="900000" y="3559320"/>
            <a:chExt cx="647640" cy="520560"/>
          </a:xfrm>
        </p:grpSpPr>
        <p:sp>
          <p:nvSpPr>
            <p:cNvPr id="234" name=""/>
            <p:cNvSpPr/>
            <p:nvPr/>
          </p:nvSpPr>
          <p:spPr>
            <a:xfrm>
              <a:off x="900000" y="35593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03320" y="380556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549440" y="36050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Wedne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124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00000" y="4078440"/>
            <a:ext cx="647640" cy="520560"/>
            <a:chOff x="900000" y="4078440"/>
            <a:chExt cx="647640" cy="520560"/>
          </a:xfrm>
        </p:grpSpPr>
        <p:sp>
          <p:nvSpPr>
            <p:cNvPr id="239" name=""/>
            <p:cNvSpPr/>
            <p:nvPr/>
          </p:nvSpPr>
          <p:spPr>
            <a:xfrm>
              <a:off x="900000" y="40784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03320" y="43246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549440" y="4124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Thurs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5280" y="46292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900000" y="4583160"/>
            <a:ext cx="647640" cy="520560"/>
            <a:chOff x="900000" y="4583160"/>
            <a:chExt cx="647640" cy="520560"/>
          </a:xfrm>
        </p:grpSpPr>
        <p:sp>
          <p:nvSpPr>
            <p:cNvPr id="244" name=""/>
            <p:cNvSpPr/>
            <p:nvPr/>
          </p:nvSpPr>
          <p:spPr>
            <a:xfrm>
              <a:off x="900000" y="45831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03320" y="482940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549440" y="4629240"/>
            <a:ext cx="12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Fri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5132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00000" y="5086440"/>
            <a:ext cx="647640" cy="520560"/>
            <a:chOff x="900000" y="5086440"/>
            <a:chExt cx="647640" cy="520560"/>
          </a:xfrm>
        </p:grpSpPr>
        <p:sp>
          <p:nvSpPr>
            <p:cNvPr id="249" name=""/>
            <p:cNvSpPr/>
            <p:nvPr/>
          </p:nvSpPr>
          <p:spPr>
            <a:xfrm>
              <a:off x="900000" y="50864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03320" y="53326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49440" y="513252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Satur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56372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00000" y="5591160"/>
            <a:ext cx="647640" cy="520560"/>
            <a:chOff x="900000" y="5591160"/>
            <a:chExt cx="647640" cy="520560"/>
          </a:xfrm>
        </p:grpSpPr>
        <p:sp>
          <p:nvSpPr>
            <p:cNvPr id="254" name=""/>
            <p:cNvSpPr/>
            <p:nvPr/>
          </p:nvSpPr>
          <p:spPr>
            <a:xfrm>
              <a:off x="900000" y="55911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03320" y="583740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549440" y="563724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Sun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9280" y="184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the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 3rd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 one is </a:t>
            </a: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Wednes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82920" y="25779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e can say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each number from 1 to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maps to one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2597040"/>
            <a:ext cx="54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In this way it is gi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the </a:t>
            </a:r>
            <a:r>
              <a:rPr b="0" lang="hr-HR" sz="2400" spc="-1" strike="noStrike">
                <a:solidFill>
                  <a:srgbClr val="ffcc00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hich maps each number from 1 to 7 to exactly one 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64000" y="8222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they told 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4594320"/>
            <a:ext cx="5113080" cy="1557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In the beggining of this less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remember t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function</a:t>
            </a: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“</a:t>
            </a: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maps something to something”</a:t>
            </a: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99880" y="30780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ccecff"/>
                </a:solidFill>
                <a:uFillTx/>
                <a:latin typeface="Comic Sans MS"/>
              </a:rPr>
              <a:t>Example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322200"/>
            <a:ext cx="61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In one little school there are six classes </a:t>
            </a: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(from the 5.a to the 8.b one)</a:t>
            </a:r>
            <a:r>
              <a:rPr b="0" lang="hr-HR" sz="2800" spc="-1" strike="noStrike">
                <a:solidFill>
                  <a:srgbClr val="ccec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14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5.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1413000"/>
            <a:ext cx="4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332000" y="1413000"/>
            <a:ext cx="647640" cy="520560"/>
            <a:chOff x="1332000" y="1413000"/>
            <a:chExt cx="647640" cy="520560"/>
          </a:xfrm>
        </p:grpSpPr>
        <p:sp>
          <p:nvSpPr>
            <p:cNvPr id="267" name=""/>
            <p:cNvSpPr/>
            <p:nvPr/>
          </p:nvSpPr>
          <p:spPr>
            <a:xfrm>
              <a:off x="1332000" y="1413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35320" y="165924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054160" y="142704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19573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5.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332000" y="1957320"/>
            <a:ext cx="647640" cy="520560"/>
            <a:chOff x="1332000" y="1957320"/>
            <a:chExt cx="647640" cy="520560"/>
          </a:xfrm>
        </p:grpSpPr>
        <p:sp>
          <p:nvSpPr>
            <p:cNvPr id="272" name=""/>
            <p:cNvSpPr/>
            <p:nvPr/>
          </p:nvSpPr>
          <p:spPr>
            <a:xfrm>
              <a:off x="1332000" y="19573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35320" y="220356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2720" y="1971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462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32000" y="2462040"/>
            <a:ext cx="647640" cy="520560"/>
            <a:chOff x="1332000" y="2462040"/>
            <a:chExt cx="647640" cy="520560"/>
          </a:xfrm>
        </p:grpSpPr>
        <p:sp>
          <p:nvSpPr>
            <p:cNvPr id="277" name=""/>
            <p:cNvSpPr/>
            <p:nvPr/>
          </p:nvSpPr>
          <p:spPr>
            <a:xfrm>
              <a:off x="1332000" y="24620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35320" y="27082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052720" y="247644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2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4360" y="30384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332000" y="3038400"/>
            <a:ext cx="647640" cy="520560"/>
            <a:chOff x="1332000" y="3038400"/>
            <a:chExt cx="647640" cy="520560"/>
          </a:xfrm>
        </p:grpSpPr>
        <p:sp>
          <p:nvSpPr>
            <p:cNvPr id="282" name=""/>
            <p:cNvSpPr/>
            <p:nvPr/>
          </p:nvSpPr>
          <p:spPr>
            <a:xfrm>
              <a:off x="1332000" y="30384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35320" y="328464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052720" y="30542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3573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8.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332000" y="3573360"/>
            <a:ext cx="647640" cy="520560"/>
            <a:chOff x="1332000" y="3573360"/>
            <a:chExt cx="647640" cy="520560"/>
          </a:xfrm>
        </p:grpSpPr>
        <p:sp>
          <p:nvSpPr>
            <p:cNvPr id="287" name=""/>
            <p:cNvSpPr/>
            <p:nvPr/>
          </p:nvSpPr>
          <p:spPr>
            <a:xfrm>
              <a:off x="1332000" y="35733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35320" y="381960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052720" y="357336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4149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8.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32000" y="4149720"/>
            <a:ext cx="647640" cy="520560"/>
            <a:chOff x="1332000" y="4149720"/>
            <a:chExt cx="647640" cy="520560"/>
          </a:xfrm>
        </p:grpSpPr>
        <p:sp>
          <p:nvSpPr>
            <p:cNvPr id="292" name=""/>
            <p:cNvSpPr/>
            <p:nvPr/>
          </p:nvSpPr>
          <p:spPr>
            <a:xfrm>
              <a:off x="1332000" y="41497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5320" y="439596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052720" y="41497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c66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68720" y="1582560"/>
            <a:ext cx="45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e can say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each class from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5.a to the 8.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maps to the numb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of the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68720" y="1484280"/>
            <a:ext cx="4464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In this way it is given the </a:t>
            </a:r>
            <a:r>
              <a:rPr b="0" lang="hr-HR" sz="2400" spc="-1" strike="noStrike">
                <a:solidFill>
                  <a:srgbClr val="ffcc00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hich maps each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from 5.a to 8.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to exactly one nu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14130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For each clas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e can count the number of the stud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80000" y="3878280"/>
            <a:ext cx="4752720" cy="1557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So, in this example ag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the fun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“</a:t>
            </a: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maps something to something”</a:t>
            </a: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952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Let's perceive the parts of functions through consid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356000" y="692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1st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770200" y="1268280"/>
            <a:ext cx="3746160" cy="3098880"/>
            <a:chOff x="2770200" y="1268280"/>
            <a:chExt cx="3746160" cy="3098880"/>
          </a:xfrm>
        </p:grpSpPr>
        <p:sp>
          <p:nvSpPr>
            <p:cNvPr id="302" name=""/>
            <p:cNvSpPr/>
            <p:nvPr/>
          </p:nvSpPr>
          <p:spPr>
            <a:xfrm>
              <a:off x="2770200" y="1325520"/>
              <a:ext cx="55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7920" y="1325520"/>
              <a:ext cx="478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3567960" y="1268280"/>
              <a:ext cx="716400" cy="520560"/>
              <a:chOff x="3567960" y="1268280"/>
              <a:chExt cx="716400" cy="520560"/>
            </a:xfrm>
          </p:grpSpPr>
          <p:sp>
            <p:nvSpPr>
              <p:cNvPr id="305" name=""/>
              <p:cNvSpPr/>
              <p:nvPr/>
            </p:nvSpPr>
            <p:spPr>
              <a:xfrm>
                <a:off x="3567960" y="126828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8208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4606560" y="1339920"/>
              <a:ext cx="175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cc66"/>
                  </a:solidFill>
                  <a:latin typeface="Comic Sans MS"/>
                </a:rPr>
                <a:t>Mond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70200" y="174312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567960" y="1685880"/>
              <a:ext cx="716400" cy="520560"/>
              <a:chOff x="3567960" y="1685880"/>
              <a:chExt cx="716400" cy="520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567960" y="168588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82080" y="1932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604760" y="1757520"/>
              <a:ext cx="159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Tues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70200" y="217476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567960" y="2117880"/>
              <a:ext cx="716400" cy="520560"/>
              <a:chOff x="3567960" y="2117880"/>
              <a:chExt cx="716400" cy="520560"/>
            </a:xfrm>
          </p:grpSpPr>
          <p:sp>
            <p:nvSpPr>
              <p:cNvPr id="315" name=""/>
              <p:cNvSpPr/>
              <p:nvPr/>
            </p:nvSpPr>
            <p:spPr>
              <a:xfrm>
                <a:off x="3567960" y="211788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82080" y="2364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4604760" y="2189160"/>
              <a:ext cx="167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Wednes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260820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67960" y="2550960"/>
              <a:ext cx="716400" cy="520560"/>
              <a:chOff x="3567960" y="2550960"/>
              <a:chExt cx="716400" cy="520560"/>
            </a:xfrm>
          </p:grpSpPr>
          <p:sp>
            <p:nvSpPr>
              <p:cNvPr id="320" name=""/>
              <p:cNvSpPr/>
              <p:nvPr/>
            </p:nvSpPr>
            <p:spPr>
              <a:xfrm>
                <a:off x="3567960" y="255096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82080" y="27972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604760" y="2622600"/>
              <a:ext cx="191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Thurs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70200" y="304020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567960" y="2982960"/>
              <a:ext cx="716400" cy="520560"/>
              <a:chOff x="3567960" y="2982960"/>
              <a:chExt cx="716400" cy="520560"/>
            </a:xfrm>
          </p:grpSpPr>
          <p:sp>
            <p:nvSpPr>
              <p:cNvPr id="325" name=""/>
              <p:cNvSpPr/>
              <p:nvPr/>
            </p:nvSpPr>
            <p:spPr>
              <a:xfrm>
                <a:off x="3567960" y="298296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82080" y="32292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604760" y="3054240"/>
              <a:ext cx="143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Fri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0200" y="347184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567960" y="3414600"/>
              <a:ext cx="716400" cy="520560"/>
              <a:chOff x="3567960" y="3414600"/>
              <a:chExt cx="716400" cy="520560"/>
            </a:xfrm>
          </p:grpSpPr>
          <p:sp>
            <p:nvSpPr>
              <p:cNvPr id="330" name=""/>
              <p:cNvSpPr/>
              <p:nvPr/>
            </p:nvSpPr>
            <p:spPr>
              <a:xfrm>
                <a:off x="3567960" y="341460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82080" y="36608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604760" y="348624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Satur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70200" y="3903840"/>
              <a:ext cx="47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567960" y="3846600"/>
              <a:ext cx="716400" cy="520560"/>
              <a:chOff x="3567960" y="3846600"/>
              <a:chExt cx="716400" cy="520560"/>
            </a:xfrm>
          </p:grpSpPr>
          <p:sp>
            <p:nvSpPr>
              <p:cNvPr id="335" name=""/>
              <p:cNvSpPr/>
              <p:nvPr/>
            </p:nvSpPr>
            <p:spPr>
              <a:xfrm>
                <a:off x="3567960" y="3846600"/>
                <a:ext cx="71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2080" y="40928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604760" y="3917880"/>
              <a:ext cx="183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Sun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95280" y="692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the previous two exampl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108000" y="480384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irst, here are the nu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627280" y="1125360"/>
            <a:ext cx="647640" cy="34560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-108000" y="516240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which we map to something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82920" y="480384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Besides, there are obj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82920" y="516240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o which we map something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97440" y="1125360"/>
            <a:ext cx="2303280" cy="34560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566100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And third, there is the </a:t>
            </a:r>
            <a:r>
              <a:rPr b="1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of mapping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6021360"/>
            <a:ext cx="33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.g. This </a:t>
            </a:r>
            <a:r>
              <a:rPr b="1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s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920" y="630540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not to e.g. </a:t>
            </a:r>
            <a:r>
              <a:rPr b="0" lang="hr-HR" sz="2200" spc="-1" strike="noStrike">
                <a:solidFill>
                  <a:srgbClr val="ffcc66"/>
                </a:solidFill>
                <a:latin typeface="Comic Sans MS"/>
              </a:rPr>
              <a:t>Friday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00360" y="6021360"/>
            <a:ext cx="561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o map number </a:t>
            </a:r>
            <a:r>
              <a:rPr b="0" lang="hr-HR" sz="2200" spc="-1" strike="noStrike">
                <a:solidFill>
                  <a:srgbClr val="ffcc66"/>
                </a:solidFill>
                <a:latin typeface="Comic Sans MS"/>
              </a:rPr>
              <a:t>1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strictly to the </a:t>
            </a:r>
            <a:r>
              <a:rPr b="0" lang="hr-HR" sz="2200" spc="-1" strike="noStrike">
                <a:solidFill>
                  <a:srgbClr val="ffcc66"/>
                </a:solidFill>
                <a:latin typeface="Comic Sans MS"/>
              </a:rPr>
              <a:t>Monday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551640" y="119700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ach function consist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230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66"/>
                </a:solidFill>
                <a:latin typeface="Comic Sans MS"/>
              </a:rPr>
              <a:t>- </a:t>
            </a:r>
            <a:r>
              <a:rPr b="1" lang="hr-HR" sz="2200" spc="-1" strike="noStrike">
                <a:solidFill>
                  <a:srgbClr val="ff0066"/>
                </a:solidFill>
                <a:latin typeface="Comic Sans MS"/>
              </a:rPr>
              <a:t>objects that we map to someth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2924280"/>
            <a:ext cx="24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ff00"/>
                </a:solidFill>
                <a:latin typeface="Comic Sans MS"/>
              </a:rPr>
              <a:t>- </a:t>
            </a:r>
            <a:r>
              <a:rPr b="1" lang="hr-HR" sz="2200" spc="-1" strike="noStrike">
                <a:solidFill>
                  <a:srgbClr val="00ff00"/>
                </a:solidFill>
                <a:latin typeface="Comic Sans MS"/>
              </a:rPr>
              <a:t>objects to which we map someth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39337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hr-HR" sz="2200" spc="-1" strike="noStrike">
                <a:solidFill>
                  <a:srgbClr val="ffff00"/>
                </a:solidFill>
                <a:latin typeface="Comic Sans MS"/>
              </a:rPr>
              <a:t>rule of map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516720" y="1052640"/>
            <a:ext cx="2519280" cy="3670920"/>
            <a:chOff x="6516720" y="1052640"/>
            <a:chExt cx="2519280" cy="3670920"/>
          </a:xfrm>
        </p:grpSpPr>
        <p:sp>
          <p:nvSpPr>
            <p:cNvPr id="354" name=""/>
            <p:cNvSpPr/>
            <p:nvPr/>
          </p:nvSpPr>
          <p:spPr>
            <a:xfrm>
              <a:off x="6516720" y="1052640"/>
              <a:ext cx="25192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16720" y="4723560"/>
              <a:ext cx="25192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516720" y="1052640"/>
              <a:ext cx="0" cy="3670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36000" y="1052640"/>
              <a:ext cx="0" cy="36709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95280" y="33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Let's find these parts in the 2nd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48000" y="1197000"/>
            <a:ext cx="61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0066"/>
                </a:solidFill>
                <a:latin typeface="Comic Sans MS"/>
              </a:rPr>
              <a:t>Which objects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map to someth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1054080"/>
            <a:ext cx="1081080" cy="287964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48000" y="1628640"/>
            <a:ext cx="61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Classes 5.a, 5.b, 6., ... 8.b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08000" y="981000"/>
            <a:ext cx="1151280" cy="28828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39640" y="1125360"/>
            <a:ext cx="2522520" cy="2536920"/>
            <a:chOff x="539640" y="1125360"/>
            <a:chExt cx="2522520" cy="2536920"/>
          </a:xfrm>
        </p:grpSpPr>
        <p:sp>
          <p:nvSpPr>
            <p:cNvPr id="364" name=""/>
            <p:cNvSpPr/>
            <p:nvPr/>
          </p:nvSpPr>
          <p:spPr>
            <a:xfrm>
              <a:off x="1042920" y="1182600"/>
              <a:ext cx="432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1332000" y="1125360"/>
              <a:ext cx="647640" cy="520560"/>
              <a:chOff x="1332000" y="1125360"/>
              <a:chExt cx="647640" cy="520560"/>
            </a:xfrm>
          </p:grpSpPr>
          <p:sp>
            <p:nvSpPr>
              <p:cNvPr id="366" name=""/>
              <p:cNvSpPr/>
              <p:nvPr/>
            </p:nvSpPr>
            <p:spPr>
              <a:xfrm>
                <a:off x="1332000" y="11253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435320" y="13716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1332000" y="1484280"/>
              <a:ext cx="647640" cy="520560"/>
              <a:chOff x="1332000" y="1484280"/>
              <a:chExt cx="647640" cy="520560"/>
            </a:xfrm>
          </p:grpSpPr>
          <p:sp>
            <p:nvSpPr>
              <p:cNvPr id="369" name=""/>
              <p:cNvSpPr/>
              <p:nvPr/>
            </p:nvSpPr>
            <p:spPr>
              <a:xfrm>
                <a:off x="1332000" y="1484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35320" y="1730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332000" y="1916280"/>
              <a:ext cx="647640" cy="520560"/>
              <a:chOff x="1332000" y="1916280"/>
              <a:chExt cx="647640" cy="520560"/>
            </a:xfrm>
          </p:grpSpPr>
          <p:sp>
            <p:nvSpPr>
              <p:cNvPr id="372" name=""/>
              <p:cNvSpPr/>
              <p:nvPr/>
            </p:nvSpPr>
            <p:spPr>
              <a:xfrm>
                <a:off x="1332000" y="1916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35320" y="2162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332000" y="2333520"/>
              <a:ext cx="647640" cy="520560"/>
              <a:chOff x="1332000" y="2333520"/>
              <a:chExt cx="647640" cy="520560"/>
            </a:xfrm>
          </p:grpSpPr>
          <p:sp>
            <p:nvSpPr>
              <p:cNvPr id="375" name=""/>
              <p:cNvSpPr/>
              <p:nvPr/>
            </p:nvSpPr>
            <p:spPr>
              <a:xfrm>
                <a:off x="1332000" y="2333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35320" y="2579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332000" y="2765520"/>
              <a:ext cx="647640" cy="520560"/>
              <a:chOff x="1332000" y="2765520"/>
              <a:chExt cx="647640" cy="520560"/>
            </a:xfrm>
          </p:grpSpPr>
          <p:sp>
            <p:nvSpPr>
              <p:cNvPr id="378" name=""/>
              <p:cNvSpPr/>
              <p:nvPr/>
            </p:nvSpPr>
            <p:spPr>
              <a:xfrm>
                <a:off x="1332000" y="27655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3532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332000" y="3141720"/>
              <a:ext cx="647640" cy="520560"/>
              <a:chOff x="1332000" y="3141720"/>
              <a:chExt cx="647640" cy="520560"/>
            </a:xfrm>
          </p:grpSpPr>
          <p:sp>
            <p:nvSpPr>
              <p:cNvPr id="381" name=""/>
              <p:cNvSpPr/>
              <p:nvPr/>
            </p:nvSpPr>
            <p:spPr>
              <a:xfrm>
                <a:off x="1332000" y="314172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35320" y="33879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539640" y="119700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.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0000" y="1197000"/>
              <a:ext cx="4320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8520" y="12114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162864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.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98520" y="1643040"/>
              <a:ext cx="7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360" y="201456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98520" y="2028960"/>
              <a:ext cx="6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84360" y="24210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7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98520" y="24368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9640" y="2827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.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98520" y="2827440"/>
              <a:ext cx="6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9640" y="32590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.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98520" y="3259080"/>
              <a:ext cx="7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3348000" y="2289240"/>
            <a:ext cx="54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hey map to the - </a:t>
            </a:r>
            <a:r>
              <a:rPr b="0" lang="hr-HR" sz="2200" spc="-1" strike="noStrike">
                <a:solidFill>
                  <a:srgbClr val="00ff00"/>
                </a:solidFill>
                <a:latin typeface="Comic Sans MS"/>
              </a:rPr>
              <a:t>which objects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348000" y="2714760"/>
            <a:ext cx="51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ey map to 21, 19, 26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48000" y="342900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e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48000" y="3854520"/>
            <a:ext cx="51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class maps to the number of th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48000" y="4214880"/>
            <a:ext cx="511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students in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8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9988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ample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82920" y="3222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In the family Horvat there are four ki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8360" y="11001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I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15969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9800" y="21016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M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5280" y="256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Ja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547640" y="1062000"/>
            <a:ext cx="647640" cy="520560"/>
            <a:chOff x="1547640" y="1062000"/>
            <a:chExt cx="647640" cy="520560"/>
          </a:xfrm>
        </p:grpSpPr>
        <p:sp>
          <p:nvSpPr>
            <p:cNvPr id="408" name=""/>
            <p:cNvSpPr/>
            <p:nvPr/>
          </p:nvSpPr>
          <p:spPr>
            <a:xfrm>
              <a:off x="1547640" y="106200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50960" y="130824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341440" y="1052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547640" y="1509840"/>
            <a:ext cx="647640" cy="520560"/>
            <a:chOff x="1547640" y="1509840"/>
            <a:chExt cx="647640" cy="520560"/>
          </a:xfrm>
        </p:grpSpPr>
        <p:sp>
          <p:nvSpPr>
            <p:cNvPr id="412" name=""/>
            <p:cNvSpPr/>
            <p:nvPr/>
          </p:nvSpPr>
          <p:spPr>
            <a:xfrm>
              <a:off x="1547640" y="15098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50960" y="17560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2341440" y="1563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yellow, o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547640" y="2014560"/>
            <a:ext cx="647640" cy="520560"/>
            <a:chOff x="1547640" y="2014560"/>
            <a:chExt cx="647640" cy="520560"/>
          </a:xfrm>
        </p:grpSpPr>
        <p:sp>
          <p:nvSpPr>
            <p:cNvPr id="416" name=""/>
            <p:cNvSpPr/>
            <p:nvPr/>
          </p:nvSpPr>
          <p:spPr>
            <a:xfrm>
              <a:off x="1547640" y="201456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50960" y="226080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2341440" y="2068560"/>
            <a:ext cx="25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547640" y="2517840"/>
            <a:ext cx="647640" cy="520560"/>
            <a:chOff x="1547640" y="2517840"/>
            <a:chExt cx="647640" cy="520560"/>
          </a:xfrm>
        </p:grpSpPr>
        <p:sp>
          <p:nvSpPr>
            <p:cNvPr id="420" name=""/>
            <p:cNvSpPr/>
            <p:nvPr/>
          </p:nvSpPr>
          <p:spPr>
            <a:xfrm>
              <a:off x="1547640" y="251784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800" spc="-1" strike="noStrike">
                  <a:solidFill>
                    <a:srgbClr val="ccecff"/>
                  </a:solidFill>
                  <a:latin typeface="Times New Roman"/>
                  <a:ea typeface="Times New Roman"/>
                </a:rPr>
                <a:t>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50960" y="2764080"/>
              <a:ext cx="0" cy="73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341440" y="25639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66"/>
                </a:solidFill>
                <a:latin typeface="Comic Sans MS"/>
              </a:rPr>
              <a:t>-  </a:t>
            </a:r>
            <a:r>
              <a:rPr b="0" lang="hr-HR" sz="2000" spc="-1" strike="noStrike">
                <a:solidFill>
                  <a:srgbClr val="ffcc66"/>
                </a:solidFill>
                <a:latin typeface="Comic Sans MS"/>
              </a:rPr>
              <a:t>(he doesn't have favorite 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114948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We can ask each k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about his/her favorite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6560" y="309888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the differences between this mapping and the previous on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5640" y="379404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Ana has got </a:t>
            </a: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two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favorite col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41781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Janko hasn't got </a:t>
            </a: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neither one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favorite col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6560" y="468324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unction </a:t>
            </a:r>
            <a:r>
              <a:rPr b="0" lang="hr-HR" sz="2200" spc="-1" strike="noStrike" u="sng">
                <a:solidFill>
                  <a:srgbClr val="ccecff"/>
                </a:solidFill>
                <a:uFillTx/>
                <a:latin typeface="Comic Sans MS"/>
              </a:rPr>
              <a:t>doesn't allow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neither of these two cases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6560" y="5186520"/>
            <a:ext cx="22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Function alway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6560" y="5937120"/>
            <a:ext cx="813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So, in this example it is NOT the func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6560" y="626112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ecff"/>
                </a:solidFill>
                <a:latin typeface="Comic Sans MS"/>
              </a:rPr>
              <a:t>(there is some mapping, but it is not called fun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627280" y="518148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ma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8360" y="5522760"/>
            <a:ext cx="431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to the</a:t>
            </a:r>
            <a:r>
              <a:rPr b="1" lang="hr-HR" sz="2200" spc="-1" strike="noStrike">
                <a:solidFill>
                  <a:srgbClr val="ffcc66"/>
                </a:solidFill>
                <a:latin typeface="Comic Sans MS"/>
              </a:rPr>
              <a:t> exactly one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objec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67280" y="55418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n the second column 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21080" y="5157720"/>
            <a:ext cx="496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cc66"/>
                </a:solidFill>
                <a:latin typeface="Comic Sans MS"/>
              </a:rPr>
              <a:t>each object 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n the first colum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90680" y="322200"/>
            <a:ext cx="59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45960" y="88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84360" y="892080"/>
            <a:ext cx="3526920" cy="4626000"/>
            <a:chOff x="684360" y="892080"/>
            <a:chExt cx="3526920" cy="4626000"/>
          </a:xfrm>
        </p:grpSpPr>
        <p:sp>
          <p:nvSpPr>
            <p:cNvPr id="439" name=""/>
            <p:cNvSpPr/>
            <p:nvPr/>
          </p:nvSpPr>
          <p:spPr>
            <a:xfrm>
              <a:off x="841680" y="9381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390680" y="892080"/>
              <a:ext cx="704160" cy="520560"/>
              <a:chOff x="1390680" y="892080"/>
              <a:chExt cx="704160" cy="520560"/>
            </a:xfrm>
          </p:grpSpPr>
          <p:sp>
            <p:nvSpPr>
              <p:cNvPr id="441" name=""/>
              <p:cNvSpPr/>
              <p:nvPr/>
            </p:nvSpPr>
            <p:spPr>
              <a:xfrm>
                <a:off x="1390680" y="89208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0300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2097360" y="938160"/>
              <a:ext cx="211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anua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680" y="131436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1390680" y="1268280"/>
              <a:ext cx="704160" cy="520560"/>
              <a:chOff x="1390680" y="1268280"/>
              <a:chExt cx="704160" cy="520560"/>
            </a:xfrm>
          </p:grpSpPr>
          <p:sp>
            <p:nvSpPr>
              <p:cNvPr id="446" name=""/>
              <p:cNvSpPr/>
              <p:nvPr/>
            </p:nvSpPr>
            <p:spPr>
              <a:xfrm>
                <a:off x="1390680" y="126828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0300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2097360" y="131436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Februa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1680" y="167472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1390680" y="1628640"/>
              <a:ext cx="704160" cy="520560"/>
              <a:chOff x="1390680" y="1628640"/>
              <a:chExt cx="704160" cy="520560"/>
            </a:xfrm>
          </p:grpSpPr>
          <p:sp>
            <p:nvSpPr>
              <p:cNvPr id="451" name=""/>
              <p:cNvSpPr/>
              <p:nvPr/>
            </p:nvSpPr>
            <p:spPr>
              <a:xfrm>
                <a:off x="1390680" y="162864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50300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097360" y="1674720"/>
              <a:ext cx="164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Mar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1680" y="206064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1390680" y="2060640"/>
              <a:ext cx="704160" cy="520560"/>
              <a:chOff x="1390680" y="2060640"/>
              <a:chExt cx="704160" cy="520560"/>
            </a:xfrm>
          </p:grpSpPr>
          <p:sp>
            <p:nvSpPr>
              <p:cNvPr id="456" name=""/>
              <p:cNvSpPr/>
              <p:nvPr/>
            </p:nvSpPr>
            <p:spPr>
              <a:xfrm>
                <a:off x="1390680" y="206064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03000" y="2306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2097360" y="2060640"/>
              <a:ext cx="187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Apri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1680" y="242100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390680" y="2374920"/>
              <a:ext cx="704160" cy="520560"/>
              <a:chOff x="1390680" y="2374920"/>
              <a:chExt cx="704160" cy="520560"/>
            </a:xfrm>
          </p:grpSpPr>
          <p:sp>
            <p:nvSpPr>
              <p:cNvPr id="461" name=""/>
              <p:cNvSpPr/>
              <p:nvPr/>
            </p:nvSpPr>
            <p:spPr>
              <a:xfrm>
                <a:off x="1390680" y="237492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503000" y="26211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097360" y="2421000"/>
              <a:ext cx="140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M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41680" y="281160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390680" y="2765520"/>
              <a:ext cx="704160" cy="520560"/>
              <a:chOff x="1390680" y="2765520"/>
              <a:chExt cx="704160" cy="520560"/>
            </a:xfrm>
          </p:grpSpPr>
          <p:sp>
            <p:nvSpPr>
              <p:cNvPr id="466" name=""/>
              <p:cNvSpPr/>
              <p:nvPr/>
            </p:nvSpPr>
            <p:spPr>
              <a:xfrm>
                <a:off x="1390680" y="276552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503000" y="3011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2097360" y="2811600"/>
              <a:ext cx="148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un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1680" y="3171960"/>
              <a:ext cx="4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1390680" y="3125880"/>
              <a:ext cx="704160" cy="520560"/>
              <a:chOff x="1390680" y="3125880"/>
              <a:chExt cx="704160" cy="520560"/>
            </a:xfrm>
          </p:grpSpPr>
          <p:sp>
            <p:nvSpPr>
              <p:cNvPr id="471" name=""/>
              <p:cNvSpPr/>
              <p:nvPr/>
            </p:nvSpPr>
            <p:spPr>
              <a:xfrm>
                <a:off x="1390680" y="312588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03000" y="33721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2097360" y="317196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Jul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9520" y="354636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389240" y="3500280"/>
              <a:ext cx="704160" cy="520560"/>
              <a:chOff x="1389240" y="3500280"/>
              <a:chExt cx="704160" cy="520560"/>
            </a:xfrm>
          </p:grpSpPr>
          <p:sp>
            <p:nvSpPr>
              <p:cNvPr id="476" name=""/>
              <p:cNvSpPr/>
              <p:nvPr/>
            </p:nvSpPr>
            <p:spPr>
              <a:xfrm>
                <a:off x="1389240" y="350028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501560" y="3746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2095560" y="3546360"/>
              <a:ext cx="164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Augu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9520" y="393228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389240" y="3932280"/>
              <a:ext cx="704160" cy="520560"/>
              <a:chOff x="1389240" y="3932280"/>
              <a:chExt cx="704160" cy="520560"/>
            </a:xfrm>
          </p:grpSpPr>
          <p:sp>
            <p:nvSpPr>
              <p:cNvPr id="481" name=""/>
              <p:cNvSpPr/>
              <p:nvPr/>
            </p:nvSpPr>
            <p:spPr>
              <a:xfrm>
                <a:off x="1389240" y="393228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01560" y="4178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2095560" y="3932280"/>
              <a:ext cx="187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Septem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360" y="429264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389240" y="4246560"/>
              <a:ext cx="704160" cy="520560"/>
              <a:chOff x="1389240" y="4246560"/>
              <a:chExt cx="704160" cy="520560"/>
            </a:xfrm>
          </p:grpSpPr>
          <p:sp>
            <p:nvSpPr>
              <p:cNvPr id="486" name=""/>
              <p:cNvSpPr/>
              <p:nvPr/>
            </p:nvSpPr>
            <p:spPr>
              <a:xfrm>
                <a:off x="1389240" y="424656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501560" y="44928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2095560" y="4292640"/>
              <a:ext cx="140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Octo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1389240" y="4637160"/>
              <a:ext cx="704160" cy="520560"/>
              <a:chOff x="1389240" y="4637160"/>
              <a:chExt cx="704160" cy="520560"/>
            </a:xfrm>
          </p:grpSpPr>
          <p:sp>
            <p:nvSpPr>
              <p:cNvPr id="490" name=""/>
              <p:cNvSpPr/>
              <p:nvPr/>
            </p:nvSpPr>
            <p:spPr>
              <a:xfrm>
                <a:off x="1389240" y="463716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501560" y="48834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2095560" y="4683240"/>
              <a:ext cx="148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Novem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1389240" y="4997520"/>
              <a:ext cx="704160" cy="520560"/>
              <a:chOff x="1389240" y="4997520"/>
              <a:chExt cx="704160" cy="520560"/>
            </a:xfrm>
          </p:grpSpPr>
          <p:sp>
            <p:nvSpPr>
              <p:cNvPr id="494" name=""/>
              <p:cNvSpPr/>
              <p:nvPr/>
            </p:nvSpPr>
            <p:spPr>
              <a:xfrm>
                <a:off x="1389240" y="4997520"/>
                <a:ext cx="70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501560" y="524376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095560" y="5043600"/>
              <a:ext cx="17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Decemb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6160" y="4653000"/>
              <a:ext cx="70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6160" y="5084640"/>
              <a:ext cx="70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529080" y="2709720"/>
            <a:ext cx="514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s given the function in this wa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19640" y="30574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Yes, it 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29080" y="93816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9080" y="1700280"/>
            <a:ext cx="52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Each number from 1 to 12 maps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29080" y="2060640"/>
            <a:ext cx="50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appropriate name of the year mont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64000" y="362592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Explain your answer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65440" y="3987720"/>
            <a:ext cx="557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ach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number in the left column maps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e </a:t>
            </a:r>
            <a:r>
              <a:rPr b="0" lang="hr-HR" sz="2200" spc="-1" strike="noStrike" u="sng">
                <a:solidFill>
                  <a:srgbClr val="ffcc00"/>
                </a:solidFill>
                <a:uFillTx/>
                <a:latin typeface="Comic Sans MS"/>
              </a:rPr>
              <a:t>exactly one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object in the second on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45960" y="8841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33800" y="2986200"/>
            <a:ext cx="48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Is given the function in that wa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24360" y="3344760"/>
            <a:ext cx="23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No, it isn'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033800" y="3938760"/>
            <a:ext cx="20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Why no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997440" y="433080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Because Dugo Selo and Crikvenica don't map to anyth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828720" y="892080"/>
            <a:ext cx="2732040" cy="2825640"/>
            <a:chOff x="828720" y="892080"/>
            <a:chExt cx="2732040" cy="2825640"/>
          </a:xfrm>
        </p:grpSpPr>
        <p:sp>
          <p:nvSpPr>
            <p:cNvPr id="512" name=""/>
            <p:cNvSpPr/>
            <p:nvPr/>
          </p:nvSpPr>
          <p:spPr>
            <a:xfrm>
              <a:off x="828720" y="93816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Zagre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197080" y="892080"/>
              <a:ext cx="647640" cy="520560"/>
              <a:chOff x="2197080" y="892080"/>
              <a:chExt cx="647640" cy="52056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7080" y="8920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300400" y="11383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2771640" y="973080"/>
              <a:ext cx="7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Z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8720" y="131436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Varazdi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2197080" y="1268280"/>
              <a:ext cx="647640" cy="520560"/>
              <a:chOff x="2197080" y="1268280"/>
              <a:chExt cx="647640" cy="520560"/>
            </a:xfrm>
          </p:grpSpPr>
          <p:sp>
            <p:nvSpPr>
              <p:cNvPr id="519" name=""/>
              <p:cNvSpPr/>
              <p:nvPr/>
            </p:nvSpPr>
            <p:spPr>
              <a:xfrm>
                <a:off x="2197080" y="126828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300400" y="151452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771640" y="1349280"/>
              <a:ext cx="6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V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28720" y="167472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Rijek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2197080" y="1628640"/>
              <a:ext cx="647640" cy="520560"/>
              <a:chOff x="2197080" y="1628640"/>
              <a:chExt cx="647640" cy="520560"/>
            </a:xfrm>
          </p:grpSpPr>
          <p:sp>
            <p:nvSpPr>
              <p:cNvPr id="524" name=""/>
              <p:cNvSpPr/>
              <p:nvPr/>
            </p:nvSpPr>
            <p:spPr>
              <a:xfrm>
                <a:off x="2197080" y="162864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300400" y="187488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2771640" y="1709640"/>
              <a:ext cx="6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28720" y="2060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Osije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197080" y="1989000"/>
              <a:ext cx="647640" cy="520560"/>
              <a:chOff x="2197080" y="1989000"/>
              <a:chExt cx="647640" cy="520560"/>
            </a:xfrm>
          </p:grpSpPr>
          <p:sp>
            <p:nvSpPr>
              <p:cNvPr id="529" name=""/>
              <p:cNvSpPr/>
              <p:nvPr/>
            </p:nvSpPr>
            <p:spPr>
              <a:xfrm>
                <a:off x="2197080" y="19890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300400" y="22352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2771640" y="2095560"/>
              <a:ext cx="7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8720" y="249228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Spli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197080" y="2405160"/>
              <a:ext cx="647640" cy="520560"/>
              <a:chOff x="2197080" y="2405160"/>
              <a:chExt cx="647640" cy="520560"/>
            </a:xfrm>
          </p:grpSpPr>
          <p:sp>
            <p:nvSpPr>
              <p:cNvPr id="534" name=""/>
              <p:cNvSpPr/>
              <p:nvPr/>
            </p:nvSpPr>
            <p:spPr>
              <a:xfrm>
                <a:off x="2197080" y="24051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0400" y="26514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771640" y="2492280"/>
              <a:ext cx="7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28720" y="288288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Dugo Sel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2197080" y="2809800"/>
              <a:ext cx="647640" cy="520560"/>
              <a:chOff x="2197080" y="2809800"/>
              <a:chExt cx="647640" cy="520560"/>
            </a:xfrm>
          </p:grpSpPr>
          <p:sp>
            <p:nvSpPr>
              <p:cNvPr id="539" name=""/>
              <p:cNvSpPr/>
              <p:nvPr/>
            </p:nvSpPr>
            <p:spPr>
              <a:xfrm>
                <a:off x="2197080" y="28098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00400" y="305604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2914560" y="2882880"/>
              <a:ext cx="5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8720" y="3284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Crikven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2197080" y="3197160"/>
              <a:ext cx="647640" cy="520560"/>
              <a:chOff x="2197080" y="3197160"/>
              <a:chExt cx="647640" cy="520560"/>
            </a:xfrm>
          </p:grpSpPr>
          <p:sp>
            <p:nvSpPr>
              <p:cNvPr id="544" name=""/>
              <p:cNvSpPr/>
              <p:nvPr/>
            </p:nvSpPr>
            <p:spPr>
              <a:xfrm>
                <a:off x="2197080" y="319716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ccecff"/>
                    </a:solidFill>
                    <a:latin typeface="Times New Roman"/>
                    <a:ea typeface="Times New Roman"/>
                  </a:rPr>
                  <a:t>→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00400" y="3443400"/>
                <a:ext cx="0" cy="73080"/>
              </a:xfrm>
              <a:prstGeom prst="line">
                <a:avLst/>
              </a:prstGeom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2914560" y="3243240"/>
              <a:ext cx="50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cc66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08000" y="3078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ecff"/>
                </a:solidFill>
                <a:uFillTx/>
                <a:latin typeface="Comic Sans MS"/>
              </a:rPr>
              <a:t>Exercise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90680" y="322200"/>
            <a:ext cx="53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Comic Sans MS"/>
              </a:rPr>
              <a:t>Check if you understood correct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033800" y="93816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Can you see what is the </a:t>
            </a:r>
            <a:r>
              <a:rPr b="0" lang="hr-HR" sz="2200" spc="-1" strike="noStrike">
                <a:solidFill>
                  <a:srgbClr val="ffff00"/>
                </a:solidFill>
                <a:latin typeface="Comic Sans MS"/>
              </a:rPr>
              <a:t>rule</a:t>
            </a:r>
            <a:r>
              <a:rPr b="0" lang="hr-HR" sz="2200" spc="-1" strike="noStrike">
                <a:solidFill>
                  <a:srgbClr val="ccecff"/>
                </a:solidFill>
                <a:latin typeface="Comic Sans MS"/>
              </a:rPr>
              <a:t> of this mapping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033800" y="1633680"/>
            <a:ext cx="485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cc00"/>
                </a:solidFill>
                <a:latin typeface="Comic Sans MS"/>
              </a:rPr>
              <a:t>The cities from the left column map to the appropriate shortcuts from the registration pl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17:28:45Z</dcterms:created>
  <dc:creator>Antonija</dc:creator>
  <dc:description/>
  <dc:language>en-US</dc:language>
  <cp:lastModifiedBy>Antonija</cp:lastModifiedBy>
  <dcterms:modified xsi:type="dcterms:W3CDTF">2007-07-09T21:30:28Z</dcterms:modified>
  <cp:revision>326</cp:revision>
  <dc:subject/>
  <dc:title>Funkcije</dc:title>
</cp:coreProperties>
</file>