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CA9F-2F2E-4501-80CD-A339AD919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F25E-FB85-45D3-96A9-8F934635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A1C6-F786-455F-9C82-65EFFE65C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EF0A-4BCA-44F0-98BA-75AA38B02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68AB-B59E-401C-879B-3F3E85478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7B54-E6AE-4C66-B9CB-43A88B9C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6477-99E5-4D1D-A304-81E70ADD9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B394-C354-4C83-8B1D-30078723F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4497-44A9-4DDB-9B8D-09793B70F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D912-DD2C-4994-B3FC-61228E25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518A-8596-4979-BFF3-DBB7848C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23DD-3294-4D72-AEC3-3BD65A67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6D63D-1015-4B19-AFC3-43053CF06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public.carnet.hr/~ahorvate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938240"/>
            <a:ext cx="7772400" cy="115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800" spc="-1" strike="noStrike">
                <a:solidFill>
                  <a:srgbClr val="ff0000"/>
                </a:solidFill>
                <a:latin typeface="Comic Sans MS"/>
              </a:rPr>
              <a:t>Integ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03280" y="3454560"/>
            <a:ext cx="6400800" cy="76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- revision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0000"/>
                </a:solidFill>
                <a:latin typeface="Comic Sans MS"/>
              </a:rPr>
              <a:t>Integ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835280" y="1197000"/>
            <a:ext cx="698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222920" y="2633760"/>
            <a:ext cx="35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- 7 - 5 + 8 - 1 + 3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452320" y="2752560"/>
            <a:ext cx="65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9900"/>
                </a:solidFill>
                <a:latin typeface="Comic Sans MS"/>
              </a:rPr>
              <a:t>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820680" y="2765520"/>
            <a:ext cx="65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9900"/>
                </a:solidFill>
                <a:latin typeface="Comic Sans MS"/>
              </a:rPr>
              <a:t>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883760" y="26370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9900"/>
                </a:solidFill>
                <a:latin typeface="Comic Sans MS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526360" y="2637000"/>
            <a:ext cx="31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839200" y="263700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13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558680" y="3209760"/>
            <a:ext cx="98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=</a:t>
            </a: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276920" y="4213080"/>
            <a:ext cx="465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37 - 55 + 128 - 55 - 37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649240" y="4332240"/>
            <a:ext cx="9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9900"/>
                </a:solidFill>
                <a:latin typeface="Comic Sans MS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075720" y="421632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9900"/>
                </a:solidFill>
                <a:latin typeface="Comic Sans MS"/>
              </a:rPr>
              <a:t>1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928200" y="4216320"/>
            <a:ext cx="31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215480" y="4216320"/>
            <a:ext cx="121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110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704200" y="479412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=</a:t>
            </a: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1187280" y="4290840"/>
            <a:ext cx="4392720" cy="433440"/>
            <a:chOff x="1187280" y="4290840"/>
            <a:chExt cx="4392720" cy="433440"/>
          </a:xfrm>
        </p:grpSpPr>
        <p:sp>
          <p:nvSpPr>
            <p:cNvPr id="376" name=""/>
            <p:cNvSpPr/>
            <p:nvPr/>
          </p:nvSpPr>
          <p:spPr>
            <a:xfrm flipV="1">
              <a:off x="1187280" y="4290840"/>
              <a:ext cx="621000" cy="433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4959360" y="4290840"/>
              <a:ext cx="620640" cy="433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735120" y="1913040"/>
            <a:ext cx="266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0000"/>
                </a:solidFill>
                <a:latin typeface="Comic Sans MS"/>
              </a:rPr>
              <a:t>Integ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835280" y="1197000"/>
            <a:ext cx="698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20000" y="1913040"/>
            <a:ext cx="725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How to multiply and divide integ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88120" y="2681280"/>
            <a:ext cx="23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For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141560" y="3333600"/>
            <a:ext cx="16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-3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·</a:t>
            </a: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 (-7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114560" y="384660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-6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·</a:t>
            </a: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 8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105920" y="4349880"/>
            <a:ext cx="148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8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·</a:t>
            </a: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 (-9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147680" y="4846680"/>
            <a:ext cx="147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-32 : 4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77920" y="5359320"/>
            <a:ext cx="16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63 : (-9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168920" y="5862600"/>
            <a:ext cx="180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-28 : (-7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4235400" y="3357720"/>
            <a:ext cx="1588680" cy="2017440"/>
            <a:chOff x="4235400" y="3357720"/>
            <a:chExt cx="1588680" cy="2017440"/>
          </a:xfrm>
        </p:grpSpPr>
        <p:sp>
          <p:nvSpPr>
            <p:cNvPr id="390" name=""/>
            <p:cNvSpPr/>
            <p:nvPr/>
          </p:nvSpPr>
          <p:spPr>
            <a:xfrm>
              <a:off x="4235400" y="3357720"/>
              <a:ext cx="1588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0000ff"/>
                  </a:solidFill>
                  <a:latin typeface="Comic Sans MS"/>
                </a:rPr>
                <a:t>(+) </a:t>
              </a:r>
              <a:r>
                <a:rPr b="0" lang="en-US" sz="2800" spc="-1" strike="noStrike">
                  <a:solidFill>
                    <a:srgbClr val="0000ff"/>
                  </a:solidFill>
                  <a:latin typeface="Comic Sans MS"/>
                </a:rPr>
                <a:t>·</a:t>
              </a:r>
              <a:r>
                <a:rPr b="0" lang="hr-HR" sz="2800" spc="-1" strike="noStrike">
                  <a:solidFill>
                    <a:srgbClr val="0000ff"/>
                  </a:solidFill>
                  <a:latin typeface="Comic Sans MS"/>
                </a:rPr>
                <a:t> (+)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267800" y="3846600"/>
              <a:ext cx="1500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0000ff"/>
                  </a:solidFill>
                  <a:latin typeface="Comic Sans MS"/>
                </a:rPr>
                <a:t>(+) </a:t>
              </a:r>
              <a:r>
                <a:rPr b="0" lang="en-US" sz="2800" spc="-1" strike="noStrike">
                  <a:solidFill>
                    <a:srgbClr val="0000ff"/>
                  </a:solidFill>
                  <a:latin typeface="Comic Sans MS"/>
                </a:rPr>
                <a:t>·</a:t>
              </a:r>
              <a:r>
                <a:rPr b="0" lang="hr-HR" sz="2800" spc="-1" strike="noStrike">
                  <a:solidFill>
                    <a:srgbClr val="0000ff"/>
                  </a:solidFill>
                  <a:latin typeface="Comic Sans MS"/>
                </a:rPr>
                <a:t> (-)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267800" y="4365720"/>
              <a:ext cx="150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0000ff"/>
                  </a:solidFill>
                  <a:latin typeface="Comic Sans MS"/>
                </a:rPr>
                <a:t>(-) </a:t>
              </a:r>
              <a:r>
                <a:rPr b="0" lang="en-US" sz="2800" spc="-1" strike="noStrike">
                  <a:solidFill>
                    <a:srgbClr val="0000ff"/>
                  </a:solidFill>
                  <a:latin typeface="Comic Sans MS"/>
                </a:rPr>
                <a:t>·</a:t>
              </a:r>
              <a:r>
                <a:rPr b="0" lang="hr-HR" sz="2800" spc="-1" strike="noStrike">
                  <a:solidFill>
                    <a:srgbClr val="0000ff"/>
                  </a:solidFill>
                  <a:latin typeface="Comic Sans MS"/>
                </a:rPr>
                <a:t> (+)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300200" y="4854600"/>
              <a:ext cx="1411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0000ff"/>
                  </a:solidFill>
                  <a:latin typeface="Comic Sans MS"/>
                </a:rPr>
                <a:t>(-) </a:t>
              </a:r>
              <a:r>
                <a:rPr b="0" lang="en-US" sz="2800" spc="-1" strike="noStrike">
                  <a:solidFill>
                    <a:srgbClr val="0000ff"/>
                  </a:solidFill>
                  <a:latin typeface="Comic Sans MS"/>
                </a:rPr>
                <a:t>·</a:t>
              </a:r>
              <a:r>
                <a:rPr b="0" lang="hr-HR" sz="2800" spc="-1" strike="noStrike">
                  <a:solidFill>
                    <a:srgbClr val="0000ff"/>
                  </a:solidFill>
                  <a:latin typeface="Comic Sans MS"/>
                </a:rPr>
                <a:t> (-)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5801400" y="33577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ff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833080" y="3846600"/>
            <a:ext cx="29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ff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833080" y="4365720"/>
            <a:ext cx="29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ff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801400" y="48546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ff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6765120" y="3357720"/>
            <a:ext cx="1589040" cy="2017440"/>
            <a:chOff x="6765120" y="3357720"/>
            <a:chExt cx="1589040" cy="2017440"/>
          </a:xfrm>
        </p:grpSpPr>
        <p:sp>
          <p:nvSpPr>
            <p:cNvPr id="399" name=""/>
            <p:cNvSpPr/>
            <p:nvPr/>
          </p:nvSpPr>
          <p:spPr>
            <a:xfrm>
              <a:off x="6765120" y="3357720"/>
              <a:ext cx="1589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0000ff"/>
                  </a:solidFill>
                  <a:latin typeface="Comic Sans MS"/>
                </a:rPr>
                <a:t>(+) : (+)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797520" y="3846600"/>
              <a:ext cx="1500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0000ff"/>
                  </a:solidFill>
                  <a:latin typeface="Comic Sans MS"/>
                </a:rPr>
                <a:t>(+) : (-)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797520" y="4365720"/>
              <a:ext cx="1500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0000ff"/>
                  </a:solidFill>
                  <a:latin typeface="Comic Sans MS"/>
                </a:rPr>
                <a:t>(-) : (+)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29560" y="4854600"/>
              <a:ext cx="141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0000ff"/>
                  </a:solidFill>
                  <a:latin typeface="Comic Sans MS"/>
                </a:rPr>
                <a:t>(-) : (-)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8322120" y="33577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ff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354160" y="3846600"/>
            <a:ext cx="29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ff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354160" y="4365720"/>
            <a:ext cx="29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ff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322120" y="48546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ff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867760" y="33336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666880" y="384660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- 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739960" y="434988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- 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732760" y="4846680"/>
            <a:ext cx="5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-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940840" y="5359320"/>
            <a:ext cx="5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-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026880" y="58626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0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500"/>
                            </p:stCondLst>
                            <p:childTnLst>
                              <p:par>
                                <p:cTn id="6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000"/>
                            </p:stCondLst>
                            <p:childTnLst>
                              <p:par>
                                <p:cTn id="6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0000"/>
                </a:solidFill>
                <a:latin typeface="Comic Sans MS"/>
              </a:rPr>
              <a:t>Integ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835280" y="1197000"/>
            <a:ext cx="698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71440" y="3333600"/>
            <a:ext cx="24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-6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·</a:t>
            </a: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 (-4)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·</a:t>
            </a: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 (-1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726720" y="3333600"/>
            <a:ext cx="29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920760" y="4687920"/>
            <a:ext cx="449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Comic Sans MS"/>
              </a:rPr>
              <a:t>Why did we put some numbers i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Comic Sans MS"/>
              </a:rPr>
              <a:t>parenthes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2124000" y="4581360"/>
            <a:ext cx="1871280" cy="287280"/>
            <a:chOff x="2124000" y="4581360"/>
            <a:chExt cx="1871280" cy="287280"/>
          </a:xfrm>
        </p:grpSpPr>
        <p:sp>
          <p:nvSpPr>
            <p:cNvPr id="419" name=""/>
            <p:cNvSpPr/>
            <p:nvPr/>
          </p:nvSpPr>
          <p:spPr>
            <a:xfrm flipH="1">
              <a:off x="2124000" y="4868640"/>
              <a:ext cx="187128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2124000" y="4581360"/>
              <a:ext cx="0" cy="28728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4012200" y="334152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275840" y="3981600"/>
            <a:ext cx="37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-2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·</a:t>
            </a: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 (-5)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·</a:t>
            </a: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 4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·</a:t>
            </a: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 (-1)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·</a:t>
            </a: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 (-3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143680" y="3989520"/>
            <a:ext cx="78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1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043280" y="5516640"/>
            <a:ext cx="45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ff"/>
                </a:solidFill>
                <a:latin typeface="Comic Sans MS"/>
              </a:rPr>
              <a:t>Even number of minuses g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524560" y="5516640"/>
            <a:ext cx="5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ff"/>
                </a:solidFill>
                <a:latin typeface="Comic Sans MS"/>
              </a:rPr>
              <a:t>+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048320" y="5996160"/>
            <a:ext cx="449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ff"/>
                </a:solidFill>
                <a:latin typeface="Comic Sans MS"/>
              </a:rPr>
              <a:t>Odd number of minuses g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599080" y="5996160"/>
            <a:ext cx="43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ff"/>
                </a:solidFill>
                <a:latin typeface="Comic Sans MS"/>
              </a:rPr>
              <a:t>-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134680" y="39895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20000" y="1913040"/>
            <a:ext cx="725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How to multiply and divide integ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888120" y="2681280"/>
            <a:ext cx="23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For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0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0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0000"/>
                </a:solidFill>
                <a:latin typeface="Comic Sans MS"/>
              </a:rPr>
              <a:t>Integ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835280" y="1197000"/>
            <a:ext cx="698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38000" y="1913040"/>
            <a:ext cx="702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What to do with these parenthe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920880" y="2781360"/>
            <a:ext cx="17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-3 + (-7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697480" y="27892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239640" y="2789280"/>
            <a:ext cx="8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- 7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135320" y="280512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-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951480" y="3503520"/>
            <a:ext cx="16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-6 - (-8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695680" y="35114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133080" y="3511440"/>
            <a:ext cx="9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+ 8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058640" y="3527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886680" y="426420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8 - (+9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71120" y="42721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950920" y="4272120"/>
            <a:ext cx="8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- 9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839040" y="4287960"/>
            <a:ext cx="5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-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031760" y="5016600"/>
            <a:ext cx="345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-32 - 4 - (-32) + (-4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864000" y="5486400"/>
            <a:ext cx="99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= -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873800" y="5486400"/>
            <a:ext cx="5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-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69680" y="5502240"/>
            <a:ext cx="8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+ 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495240" y="5486400"/>
            <a:ext cx="8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- 4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467960" y="5486400"/>
            <a:ext cx="5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-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338120" y="5559480"/>
            <a:ext cx="2089080" cy="358560"/>
            <a:chOff x="1338120" y="5559480"/>
            <a:chExt cx="2089080" cy="358560"/>
          </a:xfrm>
        </p:grpSpPr>
        <p:sp>
          <p:nvSpPr>
            <p:cNvPr id="453" name=""/>
            <p:cNvSpPr/>
            <p:nvPr/>
          </p:nvSpPr>
          <p:spPr>
            <a:xfrm flipV="1">
              <a:off x="1338120" y="5559480"/>
              <a:ext cx="504720" cy="358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2922480" y="5559480"/>
              <a:ext cx="504720" cy="358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330520" y="2565360"/>
            <a:ext cx="343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ff"/>
                </a:solidFill>
                <a:latin typeface="Comic Sans MS"/>
              </a:rPr>
              <a:t>If we have plus bef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ff"/>
                </a:solidFill>
                <a:latin typeface="Comic Sans MS"/>
              </a:rPr>
              <a:t>parenthes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ff"/>
                </a:solidFill>
                <a:latin typeface="Comic Sans MS"/>
              </a:rPr>
              <a:t>it says to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346000" y="3686040"/>
            <a:ext cx="379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ff"/>
                </a:solidFill>
                <a:latin typeface="Comic Sans MS"/>
              </a:rPr>
              <a:t>just to rewrite every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ff"/>
                </a:solidFill>
                <a:latin typeface="Comic Sans MS"/>
              </a:rPr>
              <a:t>from parenthe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228440" y="3284640"/>
            <a:ext cx="4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ff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375880" y="4694400"/>
            <a:ext cx="372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ff"/>
                </a:solidFill>
                <a:latin typeface="Comic Sans MS"/>
              </a:rPr>
              <a:t>If we have minus bef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ff"/>
                </a:solidFill>
                <a:latin typeface="Comic Sans MS"/>
              </a:rPr>
              <a:t>parenthes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ff"/>
                </a:solidFill>
                <a:latin typeface="Comic Sans MS"/>
              </a:rPr>
              <a:t>it says to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328000" y="5846760"/>
            <a:ext cx="362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ff"/>
                </a:solidFill>
                <a:latin typeface="Comic Sans MS"/>
              </a:rPr>
              <a:t>to change all signs 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ff"/>
                </a:solidFill>
                <a:latin typeface="Comic Sans MS"/>
              </a:rPr>
              <a:t>parenthe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228440" y="5419800"/>
            <a:ext cx="4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ff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0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0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0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500"/>
                            </p:stCondLst>
                            <p:childTnLst>
                              <p:par>
                                <p:cTn id="9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500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1000"/>
                            </p:stCondLst>
                            <p:childTnLst>
                              <p:par>
                                <p:cTn id="9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3" dur="500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1500"/>
                            </p:stCondLst>
                            <p:childTnLst>
                              <p:par>
                                <p:cTn id="9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2" dur="5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500"/>
                            </p:stCondLst>
                            <p:childTnLst>
                              <p:par>
                                <p:cTn id="9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7" dur="500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2" dur="5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500"/>
                            </p:stCondLst>
                            <p:childTnLst>
                              <p:par>
                                <p:cTn id="9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6" dur="500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1000"/>
                            </p:stCondLst>
                            <p:childTnLst>
                              <p:par>
                                <p:cTn id="9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0" dur="500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1500"/>
                            </p:stCondLst>
                            <p:childTnLst>
                              <p:par>
                                <p:cTn id="9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9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500"/>
                            </p:stCondLst>
                            <p:childTnLst>
                              <p:par>
                                <p:cTn id="9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4" dur="500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1455840" y="2765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260360" y="195408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cc"/>
                </a:solidFill>
                <a:latin typeface="Comic Sans MS"/>
              </a:rPr>
              <a:t>I hope it was interesting and useful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258920" y="346536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cc"/>
                </a:solidFill>
                <a:latin typeface="Comic Sans MS"/>
              </a:rPr>
              <a:t>Now let's solve more complex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cc"/>
                </a:solidFill>
                <a:latin typeface="Comic Sans MS"/>
              </a:rPr>
              <a:t>with more operations and parenthese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cc"/>
                </a:solidFill>
                <a:latin typeface="Comic Sans MS"/>
              </a:rPr>
              <a:t>Open your notebook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140360" y="249228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cc"/>
                </a:solidFill>
                <a:latin typeface="Wingdings"/>
                <a:ea typeface="Wingdings"/>
              </a:rPr>
              <a:t></a:t>
            </a:r>
            <a:r>
              <a:rPr b="0" lang="hr-HR" sz="2400" spc="-1" strike="noStrike">
                <a:solidFill>
                  <a:srgbClr val="0000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771640" y="1123920"/>
            <a:ext cx="33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cc"/>
                </a:solidFill>
                <a:latin typeface="Comic Sans MS"/>
              </a:rPr>
              <a:t>That's all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0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6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500"/>
                            </p:stCondLst>
                            <p:childTnLst>
                              <p:par>
                                <p:cTn id="97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0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1042920" y="2349360"/>
            <a:ext cx="7201080" cy="24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9900cc"/>
                </a:solidFill>
                <a:latin typeface="Arial"/>
              </a:rPr>
              <a:t>Author of present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9900cc"/>
                </a:solidFill>
                <a:latin typeface="Arial"/>
              </a:rPr>
              <a:t>Antonija Horvat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9900cc"/>
                </a:solidFill>
                <a:latin typeface="Arial"/>
              </a:rPr>
              <a:t>Croatia</a:t>
            </a:r>
            <a:r>
              <a:rPr b="0" lang="hr-HR" sz="1600" spc="-1" strike="noStrike">
                <a:solidFill>
                  <a:srgbClr val="9900cc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9900cc"/>
                </a:solidFill>
                <a:latin typeface="Arial"/>
              </a:rPr>
              <a:t>September 200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0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92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503280" y="1863720"/>
            <a:ext cx="77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f you want, you can use this presentation in your teach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lso, if you want, you can change some parts of it in this purp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66560" y="2936880"/>
            <a:ext cx="6563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ut, if you want to use it in public lectures, workshop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n writing books, articles, on CDs and simila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then is nessesary to ask and to get permission of auth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819960" y="4406760"/>
            <a:ext cx="3768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ntonija Horvat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public.carnet.hr/~ahorv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horvatek@yahoo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0000"/>
                </a:solidFill>
                <a:latin typeface="Comic Sans MS"/>
              </a:rPr>
              <a:t>Integ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35280" y="1197000"/>
            <a:ext cx="698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87680" y="1913040"/>
            <a:ext cx="274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1, 2, 3, 4, 5…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47880" y="2637000"/>
            <a:ext cx="316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set of integers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3429000"/>
            <a:ext cx="75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Z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88920" y="3429000"/>
            <a:ext cx="578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Arial"/>
              </a:rPr>
              <a:t>{</a:t>
            </a:r>
            <a:r>
              <a:rPr b="0" lang="hr-HR" sz="3200" spc="-1" strike="noStrike">
                <a:solidFill>
                  <a:srgbClr val="ff0000"/>
                </a:solidFill>
                <a:latin typeface="Comic Sans MS"/>
                <a:ea typeface="Arial"/>
              </a:rPr>
              <a:t> … -4, -3, -2, -1, 0, 1, 2, 3, 4…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58480" y="1913040"/>
            <a:ext cx="52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0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35160" y="1913040"/>
            <a:ext cx="318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-1, -2, -3, -4, -5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382280" y="26370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4937040"/>
            <a:ext cx="820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332000" y="4792680"/>
            <a:ext cx="2376360" cy="287280"/>
            <a:chOff x="1332000" y="4792680"/>
            <a:chExt cx="2376360" cy="287280"/>
          </a:xfrm>
        </p:grpSpPr>
        <p:sp>
          <p:nvSpPr>
            <p:cNvPr id="54" name=""/>
            <p:cNvSpPr/>
            <p:nvPr/>
          </p:nvSpPr>
          <p:spPr>
            <a:xfrm>
              <a:off x="1332000" y="4792680"/>
              <a:ext cx="0" cy="287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124000" y="4792680"/>
              <a:ext cx="0" cy="287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916360" y="4792680"/>
              <a:ext cx="0" cy="287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708360" y="4792680"/>
              <a:ext cx="0" cy="287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500720" y="479268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291280" y="479268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293360" y="5153040"/>
            <a:ext cx="1173960" cy="581400"/>
            <a:chOff x="4293360" y="5153040"/>
            <a:chExt cx="1173960" cy="581400"/>
          </a:xfrm>
        </p:grpSpPr>
        <p:sp>
          <p:nvSpPr>
            <p:cNvPr id="61" name=""/>
            <p:cNvSpPr/>
            <p:nvPr/>
          </p:nvSpPr>
          <p:spPr>
            <a:xfrm>
              <a:off x="4293360" y="515304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3200" spc="-1" strike="noStrike">
                  <a:solidFill>
                    <a:srgbClr val="ff0000"/>
                  </a:solidFill>
                  <a:latin typeface="Comic Sans MS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53320" y="515304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32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6083280" y="4792680"/>
            <a:ext cx="1584360" cy="287280"/>
            <a:chOff x="6083280" y="4792680"/>
            <a:chExt cx="1584360" cy="287280"/>
          </a:xfrm>
        </p:grpSpPr>
        <p:sp>
          <p:nvSpPr>
            <p:cNvPr id="64" name=""/>
            <p:cNvSpPr/>
            <p:nvPr/>
          </p:nvSpPr>
          <p:spPr>
            <a:xfrm>
              <a:off x="6083280" y="4792680"/>
              <a:ext cx="0" cy="287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75640" y="4792680"/>
              <a:ext cx="0" cy="287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667640" y="4792680"/>
              <a:ext cx="0" cy="287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5877720" y="5153040"/>
            <a:ext cx="1998360" cy="581400"/>
            <a:chOff x="5877720" y="5153040"/>
            <a:chExt cx="1998360" cy="581400"/>
          </a:xfrm>
        </p:grpSpPr>
        <p:sp>
          <p:nvSpPr>
            <p:cNvPr id="68" name=""/>
            <p:cNvSpPr/>
            <p:nvPr/>
          </p:nvSpPr>
          <p:spPr>
            <a:xfrm>
              <a:off x="5877720" y="515304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32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670080" y="515304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32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462080" y="515304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32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1071000" y="5154480"/>
            <a:ext cx="54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63360" y="5154480"/>
            <a:ext cx="54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55360" y="5154480"/>
            <a:ext cx="54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15320" y="5154480"/>
            <a:ext cx="54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35640" y="587700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How to continu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0000"/>
                </a:solidFill>
                <a:latin typeface="Comic Sans MS"/>
              </a:rPr>
              <a:t>Integ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35280" y="1197000"/>
            <a:ext cx="698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1440" y="1913040"/>
            <a:ext cx="587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Compare the given numb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30960" y="2820960"/>
            <a:ext cx="184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23      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426480" y="272736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cc"/>
                </a:solidFill>
                <a:latin typeface="Comic Sans MS"/>
              </a:rPr>
              <a:t>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638080" y="3755880"/>
            <a:ext cx="195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-12       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37640" y="36622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cc"/>
                </a:solidFill>
                <a:latin typeface="Comic Sans MS"/>
              </a:rPr>
              <a:t>&l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613600" y="4621320"/>
            <a:ext cx="211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-30       -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26480" y="45277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cc"/>
                </a:solidFill>
                <a:latin typeface="Comic Sans MS"/>
              </a:rPr>
              <a:t>&l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7380360" y="1557360"/>
            <a:ext cx="793800" cy="4896000"/>
            <a:chOff x="7380360" y="1557360"/>
            <a:chExt cx="793800" cy="4896000"/>
          </a:xfrm>
        </p:grpSpPr>
        <p:sp>
          <p:nvSpPr>
            <p:cNvPr id="86" name=""/>
            <p:cNvSpPr/>
            <p:nvPr/>
          </p:nvSpPr>
          <p:spPr>
            <a:xfrm>
              <a:off x="7524720" y="1557360"/>
              <a:ext cx="0" cy="489600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380360" y="4005360"/>
              <a:ext cx="28872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380360" y="3573360"/>
              <a:ext cx="28872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819560" y="37893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ff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819560" y="3357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380360" y="3139920"/>
              <a:ext cx="28872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380360" y="2708280"/>
              <a:ext cx="28872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819560" y="2924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819560" y="2492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380360" y="4843440"/>
              <a:ext cx="28872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80360" y="4411800"/>
              <a:ext cx="28872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19120" y="46274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ff0000"/>
                  </a:solidFill>
                  <a:latin typeface="Comic Sans MS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719120" y="419580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ff0000"/>
                  </a:solidFill>
                  <a:latin typeface="Comic Sans MS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80360" y="5708520"/>
              <a:ext cx="28872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380360" y="5276880"/>
              <a:ext cx="28872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719120" y="5492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ff0000"/>
                  </a:solidFill>
                  <a:latin typeface="Comic Sans MS"/>
                </a:rPr>
                <a:t>-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19120" y="5060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ff0000"/>
                  </a:solidFill>
                  <a:latin typeface="Comic Sans MS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380360" y="2276640"/>
              <a:ext cx="28872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380360" y="1844640"/>
              <a:ext cx="28872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819560" y="2060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819560" y="1628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380360" y="6140520"/>
              <a:ext cx="28872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719120" y="59245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ff0000"/>
                  </a:solidFill>
                  <a:latin typeface="Comic Sans MS"/>
                </a:rPr>
                <a:t>-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 flipV="1">
            <a:off x="8532720" y="1773360"/>
            <a:ext cx="0" cy="1800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532720" y="4438800"/>
            <a:ext cx="0" cy="1726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514000" y="1628640"/>
            <a:ext cx="307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552160" y="4365720"/>
            <a:ext cx="30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0000"/>
                </a:solidFill>
                <a:latin typeface="Comic Sans MS"/>
              </a:rPr>
              <a:t>Integ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1197000"/>
            <a:ext cx="698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46280" y="1913040"/>
            <a:ext cx="50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How to add two integ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98960" y="2681280"/>
            <a:ext cx="483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cc"/>
                </a:solidFill>
                <a:latin typeface="Comic Sans MS"/>
              </a:rPr>
              <a:t>- if they have </a:t>
            </a:r>
            <a:r>
              <a:rPr b="0" lang="hr-HR" sz="2800" spc="-1" strike="noStrike" u="sng">
                <a:solidFill>
                  <a:srgbClr val="0000cc"/>
                </a:solidFill>
                <a:uFillTx/>
                <a:latin typeface="Comic Sans MS"/>
              </a:rPr>
              <a:t>the same</a:t>
            </a:r>
            <a:r>
              <a:rPr b="0" lang="hr-HR" sz="2800" spc="-1" strike="noStrike">
                <a:solidFill>
                  <a:srgbClr val="0000cc"/>
                </a:solidFill>
                <a:latin typeface="Comic Sans MS"/>
              </a:rPr>
              <a:t> sig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24680" y="3189240"/>
            <a:ext cx="343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cc"/>
                </a:solidFill>
                <a:latin typeface="Comic Sans MS"/>
              </a:rPr>
              <a:t>- we keep their 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91120" y="4552920"/>
            <a:ext cx="491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9900"/>
                </a:solidFill>
                <a:latin typeface="Comic Sans MS"/>
              </a:rPr>
              <a:t>- if they have </a:t>
            </a:r>
            <a:r>
              <a:rPr b="0" lang="hr-HR" sz="2800" spc="-1" strike="noStrike" u="sng">
                <a:solidFill>
                  <a:srgbClr val="009900"/>
                </a:solidFill>
                <a:uFillTx/>
                <a:latin typeface="Comic Sans MS"/>
              </a:rPr>
              <a:t>different</a:t>
            </a:r>
            <a:r>
              <a:rPr b="0" lang="hr-HR" sz="2800" spc="-1" strike="noStrike">
                <a:solidFill>
                  <a:srgbClr val="009900"/>
                </a:solidFill>
                <a:latin typeface="Comic Sans MS"/>
              </a:rPr>
              <a:t> sig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81480" y="5060880"/>
            <a:ext cx="64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9900"/>
                </a:solidFill>
                <a:latin typeface="Comic Sans MS"/>
              </a:rPr>
              <a:t>- we rewrite sign from bigger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496960" y="3645000"/>
            <a:ext cx="42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cc"/>
                </a:solidFill>
                <a:latin typeface="Comic Sans MS"/>
              </a:rPr>
              <a:t>- we </a:t>
            </a:r>
            <a:r>
              <a:rPr b="0" lang="hr-HR" sz="2800" spc="-1" strike="noStrike" u="sng">
                <a:solidFill>
                  <a:srgbClr val="0000cc"/>
                </a:solidFill>
                <a:uFillTx/>
                <a:latin typeface="Comic Sans MS"/>
              </a:rPr>
              <a:t>add</a:t>
            </a:r>
            <a:r>
              <a:rPr b="0" lang="hr-HR" sz="2800" spc="-1" strike="noStrike">
                <a:solidFill>
                  <a:srgbClr val="0000cc"/>
                </a:solidFill>
                <a:latin typeface="Comic Sans MS"/>
              </a:rPr>
              <a:t> absolute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20360" y="5502240"/>
            <a:ext cx="502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9900"/>
                </a:solidFill>
                <a:latin typeface="Comic Sans MS"/>
              </a:rPr>
              <a:t>- we </a:t>
            </a:r>
            <a:r>
              <a:rPr b="0" lang="hr-HR" sz="2800" spc="-1" strike="noStrike" u="sng">
                <a:solidFill>
                  <a:srgbClr val="009900"/>
                </a:solidFill>
                <a:uFillTx/>
                <a:latin typeface="Comic Sans MS"/>
              </a:rPr>
              <a:t>subtract</a:t>
            </a:r>
            <a:r>
              <a:rPr b="0" lang="hr-HR" sz="2800" spc="-1" strike="noStrike">
                <a:solidFill>
                  <a:srgbClr val="009900"/>
                </a:solidFill>
                <a:latin typeface="Comic Sans MS"/>
              </a:rPr>
              <a:t> absolute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0000"/>
                </a:solidFill>
                <a:latin typeface="Comic Sans MS"/>
              </a:rPr>
              <a:t>Integ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835280" y="1197000"/>
            <a:ext cx="698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5120" y="1913040"/>
            <a:ext cx="266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18240" y="2633760"/>
            <a:ext cx="187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- 2  -  3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08400" y="2637000"/>
            <a:ext cx="6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-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7380360" y="1557360"/>
            <a:ext cx="793800" cy="4896000"/>
            <a:chOff x="7380360" y="1557360"/>
            <a:chExt cx="793800" cy="4896000"/>
          </a:xfrm>
        </p:grpSpPr>
        <p:sp>
          <p:nvSpPr>
            <p:cNvPr id="128" name=""/>
            <p:cNvSpPr/>
            <p:nvPr/>
          </p:nvSpPr>
          <p:spPr>
            <a:xfrm>
              <a:off x="7524720" y="1557360"/>
              <a:ext cx="0" cy="489600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80360" y="400536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80360" y="357336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819560" y="37893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819560" y="3357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380360" y="313992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80360" y="270828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819560" y="2924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819560" y="2492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380360" y="484344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80360" y="441180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719120" y="46274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719120" y="419580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380360" y="570852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380360" y="527688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719120" y="5492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-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719120" y="5060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80360" y="227664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80360" y="184464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819560" y="2060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19560" y="1628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380360" y="614052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719120" y="59245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-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742160" y="4581360"/>
            <a:ext cx="574920" cy="505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16000" y="2637000"/>
            <a:ext cx="720720" cy="649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36720" y="2752560"/>
            <a:ext cx="431640" cy="389160"/>
          </a:xfrm>
          <a:prstGeom prst="ellipse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5400000">
            <a:off x="8397360" y="4787640"/>
            <a:ext cx="295200" cy="314280"/>
          </a:xfrm>
          <a:custGeom>
            <a:avLst/>
            <a:gdLst>
              <a:gd name="textAreaLeft" fmla="*/ 0 w 295200"/>
              <a:gd name="textAreaRight" fmla="*/ 295200 w 295200"/>
              <a:gd name="textAreaTop" fmla="*/ 0 h 314280"/>
              <a:gd name="textAreaBottom" fmla="*/ 314640 h 314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68360" y="2693880"/>
            <a:ext cx="503280" cy="519120"/>
          </a:xfrm>
          <a:prstGeom prst="ellipse">
            <a:avLst/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2472000">
            <a:off x="7918560" y="4890960"/>
            <a:ext cx="535680" cy="54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2472000">
            <a:off x="7939080" y="5337000"/>
            <a:ext cx="535680" cy="54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2472000">
            <a:off x="7939080" y="5768640"/>
            <a:ext cx="535680" cy="54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67640" y="5877000"/>
            <a:ext cx="649440" cy="584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317760" y="2593800"/>
            <a:ext cx="720720" cy="648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92360" y="6453360"/>
            <a:ext cx="1944720" cy="276480"/>
            <a:chOff x="3492360" y="6453360"/>
            <a:chExt cx="1944720" cy="276480"/>
          </a:xfrm>
        </p:grpSpPr>
        <p:sp>
          <p:nvSpPr>
            <p:cNvPr id="162" name="">
              <a:hlinkClick r:id="" action="ppaction://hlinkshowjump?jump=nextslide"/>
            </p:cNvPr>
            <p:cNvSpPr/>
            <p:nvPr/>
          </p:nvSpPr>
          <p:spPr>
            <a:xfrm>
              <a:off x="5076720" y="6524640"/>
              <a:ext cx="360360" cy="144360"/>
            </a:xfrm>
            <a:custGeom>
              <a:avLst/>
              <a:gdLst>
                <a:gd name="textAreaLeft" fmla="*/ 9360 w 360360"/>
                <a:gd name="textAreaRight" fmla="*/ 351000 w 360360"/>
                <a:gd name="textAreaTop" fmla="*/ 9360 h 144360"/>
                <a:gd name="textAreaBottom" fmla="*/ 135000 h 144360"/>
              </a:gdLst>
              <a:ahLst/>
              <a:rect l="textAreaLeft" t="textAreaTop" r="textAreaRight" b="textAreaBottom"/>
              <a:pathLst>
                <a:path w="53839" h="21600">
                  <a:moveTo>
                    <a:pt x="0" y="0"/>
                  </a:moveTo>
                  <a:lnTo>
                    <a:pt x="53839" y="0"/>
                  </a:lnTo>
                  <a:lnTo>
                    <a:pt x="53839" y="21600"/>
                  </a:lnTo>
                  <a:lnTo>
                    <a:pt x="0" y="21600"/>
                  </a:lnTo>
                  <a:close/>
                </a:path>
                <a:path fill="lightenLess" w="53839" h="21600">
                  <a:moveTo>
                    <a:pt x="0" y="0"/>
                  </a:moveTo>
                  <a:lnTo>
                    <a:pt x="53839" y="0"/>
                  </a:lnTo>
                  <a:lnTo>
                    <a:pt x="52439" y="1400"/>
                  </a:lnTo>
                  <a:lnTo>
                    <a:pt x="1400" y="1400"/>
                  </a:lnTo>
                  <a:close/>
                </a:path>
                <a:path fill="darken" w="53839" h="21600">
                  <a:moveTo>
                    <a:pt x="53839" y="0"/>
                  </a:moveTo>
                  <a:lnTo>
                    <a:pt x="53839" y="21600"/>
                  </a:lnTo>
                  <a:lnTo>
                    <a:pt x="52439" y="20200"/>
                  </a:lnTo>
                  <a:lnTo>
                    <a:pt x="52439" y="1400"/>
                  </a:lnTo>
                  <a:close/>
                </a:path>
                <a:path fill="darkenLess" w="53839" h="21600">
                  <a:moveTo>
                    <a:pt x="5383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2439" y="20200"/>
                  </a:lnTo>
                  <a:close/>
                </a:path>
                <a:path fill="lighten" w="5383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53839" h="21600">
                  <a:moveTo>
                    <a:pt x="19913" y="3794"/>
                  </a:moveTo>
                  <a:lnTo>
                    <a:pt x="33926" y="10800"/>
                  </a:lnTo>
                  <a:lnTo>
                    <a:pt x="19913" y="17806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492360" y="6453360"/>
              <a:ext cx="158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200" spc="-1" strike="noStrike">
                  <a:solidFill>
                    <a:srgbClr val="808080"/>
                  </a:solidFill>
                  <a:latin typeface="Arial"/>
                </a:rPr>
                <a:t>skip explanation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6" presetSubtype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0000"/>
                </a:solidFill>
                <a:latin typeface="Comic Sans MS"/>
              </a:rPr>
              <a:t>Integ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835280" y="1197000"/>
            <a:ext cx="698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79720" y="3324240"/>
            <a:ext cx="19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- 4  +  6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402720" y="33274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7380360" y="1557360"/>
            <a:ext cx="793800" cy="4896000"/>
            <a:chOff x="7380360" y="1557360"/>
            <a:chExt cx="793800" cy="4896000"/>
          </a:xfrm>
        </p:grpSpPr>
        <p:sp>
          <p:nvSpPr>
            <p:cNvPr id="169" name=""/>
            <p:cNvSpPr/>
            <p:nvPr/>
          </p:nvSpPr>
          <p:spPr>
            <a:xfrm>
              <a:off x="7524720" y="1557360"/>
              <a:ext cx="0" cy="489600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380360" y="400536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80360" y="357336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819560" y="37893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819560" y="3357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380360" y="313992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380360" y="270828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819560" y="2924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819560" y="2492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380360" y="484344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80360" y="441180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719120" y="46274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719120" y="419580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80360" y="570852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380360" y="527688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719120" y="5492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-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719120" y="5060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380360" y="227664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380360" y="184464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819560" y="2060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819560" y="1628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380360" y="614052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719120" y="59245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-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7742160" y="5445000"/>
            <a:ext cx="574920" cy="505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116000" y="3327480"/>
            <a:ext cx="720720" cy="649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851120" y="3443400"/>
            <a:ext cx="431640" cy="388800"/>
          </a:xfrm>
          <a:prstGeom prst="ellipse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 rot="16200000">
            <a:off x="8514720" y="5572080"/>
            <a:ext cx="295200" cy="314280"/>
          </a:xfrm>
          <a:custGeom>
            <a:avLst/>
            <a:gdLst>
              <a:gd name="textAreaLeft" fmla="*/ 0 w 295200"/>
              <a:gd name="textAreaRight" fmla="*/ 295200 w 295200"/>
              <a:gd name="textAreaTop" fmla="*/ -360 h 314280"/>
              <a:gd name="textAreaBottom" fmla="*/ 314280 h 314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268360" y="3384720"/>
            <a:ext cx="503280" cy="519120"/>
          </a:xfrm>
          <a:prstGeom prst="ellipse">
            <a:avLst/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2472000">
            <a:off x="7918920" y="4386240"/>
            <a:ext cx="535680" cy="54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2472000">
            <a:off x="7939080" y="4832280"/>
            <a:ext cx="535680" cy="54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2472000">
            <a:off x="7939080" y="5263920"/>
            <a:ext cx="535680" cy="54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667640" y="2852640"/>
            <a:ext cx="649440" cy="584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317760" y="3284640"/>
            <a:ext cx="720720" cy="647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218240" y="2633760"/>
            <a:ext cx="187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- 2  -  3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2472000">
            <a:off x="7904160" y="3089160"/>
            <a:ext cx="535680" cy="54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2472000">
            <a:off x="7924320" y="3534840"/>
            <a:ext cx="536400" cy="54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2472000">
            <a:off x="7924320" y="3966480"/>
            <a:ext cx="536400" cy="54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308400" y="2637000"/>
            <a:ext cx="6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-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492360" y="6453360"/>
            <a:ext cx="1944720" cy="276480"/>
            <a:chOff x="3492360" y="6453360"/>
            <a:chExt cx="1944720" cy="276480"/>
          </a:xfrm>
        </p:grpSpPr>
        <p:sp>
          <p:nvSpPr>
            <p:cNvPr id="208" name="">
              <a:hlinkClick r:id="" action="ppaction://hlinkshowjump?jump=nextslide"/>
            </p:cNvPr>
            <p:cNvSpPr/>
            <p:nvPr/>
          </p:nvSpPr>
          <p:spPr>
            <a:xfrm>
              <a:off x="5076720" y="6524640"/>
              <a:ext cx="360360" cy="144360"/>
            </a:xfrm>
            <a:custGeom>
              <a:avLst/>
              <a:gdLst>
                <a:gd name="textAreaLeft" fmla="*/ 9360 w 360360"/>
                <a:gd name="textAreaRight" fmla="*/ 351000 w 360360"/>
                <a:gd name="textAreaTop" fmla="*/ 9360 h 144360"/>
                <a:gd name="textAreaBottom" fmla="*/ 135000 h 144360"/>
              </a:gdLst>
              <a:ahLst/>
              <a:rect l="textAreaLeft" t="textAreaTop" r="textAreaRight" b="textAreaBottom"/>
              <a:pathLst>
                <a:path w="53839" h="21600">
                  <a:moveTo>
                    <a:pt x="0" y="0"/>
                  </a:moveTo>
                  <a:lnTo>
                    <a:pt x="53839" y="0"/>
                  </a:lnTo>
                  <a:lnTo>
                    <a:pt x="53839" y="21600"/>
                  </a:lnTo>
                  <a:lnTo>
                    <a:pt x="0" y="21600"/>
                  </a:lnTo>
                  <a:close/>
                </a:path>
                <a:path fill="lightenLess" w="53839" h="21600">
                  <a:moveTo>
                    <a:pt x="0" y="0"/>
                  </a:moveTo>
                  <a:lnTo>
                    <a:pt x="53839" y="0"/>
                  </a:lnTo>
                  <a:lnTo>
                    <a:pt x="52439" y="1400"/>
                  </a:lnTo>
                  <a:lnTo>
                    <a:pt x="1400" y="1400"/>
                  </a:lnTo>
                  <a:close/>
                </a:path>
                <a:path fill="darken" w="53839" h="21600">
                  <a:moveTo>
                    <a:pt x="53839" y="0"/>
                  </a:moveTo>
                  <a:lnTo>
                    <a:pt x="53839" y="21600"/>
                  </a:lnTo>
                  <a:lnTo>
                    <a:pt x="52439" y="20200"/>
                  </a:lnTo>
                  <a:lnTo>
                    <a:pt x="52439" y="1400"/>
                  </a:lnTo>
                  <a:close/>
                </a:path>
                <a:path fill="darkenLess" w="53839" h="21600">
                  <a:moveTo>
                    <a:pt x="5383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2439" y="20200"/>
                  </a:lnTo>
                  <a:close/>
                </a:path>
                <a:path fill="lighten" w="5383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53839" h="21600">
                  <a:moveTo>
                    <a:pt x="19913" y="3794"/>
                  </a:moveTo>
                  <a:lnTo>
                    <a:pt x="33926" y="10800"/>
                  </a:lnTo>
                  <a:lnTo>
                    <a:pt x="19913" y="17806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492360" y="6453360"/>
              <a:ext cx="158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200" spc="-1" strike="noStrike">
                  <a:solidFill>
                    <a:srgbClr val="808080"/>
                  </a:solidFill>
                  <a:latin typeface="Arial"/>
                </a:rPr>
                <a:t>skip explanation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735120" y="1913040"/>
            <a:ext cx="266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6" presetSubtype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5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3000"/>
                            </p:stCondLst>
                            <p:childTnLst>
                              <p:par>
                                <p:cTn id="34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0000"/>
                </a:solidFill>
                <a:latin typeface="Comic Sans MS"/>
              </a:rPr>
              <a:t>Integ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35280" y="1197000"/>
            <a:ext cx="698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79720" y="3324240"/>
            <a:ext cx="19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- 4  +  6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402720" y="33274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7380360" y="1557360"/>
            <a:ext cx="793800" cy="4896000"/>
            <a:chOff x="7380360" y="1557360"/>
            <a:chExt cx="793800" cy="4896000"/>
          </a:xfrm>
        </p:grpSpPr>
        <p:sp>
          <p:nvSpPr>
            <p:cNvPr id="216" name=""/>
            <p:cNvSpPr/>
            <p:nvPr/>
          </p:nvSpPr>
          <p:spPr>
            <a:xfrm>
              <a:off x="7524720" y="1557360"/>
              <a:ext cx="0" cy="489600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380360" y="400536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380360" y="357336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819560" y="37893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819560" y="3357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380360" y="313992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380360" y="270828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19560" y="2924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819560" y="2492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80360" y="484344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380360" y="441180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719120" y="46274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719120" y="419580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380360" y="570852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380360" y="527688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719120" y="5492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-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719120" y="5060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380360" y="227664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380360" y="184464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819560" y="2060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819560" y="1628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380360" y="614052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719120" y="59245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-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7740720" y="3341520"/>
            <a:ext cx="504720" cy="505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8469360" y="3419280"/>
            <a:ext cx="295200" cy="314640"/>
          </a:xfrm>
          <a:custGeom>
            <a:avLst/>
            <a:gdLst>
              <a:gd name="textAreaLeft" fmla="*/ 0 w 295200"/>
              <a:gd name="textAreaRight" fmla="*/ 295200 w 295200"/>
              <a:gd name="textAreaTop" fmla="*/ 0 h 314640"/>
              <a:gd name="textAreaBottom" fmla="*/ 315000 h 314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2472000">
            <a:off x="7918920" y="4386240"/>
            <a:ext cx="535680" cy="54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rot="2472000">
            <a:off x="7939080" y="4832280"/>
            <a:ext cx="535680" cy="54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667640" y="5005440"/>
            <a:ext cx="649440" cy="584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218240" y="2633760"/>
            <a:ext cx="187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- 2  -  3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rot="2472000">
            <a:off x="7924320" y="3534840"/>
            <a:ext cx="536400" cy="54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rot="2472000">
            <a:off x="7924320" y="3966480"/>
            <a:ext cx="536400" cy="54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308400" y="2637000"/>
            <a:ext cx="6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-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519560" y="3973680"/>
            <a:ext cx="164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1  -  4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422160" y="3976560"/>
            <a:ext cx="54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330200" y="3976560"/>
            <a:ext cx="577800" cy="5842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908000" y="4092480"/>
            <a:ext cx="360360" cy="389160"/>
          </a:xfrm>
          <a:prstGeom prst="ellipse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282760" y="4005360"/>
            <a:ext cx="503280" cy="519120"/>
          </a:xfrm>
          <a:prstGeom prst="ellipse">
            <a:avLst/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317760" y="3933720"/>
            <a:ext cx="720720" cy="647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3492360" y="6453360"/>
            <a:ext cx="1944720" cy="276480"/>
            <a:chOff x="3492360" y="6453360"/>
            <a:chExt cx="1944720" cy="276480"/>
          </a:xfrm>
        </p:grpSpPr>
        <p:sp>
          <p:nvSpPr>
            <p:cNvPr id="255" name="">
              <a:hlinkClick r:id="" action="ppaction://hlinkshowjump?jump=nextslide"/>
            </p:cNvPr>
            <p:cNvSpPr/>
            <p:nvPr/>
          </p:nvSpPr>
          <p:spPr>
            <a:xfrm>
              <a:off x="5076720" y="6524640"/>
              <a:ext cx="360360" cy="144360"/>
            </a:xfrm>
            <a:custGeom>
              <a:avLst/>
              <a:gdLst>
                <a:gd name="textAreaLeft" fmla="*/ 9360 w 360360"/>
                <a:gd name="textAreaRight" fmla="*/ 351000 w 360360"/>
                <a:gd name="textAreaTop" fmla="*/ 9360 h 144360"/>
                <a:gd name="textAreaBottom" fmla="*/ 135000 h 144360"/>
              </a:gdLst>
              <a:ahLst/>
              <a:rect l="textAreaLeft" t="textAreaTop" r="textAreaRight" b="textAreaBottom"/>
              <a:pathLst>
                <a:path w="53839" h="21600">
                  <a:moveTo>
                    <a:pt x="0" y="0"/>
                  </a:moveTo>
                  <a:lnTo>
                    <a:pt x="53839" y="0"/>
                  </a:lnTo>
                  <a:lnTo>
                    <a:pt x="53839" y="21600"/>
                  </a:lnTo>
                  <a:lnTo>
                    <a:pt x="0" y="21600"/>
                  </a:lnTo>
                  <a:close/>
                </a:path>
                <a:path fill="lightenLess" w="53839" h="21600">
                  <a:moveTo>
                    <a:pt x="0" y="0"/>
                  </a:moveTo>
                  <a:lnTo>
                    <a:pt x="53839" y="0"/>
                  </a:lnTo>
                  <a:lnTo>
                    <a:pt x="52439" y="1400"/>
                  </a:lnTo>
                  <a:lnTo>
                    <a:pt x="1400" y="1400"/>
                  </a:lnTo>
                  <a:close/>
                </a:path>
                <a:path fill="darken" w="53839" h="21600">
                  <a:moveTo>
                    <a:pt x="53839" y="0"/>
                  </a:moveTo>
                  <a:lnTo>
                    <a:pt x="53839" y="21600"/>
                  </a:lnTo>
                  <a:lnTo>
                    <a:pt x="52439" y="20200"/>
                  </a:lnTo>
                  <a:lnTo>
                    <a:pt x="52439" y="1400"/>
                  </a:lnTo>
                  <a:close/>
                </a:path>
                <a:path fill="darkenLess" w="53839" h="21600">
                  <a:moveTo>
                    <a:pt x="5383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2439" y="20200"/>
                  </a:lnTo>
                  <a:close/>
                </a:path>
                <a:path fill="lighten" w="5383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53839" h="21600">
                  <a:moveTo>
                    <a:pt x="19913" y="3794"/>
                  </a:moveTo>
                  <a:lnTo>
                    <a:pt x="33926" y="10800"/>
                  </a:lnTo>
                  <a:lnTo>
                    <a:pt x="19913" y="17806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492360" y="6453360"/>
              <a:ext cx="158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200" spc="-1" strike="noStrike">
                  <a:solidFill>
                    <a:srgbClr val="808080"/>
                  </a:solidFill>
                  <a:latin typeface="Arial"/>
                </a:rPr>
                <a:t>skip explanation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735120" y="1913040"/>
            <a:ext cx="266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6" presetSubtype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0000"/>
                </a:solidFill>
                <a:latin typeface="Comic Sans MS"/>
              </a:rPr>
              <a:t>Integ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835280" y="1197000"/>
            <a:ext cx="698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179720" y="3324240"/>
            <a:ext cx="19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- 4  +  6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402720" y="33274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7380360" y="1557360"/>
            <a:ext cx="793800" cy="4896000"/>
            <a:chOff x="7380360" y="1557360"/>
            <a:chExt cx="793800" cy="4896000"/>
          </a:xfrm>
        </p:grpSpPr>
        <p:sp>
          <p:nvSpPr>
            <p:cNvPr id="263" name=""/>
            <p:cNvSpPr/>
            <p:nvPr/>
          </p:nvSpPr>
          <p:spPr>
            <a:xfrm>
              <a:off x="7524720" y="1557360"/>
              <a:ext cx="0" cy="489600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380360" y="400536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380360" y="357336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819560" y="37893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819560" y="3357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380360" y="313992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380360" y="270828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819560" y="2924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819560" y="2492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380360" y="484344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380360" y="441180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719120" y="46274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719120" y="419580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380360" y="570852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380360" y="527688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719120" y="5492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-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719120" y="5060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380360" y="227664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380360" y="184464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819560" y="2060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819560" y="1628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380360" y="614052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719120" y="59245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-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7740720" y="3774960"/>
            <a:ext cx="504720" cy="505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rot="5400000">
            <a:off x="8469360" y="3852720"/>
            <a:ext cx="295200" cy="314640"/>
          </a:xfrm>
          <a:custGeom>
            <a:avLst/>
            <a:gdLst>
              <a:gd name="textAreaLeft" fmla="*/ 0 w 295200"/>
              <a:gd name="textAreaRight" fmla="*/ 295200 w 295200"/>
              <a:gd name="textAreaTop" fmla="*/ 0 h 314640"/>
              <a:gd name="textAreaBottom" fmla="*/ 315000 h 314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740720" y="4581360"/>
            <a:ext cx="576360" cy="519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218240" y="2633760"/>
            <a:ext cx="187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- 2  -  3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rot="2472000">
            <a:off x="7924320" y="3968280"/>
            <a:ext cx="536400" cy="54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rot="2472000">
            <a:off x="7924320" y="4399920"/>
            <a:ext cx="536400" cy="54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308400" y="2637000"/>
            <a:ext cx="6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-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551960" y="4606920"/>
            <a:ext cx="164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0  -  2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422160" y="4610160"/>
            <a:ext cx="54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330200" y="4610160"/>
            <a:ext cx="577800" cy="5842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979640" y="4740120"/>
            <a:ext cx="360360" cy="389160"/>
          </a:xfrm>
          <a:prstGeom prst="ellipse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340000" y="4624560"/>
            <a:ext cx="503280" cy="519120"/>
          </a:xfrm>
          <a:prstGeom prst="ellipse">
            <a:avLst/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317760" y="4567320"/>
            <a:ext cx="720720" cy="647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521000" y="3984480"/>
            <a:ext cx="164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1  -  4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423960" y="3987720"/>
            <a:ext cx="54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3492360" y="6453360"/>
            <a:ext cx="1944720" cy="276480"/>
            <a:chOff x="3492360" y="6453360"/>
            <a:chExt cx="1944720" cy="276480"/>
          </a:xfrm>
        </p:grpSpPr>
        <p:sp>
          <p:nvSpPr>
            <p:cNvPr id="302" name="">
              <a:hlinkClick r:id="" action="ppaction://hlinkshowjump?jump=nextslide"/>
            </p:cNvPr>
            <p:cNvSpPr/>
            <p:nvPr/>
          </p:nvSpPr>
          <p:spPr>
            <a:xfrm>
              <a:off x="5076720" y="6524640"/>
              <a:ext cx="360360" cy="144360"/>
            </a:xfrm>
            <a:custGeom>
              <a:avLst/>
              <a:gdLst>
                <a:gd name="textAreaLeft" fmla="*/ 9360 w 360360"/>
                <a:gd name="textAreaRight" fmla="*/ 351000 w 360360"/>
                <a:gd name="textAreaTop" fmla="*/ 9360 h 144360"/>
                <a:gd name="textAreaBottom" fmla="*/ 135000 h 144360"/>
              </a:gdLst>
              <a:ahLst/>
              <a:rect l="textAreaLeft" t="textAreaTop" r="textAreaRight" b="textAreaBottom"/>
              <a:pathLst>
                <a:path w="53839" h="21600">
                  <a:moveTo>
                    <a:pt x="0" y="0"/>
                  </a:moveTo>
                  <a:lnTo>
                    <a:pt x="53839" y="0"/>
                  </a:lnTo>
                  <a:lnTo>
                    <a:pt x="53839" y="21600"/>
                  </a:lnTo>
                  <a:lnTo>
                    <a:pt x="0" y="21600"/>
                  </a:lnTo>
                  <a:close/>
                </a:path>
                <a:path fill="lightenLess" w="53839" h="21600">
                  <a:moveTo>
                    <a:pt x="0" y="0"/>
                  </a:moveTo>
                  <a:lnTo>
                    <a:pt x="53839" y="0"/>
                  </a:lnTo>
                  <a:lnTo>
                    <a:pt x="52439" y="1400"/>
                  </a:lnTo>
                  <a:lnTo>
                    <a:pt x="1400" y="1400"/>
                  </a:lnTo>
                  <a:close/>
                </a:path>
                <a:path fill="darken" w="53839" h="21600">
                  <a:moveTo>
                    <a:pt x="53839" y="0"/>
                  </a:moveTo>
                  <a:lnTo>
                    <a:pt x="53839" y="21600"/>
                  </a:lnTo>
                  <a:lnTo>
                    <a:pt x="52439" y="20200"/>
                  </a:lnTo>
                  <a:lnTo>
                    <a:pt x="52439" y="1400"/>
                  </a:lnTo>
                  <a:close/>
                </a:path>
                <a:path fill="darkenLess" w="53839" h="21600">
                  <a:moveTo>
                    <a:pt x="5383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2439" y="20200"/>
                  </a:lnTo>
                  <a:close/>
                </a:path>
                <a:path fill="lighten" w="5383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53839" h="21600">
                  <a:moveTo>
                    <a:pt x="19913" y="3794"/>
                  </a:moveTo>
                  <a:lnTo>
                    <a:pt x="33926" y="10800"/>
                  </a:lnTo>
                  <a:lnTo>
                    <a:pt x="19913" y="17806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492360" y="6453360"/>
              <a:ext cx="158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200" spc="-1" strike="noStrike">
                  <a:solidFill>
                    <a:srgbClr val="808080"/>
                  </a:solidFill>
                  <a:latin typeface="Arial"/>
                </a:rPr>
                <a:t>skip explanation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735120" y="1913040"/>
            <a:ext cx="266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6" presetSubtype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0000"/>
                </a:solidFill>
                <a:latin typeface="Comic Sans MS"/>
              </a:rPr>
              <a:t>Integ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835280" y="1197000"/>
            <a:ext cx="698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79720" y="3324240"/>
            <a:ext cx="19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- 4  +  6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402720" y="33274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7380360" y="1557360"/>
            <a:ext cx="793800" cy="4896000"/>
            <a:chOff x="7380360" y="1557360"/>
            <a:chExt cx="793800" cy="4896000"/>
          </a:xfrm>
        </p:grpSpPr>
        <p:sp>
          <p:nvSpPr>
            <p:cNvPr id="310" name=""/>
            <p:cNvSpPr/>
            <p:nvPr/>
          </p:nvSpPr>
          <p:spPr>
            <a:xfrm>
              <a:off x="7524720" y="1557360"/>
              <a:ext cx="0" cy="489600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380360" y="400536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380360" y="357336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819560" y="37893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819560" y="3357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380360" y="313992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380360" y="270828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819560" y="2924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819560" y="2492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380360" y="484344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380360" y="441180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719120" y="46274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719120" y="419580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380360" y="570852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380360" y="527688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719120" y="5492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-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719120" y="5060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380360" y="227664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380360" y="184464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819560" y="2060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819560" y="1628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380360" y="614052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719120" y="59245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-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1218240" y="2633760"/>
            <a:ext cx="187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- 2  -  3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308400" y="2637000"/>
            <a:ext cx="6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-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551960" y="4606920"/>
            <a:ext cx="164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0  -  2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422160" y="4610160"/>
            <a:ext cx="54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521000" y="3984480"/>
            <a:ext cx="164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1  -  4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423960" y="3987720"/>
            <a:ext cx="54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251000" y="5195880"/>
            <a:ext cx="19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- 5  +  5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474360" y="51991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742160" y="5877000"/>
            <a:ext cx="574920" cy="50472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258920" y="5156280"/>
            <a:ext cx="720720" cy="649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979640" y="5315040"/>
            <a:ext cx="360360" cy="388800"/>
          </a:xfrm>
          <a:prstGeom prst="ellipse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V="1" rot="16200000">
            <a:off x="8514720" y="6003720"/>
            <a:ext cx="295200" cy="314280"/>
          </a:xfrm>
          <a:custGeom>
            <a:avLst/>
            <a:gdLst>
              <a:gd name="textAreaLeft" fmla="*/ 0 w 295200"/>
              <a:gd name="textAreaRight" fmla="*/ 295200 w 295200"/>
              <a:gd name="textAreaTop" fmla="*/ -360 h 314280"/>
              <a:gd name="textAreaBottom" fmla="*/ 314280 h 314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354400" y="5229360"/>
            <a:ext cx="503280" cy="519120"/>
          </a:xfrm>
          <a:prstGeom prst="ellipse">
            <a:avLst/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rot="2472000">
            <a:off x="7918560" y="4817880"/>
            <a:ext cx="535680" cy="54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rot="2472000">
            <a:off x="7939080" y="5263920"/>
            <a:ext cx="535680" cy="54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rot="2472000">
            <a:off x="7939080" y="5695920"/>
            <a:ext cx="535680" cy="54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667640" y="3708360"/>
            <a:ext cx="649440" cy="584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362400" y="5184720"/>
            <a:ext cx="60624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rot="2472000">
            <a:off x="7924320" y="3966480"/>
            <a:ext cx="536400" cy="54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rot="2472000">
            <a:off x="7924320" y="4398480"/>
            <a:ext cx="536400" cy="54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1401840" y="5227560"/>
            <a:ext cx="1585440" cy="433440"/>
            <a:chOff x="1401840" y="5227560"/>
            <a:chExt cx="1585440" cy="433440"/>
          </a:xfrm>
        </p:grpSpPr>
        <p:sp>
          <p:nvSpPr>
            <p:cNvPr id="354" name=""/>
            <p:cNvSpPr/>
            <p:nvPr/>
          </p:nvSpPr>
          <p:spPr>
            <a:xfrm flipV="1">
              <a:off x="1401840" y="5227560"/>
              <a:ext cx="621360" cy="433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2366280" y="5227560"/>
              <a:ext cx="621000" cy="433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3492360" y="6453360"/>
            <a:ext cx="1944720" cy="276480"/>
            <a:chOff x="3492360" y="6453360"/>
            <a:chExt cx="1944720" cy="276480"/>
          </a:xfrm>
        </p:grpSpPr>
        <p:sp>
          <p:nvSpPr>
            <p:cNvPr id="357" name="">
              <a:hlinkClick r:id="" action="ppaction://hlinkshowjump?jump=nextslide"/>
            </p:cNvPr>
            <p:cNvSpPr/>
            <p:nvPr/>
          </p:nvSpPr>
          <p:spPr>
            <a:xfrm>
              <a:off x="5076720" y="6524640"/>
              <a:ext cx="360360" cy="144360"/>
            </a:xfrm>
            <a:custGeom>
              <a:avLst/>
              <a:gdLst>
                <a:gd name="textAreaLeft" fmla="*/ 9360 w 360360"/>
                <a:gd name="textAreaRight" fmla="*/ 351000 w 360360"/>
                <a:gd name="textAreaTop" fmla="*/ 9360 h 144360"/>
                <a:gd name="textAreaBottom" fmla="*/ 135000 h 144360"/>
              </a:gdLst>
              <a:ahLst/>
              <a:rect l="textAreaLeft" t="textAreaTop" r="textAreaRight" b="textAreaBottom"/>
              <a:pathLst>
                <a:path w="53839" h="21600">
                  <a:moveTo>
                    <a:pt x="0" y="0"/>
                  </a:moveTo>
                  <a:lnTo>
                    <a:pt x="53839" y="0"/>
                  </a:lnTo>
                  <a:lnTo>
                    <a:pt x="53839" y="21600"/>
                  </a:lnTo>
                  <a:lnTo>
                    <a:pt x="0" y="21600"/>
                  </a:lnTo>
                  <a:close/>
                </a:path>
                <a:path fill="lightenLess" w="53839" h="21600">
                  <a:moveTo>
                    <a:pt x="0" y="0"/>
                  </a:moveTo>
                  <a:lnTo>
                    <a:pt x="53839" y="0"/>
                  </a:lnTo>
                  <a:lnTo>
                    <a:pt x="52439" y="1400"/>
                  </a:lnTo>
                  <a:lnTo>
                    <a:pt x="1400" y="1400"/>
                  </a:lnTo>
                  <a:close/>
                </a:path>
                <a:path fill="darken" w="53839" h="21600">
                  <a:moveTo>
                    <a:pt x="53839" y="0"/>
                  </a:moveTo>
                  <a:lnTo>
                    <a:pt x="53839" y="21600"/>
                  </a:lnTo>
                  <a:lnTo>
                    <a:pt x="52439" y="20200"/>
                  </a:lnTo>
                  <a:lnTo>
                    <a:pt x="52439" y="1400"/>
                  </a:lnTo>
                  <a:close/>
                </a:path>
                <a:path fill="darkenLess" w="53839" h="21600">
                  <a:moveTo>
                    <a:pt x="5383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2439" y="20200"/>
                  </a:lnTo>
                  <a:close/>
                </a:path>
                <a:path fill="lighten" w="5383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53839" h="21600">
                  <a:moveTo>
                    <a:pt x="19913" y="3794"/>
                  </a:moveTo>
                  <a:lnTo>
                    <a:pt x="33926" y="10800"/>
                  </a:lnTo>
                  <a:lnTo>
                    <a:pt x="19913" y="17806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92360" y="6453360"/>
              <a:ext cx="158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200" spc="-1" strike="noStrike">
                  <a:solidFill>
                    <a:srgbClr val="808080"/>
                  </a:solidFill>
                  <a:latin typeface="Arial"/>
                </a:rPr>
                <a:t>skip explanation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735120" y="1913040"/>
            <a:ext cx="266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6" presetSubtype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500"/>
                            </p:stCondLst>
                            <p:childTnLst>
                              <p:par>
                                <p:cTn id="5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500"/>
                            </p:stCondLst>
                            <p:childTnLst>
                              <p:par>
                                <p:cTn id="54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6T14:11:46Z</dcterms:created>
  <dc:creator>Antonija</dc:creator>
  <dc:description/>
  <dc:language>en-US</dc:language>
  <cp:lastModifiedBy>Antonija</cp:lastModifiedBy>
  <dcterms:modified xsi:type="dcterms:W3CDTF">2007-07-08T19:26:34Z</dcterms:modified>
  <cp:revision>143</cp:revision>
  <dc:subject/>
  <dc:title>Slide 1</dc:title>
</cp:coreProperties>
</file>