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D97-CE6F-46C9-952A-AE0BD652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E4D-C06D-4562-9FCB-750C23B8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11B-0AEB-4349-8186-619918D0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657-BAB9-4120-8929-31738857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BDC-8729-4198-A7D1-62B28D1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7CD-A036-4653-AA24-3EA3A84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25F-FDFF-465F-884F-6EA46851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9D4-9D5C-4DB9-BA91-8BCCF0B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0CA-5E9F-4361-950C-1453A6C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29A-3ED7-4E4E-A518-B8EFDF8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AB9-FA5C-42C7-B7FE-91F8736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190-6B39-497B-9F9E-99BE070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53E-8AEC-4DDF-91B3-FCCE67BE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38000" y="2205000"/>
            <a:ext cx="425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ff0000"/>
                </a:solidFill>
                <a:uFillTx/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ff0000"/>
                </a:solidFill>
                <a:uFillTx/>
                <a:latin typeface="Comic Sans MS"/>
              </a:rPr>
              <a:t>(revi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55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981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By solving previous task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we revised relationships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different kinds of nu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hat was view "top-down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2889360"/>
            <a:ext cx="60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Now, let's revise rules for each set of numbers separatell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98760" y="4041720"/>
            <a:ext cx="60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We shall start with numbers that you know the best, from your 1st gr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hese a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Natur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34560" y="191124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, 2, 3, 4, 5, 6, 7, 8, 9, 10, 11, 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7200" y="2630520"/>
            <a:ext cx="47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set of natural number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5040" y="34225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15120" y="3422520"/>
            <a:ext cx="34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 1, 2, 3, 4, 5, 6…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4794120"/>
            <a:ext cx="820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2464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05000" y="26272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70600" y="5734080"/>
            <a:ext cx="35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What would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003280" y="5300640"/>
            <a:ext cx="1297080" cy="503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Natur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34560" y="191124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, 2, 3, 4, 5, 6, 7, 8, 9, 10, 11, 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5040" y="34225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15120" y="3422520"/>
            <a:ext cx="34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 1, 2, 3, 4, 5, 6…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4794120"/>
            <a:ext cx="820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916360" y="4649760"/>
            <a:ext cx="4751280" cy="287280"/>
            <a:chOff x="2916360" y="4649760"/>
            <a:chExt cx="4751280" cy="287280"/>
          </a:xfrm>
        </p:grpSpPr>
        <p:sp>
          <p:nvSpPr>
            <p:cNvPr id="323" name=""/>
            <p:cNvSpPr/>
            <p:nvPr/>
          </p:nvSpPr>
          <p:spPr>
            <a:xfrm>
              <a:off x="291636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0836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072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9128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8328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7564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6764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12464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8460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709000" y="5010120"/>
            <a:ext cx="5165640" cy="581400"/>
            <a:chOff x="2709000" y="5010120"/>
            <a:chExt cx="5165640" cy="581400"/>
          </a:xfrm>
        </p:grpSpPr>
        <p:sp>
          <p:nvSpPr>
            <p:cNvPr id="333" name=""/>
            <p:cNvSpPr/>
            <p:nvPr/>
          </p:nvSpPr>
          <p:spPr>
            <a:xfrm>
              <a:off x="270900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1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3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5700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9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41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064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805000" y="26272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479736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692360" y="501300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8720" y="57340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uni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20080" y="57340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7200" y="2630520"/>
            <a:ext cx="47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set of natural number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Natur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9520" y="1557360"/>
            <a:ext cx="67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What calculations did we do in set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0720" y="213372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35920" y="2117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8280" y="25653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8560" y="2637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09320" y="333360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1600" spc="-1" strike="noStrike">
                <a:solidFill>
                  <a:srgbClr val="ff0000"/>
                </a:solidFill>
                <a:latin typeface="Comic Sans MS"/>
              </a:rPr>
              <a:t>addition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8160" y="378936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61160" y="383868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2400" spc="-1" strike="noStrike">
                <a:solidFill>
                  <a:srgbClr val="0000cc"/>
                </a:solidFill>
                <a:latin typeface="Comic Sans MS"/>
              </a:rPr>
              <a:t>?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Natur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2760" y="37893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8280" y="383868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1600" spc="-1" strike="noStrike">
                <a:solidFill>
                  <a:srgbClr val="ff0000"/>
                </a:solidFill>
                <a:latin typeface="Comic Sans MS"/>
              </a:rPr>
              <a:t>multiplication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5680" y="43639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+4)+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7080" y="465300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32680" y="441324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associative property (</a:t>
            </a:r>
            <a:r>
              <a:rPr b="1" lang="hr-HR" sz="1600" spc="-1" strike="noStrike">
                <a:solidFill>
                  <a:srgbClr val="009900"/>
                </a:solidFill>
                <a:latin typeface="Comic Sans MS"/>
              </a:rPr>
              <a:t>addition</a:t>
            </a: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96200" y="437976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+(4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3320" y="4940280"/>
            <a:ext cx="16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4)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9520" y="1557360"/>
            <a:ext cx="67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What calculations did we do in set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13372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35920" y="2117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08280" y="25653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560" y="2637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09320" y="333360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1600" spc="-1" strike="noStrike">
                <a:solidFill>
                  <a:srgbClr val="ff0000"/>
                </a:solidFill>
                <a:latin typeface="Comic Sans MS"/>
              </a:rPr>
              <a:t>addition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Natur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760" y="37893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5680" y="43639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+4)+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37080" y="465300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96200" y="437976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+(4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8280" y="4940280"/>
            <a:ext cx="15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4)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37080" y="522936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92000" y="4989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associative property (</a:t>
            </a:r>
            <a:r>
              <a:rPr b="1" lang="hr-HR" sz="1600" spc="-1" strike="noStrike">
                <a:solidFill>
                  <a:srgbClr val="009900"/>
                </a:solidFill>
                <a:latin typeface="Comic Sans MS"/>
              </a:rPr>
              <a:t>multiplication</a:t>
            </a: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98800" y="495612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4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5520" y="566100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(2+4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37080" y="5950080"/>
            <a:ext cx="8636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21240" y="571032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Comic Sans MS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32200" y="5676840"/>
            <a:ext cx="13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2+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 rot="2532000">
            <a:off x="205200" y="5450040"/>
            <a:ext cx="807840" cy="7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33" y="3"/>
                </a:moveTo>
                <a:arcTo wR="10800" hR="10800" stAng="-5325855" swAng="5100794"/>
                <a:lnTo>
                  <a:pt x="10800" y="10800"/>
                </a:lnTo>
                <a:close/>
              </a:path>
              <a:path fill="none" w="21600" h="21600">
                <a:moveTo>
                  <a:pt x="11033" y="3"/>
                </a:moveTo>
                <a:arcTo wR="10800" hR="10800" stAng="-5325855" swAng="5100794"/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 rot="2532000">
            <a:off x="173880" y="5243400"/>
            <a:ext cx="1237320" cy="12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96" y="319"/>
                </a:moveTo>
                <a:arcTo wR="10800" hR="10800" stAng="-6237016" swAng="6650811"/>
                <a:lnTo>
                  <a:pt x="10800" y="10800"/>
                </a:lnTo>
                <a:close/>
              </a:path>
              <a:path fill="none" w="21600" h="21600">
                <a:moveTo>
                  <a:pt x="8196" y="319"/>
                </a:moveTo>
                <a:arcTo wR="10800" hR="10800" stAng="-6237016" swAng="6650811"/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8280" y="383868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1600" spc="-1" strike="noStrike">
                <a:solidFill>
                  <a:srgbClr val="ff0000"/>
                </a:solidFill>
                <a:latin typeface="Comic Sans MS"/>
              </a:rPr>
              <a:t>multiplication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32680" y="441324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associative property (</a:t>
            </a:r>
            <a:r>
              <a:rPr b="1" lang="hr-HR" sz="1600" spc="-1" strike="noStrike">
                <a:solidFill>
                  <a:srgbClr val="009900"/>
                </a:solidFill>
                <a:latin typeface="Comic Sans MS"/>
              </a:rPr>
              <a:t>addition</a:t>
            </a:r>
            <a:r>
              <a:rPr b="1" lang="hr-HR" sz="24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9320" y="333360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commutative property (</a:t>
            </a:r>
            <a:r>
              <a:rPr b="1" lang="hr-HR" sz="1600" spc="-1" strike="noStrike">
                <a:solidFill>
                  <a:srgbClr val="ff0000"/>
                </a:solidFill>
                <a:latin typeface="Comic Sans MS"/>
              </a:rPr>
              <a:t>addition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9520" y="1557360"/>
            <a:ext cx="67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What calculations did we do in set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0720" y="213372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35920" y="2117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08280" y="25653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8560" y="26370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455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7226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Are these properties valid only in set 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282744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o, they are valid in all 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(with all numbers)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98760" y="412416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And now, integ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87680" y="19130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, 2, 3, 4, 5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47880" y="263700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set of integer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34290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88920" y="3429000"/>
            <a:ext cx="57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… -4, -3, -2, -1, 0, 1, 2, 3, 4…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58480" y="19130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35160" y="19130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, -2, -3, -4, -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82280" y="26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4937040"/>
            <a:ext cx="820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332000" y="4792680"/>
            <a:ext cx="2376360" cy="287280"/>
            <a:chOff x="1332000" y="4792680"/>
            <a:chExt cx="2376360" cy="287280"/>
          </a:xfrm>
        </p:grpSpPr>
        <p:sp>
          <p:nvSpPr>
            <p:cNvPr id="419" name=""/>
            <p:cNvSpPr/>
            <p:nvPr/>
          </p:nvSpPr>
          <p:spPr>
            <a:xfrm>
              <a:off x="1332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24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16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8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50072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9128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93360" y="5153040"/>
            <a:ext cx="1173960" cy="581400"/>
            <a:chOff x="4293360" y="5153040"/>
            <a:chExt cx="1173960" cy="581400"/>
          </a:xfrm>
        </p:grpSpPr>
        <p:sp>
          <p:nvSpPr>
            <p:cNvPr id="426" name=""/>
            <p:cNvSpPr/>
            <p:nvPr/>
          </p:nvSpPr>
          <p:spPr>
            <a:xfrm>
              <a:off x="429336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533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083280" y="4792680"/>
            <a:ext cx="1584360" cy="287280"/>
            <a:chOff x="6083280" y="4792680"/>
            <a:chExt cx="1584360" cy="287280"/>
          </a:xfrm>
        </p:grpSpPr>
        <p:sp>
          <p:nvSpPr>
            <p:cNvPr id="429" name=""/>
            <p:cNvSpPr/>
            <p:nvPr/>
          </p:nvSpPr>
          <p:spPr>
            <a:xfrm>
              <a:off x="608328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5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67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877720" y="5153040"/>
            <a:ext cx="1998360" cy="581400"/>
            <a:chOff x="5877720" y="5153040"/>
            <a:chExt cx="1998360" cy="581400"/>
          </a:xfrm>
        </p:grpSpPr>
        <p:sp>
          <p:nvSpPr>
            <p:cNvPr id="433" name=""/>
            <p:cNvSpPr/>
            <p:nvPr/>
          </p:nvSpPr>
          <p:spPr>
            <a:xfrm>
              <a:off x="58777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70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62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07100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63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55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532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35640" y="587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contin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1440" y="191304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Compare the given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30960" y="282096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23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26480" y="2727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38080" y="3755880"/>
            <a:ext cx="19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2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37640" y="366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13600" y="462132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0       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26480" y="4527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451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8532720" y="177336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4438800"/>
            <a:ext cx="0" cy="172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514000" y="162864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552160" y="43657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6280" y="19130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add two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98960" y="2681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if they have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the same</a:t>
            </a: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 sig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24680" y="3189240"/>
            <a:ext cx="34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we keep their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91120" y="4552920"/>
            <a:ext cx="49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if they have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different</a:t>
            </a: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 sig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1480" y="50608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we rewrite sign from big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96960" y="36450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we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add</a:t>
            </a: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 absolu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20360" y="5502240"/>
            <a:ext cx="50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we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subtract</a:t>
            </a: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 absolu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320" y="189000"/>
            <a:ext cx="79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What kinds of numbers do you know and what 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they descri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07120" y="17733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38720" y="44118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7120" y="55897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6640" y="3114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0440" y="1268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1, 2, 3, 4, 5, 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0800" y="17733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1, 2, 3, 4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57760" y="44845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7, -0.304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740120" y="2924280"/>
          <a:ext cx="2821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924280"/>
                    <a:ext cx="282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05400" y="5589720"/>
            <a:ext cx="46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fractions and all numbers which can be changed into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064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05920" y="2492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1, -2, -3, -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4760" y="3809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730760" y="3691080"/>
          <a:ext cx="2637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3691080"/>
                    <a:ext cx="2637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493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742160" y="458136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263700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36720" y="2752560"/>
            <a:ext cx="43164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8397360" y="478764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269388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472000">
            <a:off x="7918560" y="489096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472000">
            <a:off x="7939080" y="533700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472000">
            <a:off x="7939080" y="576864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67640" y="587700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17760" y="2593800"/>
            <a:ext cx="72072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527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534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7742160" y="544500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116000" y="33274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51120" y="3443400"/>
            <a:ext cx="43164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 rot="16200000">
            <a:off x="8514720" y="557208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68360" y="338472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2472000">
            <a:off x="7918920" y="4386240"/>
            <a:ext cx="535680" cy="54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2472000">
            <a:off x="7939080" y="48322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472000">
            <a:off x="7939080" y="5263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67640" y="28526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17760" y="328464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2472000">
            <a:off x="7904160" y="308916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2472000">
            <a:off x="7924320" y="353484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573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581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7740720" y="334152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8469360" y="3419280"/>
            <a:ext cx="295200" cy="31464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2472000">
            <a:off x="7918920" y="4386240"/>
            <a:ext cx="535680" cy="54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2472000">
            <a:off x="7939080" y="48322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67640" y="50054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2472000">
            <a:off x="7924320" y="353484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19560" y="39736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22160" y="39765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330200" y="39765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08000" y="409248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282760" y="4005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17760" y="39337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620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628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7740720" y="377496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8469360" y="3852720"/>
            <a:ext cx="295200" cy="31464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40720" y="4581360"/>
            <a:ext cx="57636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472000">
            <a:off x="7924320" y="39682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2472000">
            <a:off x="7924320" y="439992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330200" y="46101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79640" y="474012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46245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17760" y="45673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667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675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51000" y="519588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  +  5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74360" y="5199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42160" y="5877000"/>
            <a:ext cx="574920" cy="504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58920" y="51562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79640" y="5315040"/>
            <a:ext cx="36036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 rot="16200000">
            <a:off x="8514720" y="600372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354400" y="5229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2472000">
            <a:off x="7918560" y="48178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2472000">
            <a:off x="7939080" y="5263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2472000">
            <a:off x="7939080" y="5695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667640" y="370836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362400" y="5184720"/>
            <a:ext cx="6062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2472000">
            <a:off x="7924320" y="4398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401840" y="5227560"/>
            <a:ext cx="1585440" cy="433440"/>
            <a:chOff x="1401840" y="5227560"/>
            <a:chExt cx="1585440" cy="433440"/>
          </a:xfrm>
        </p:grpSpPr>
        <p:sp>
          <p:nvSpPr>
            <p:cNvPr id="719" name=""/>
            <p:cNvSpPr/>
            <p:nvPr/>
          </p:nvSpPr>
          <p:spPr>
            <a:xfrm flipV="1">
              <a:off x="1401840" y="5227560"/>
              <a:ext cx="62136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366280" y="522756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722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222920" y="263376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7 - 5 + 8 - 1 +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52320" y="27525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20680" y="276552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3760" y="263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26360" y="263700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839200" y="2637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558680" y="3209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76920" y="421308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37 - 55 + 128 - 55 - 37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49240" y="433224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75720" y="4216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928200" y="42163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215480" y="421632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04200" y="47941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187280" y="4290840"/>
            <a:ext cx="4392720" cy="433440"/>
            <a:chOff x="1187280" y="4290840"/>
            <a:chExt cx="4392720" cy="433440"/>
          </a:xfrm>
        </p:grpSpPr>
        <p:sp>
          <p:nvSpPr>
            <p:cNvPr id="741" name=""/>
            <p:cNvSpPr/>
            <p:nvPr/>
          </p:nvSpPr>
          <p:spPr>
            <a:xfrm flipV="1">
              <a:off x="1187280" y="429084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959360" y="4290840"/>
              <a:ext cx="62064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0000" y="191304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multiply and divide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88120" y="2681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41560" y="3333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14560" y="3846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8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05920" y="434988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47680" y="4846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: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77920" y="53593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63 :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168920" y="586260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8 :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35400" y="3357720"/>
            <a:ext cx="1588680" cy="2017440"/>
            <a:chOff x="4235400" y="3357720"/>
            <a:chExt cx="1588680" cy="2017440"/>
          </a:xfrm>
        </p:grpSpPr>
        <p:sp>
          <p:nvSpPr>
            <p:cNvPr id="755" name=""/>
            <p:cNvSpPr/>
            <p:nvPr/>
          </p:nvSpPr>
          <p:spPr>
            <a:xfrm>
              <a:off x="4235400" y="3357720"/>
              <a:ext cx="158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6780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67800" y="436572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00200" y="4854600"/>
              <a:ext cx="14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80140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83308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83308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0140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765120" y="3357720"/>
            <a:ext cx="1589040" cy="2017440"/>
            <a:chOff x="6765120" y="3357720"/>
            <a:chExt cx="1589040" cy="2017440"/>
          </a:xfrm>
        </p:grpSpPr>
        <p:sp>
          <p:nvSpPr>
            <p:cNvPr id="764" name=""/>
            <p:cNvSpPr/>
            <p:nvPr/>
          </p:nvSpPr>
          <p:spPr>
            <a:xfrm>
              <a:off x="6765120" y="335772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752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97520" y="436572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29560" y="4854600"/>
              <a:ext cx="14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832212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35416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5416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32212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67760" y="3333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38466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39960" y="4349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32760" y="48466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40840" y="535932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26880" y="5862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171440" y="333360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4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26720" y="3333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920760" y="4687920"/>
            <a:ext cx="449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Why did we put some numbers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parenthe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124000" y="4581360"/>
            <a:ext cx="1871280" cy="287280"/>
            <a:chOff x="2124000" y="4581360"/>
            <a:chExt cx="1871280" cy="287280"/>
          </a:xfrm>
        </p:grpSpPr>
        <p:sp>
          <p:nvSpPr>
            <p:cNvPr id="784" name=""/>
            <p:cNvSpPr/>
            <p:nvPr/>
          </p:nvSpPr>
          <p:spPr>
            <a:xfrm flipH="1">
              <a:off x="2124000" y="4868640"/>
              <a:ext cx="18712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2124000" y="4581360"/>
              <a:ext cx="0" cy="287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012200" y="3341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75840" y="39816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5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4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143680" y="3989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43280" y="55166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Even number of minuses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24560" y="55166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+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48320" y="599616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Odd number of minuses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599080" y="599616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34680" y="398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20000" y="191304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multiply and divide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88120" y="2681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38000" y="1913040"/>
            <a:ext cx="70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What to do with these parenthe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20880" y="278136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+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97480" y="2789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239640" y="27892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35320" y="2805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951480" y="3503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- (-8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95680" y="3511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33080" y="35114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58640" y="352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86680" y="426420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- (+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71120" y="427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50920" y="42721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39040" y="428796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31760" y="501660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- 4 - (-32) + (-4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64000" y="5486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= 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7380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56968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495240" y="5486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6796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338120" y="5559480"/>
            <a:ext cx="2089080" cy="358560"/>
            <a:chOff x="1338120" y="5559480"/>
            <a:chExt cx="2089080" cy="358560"/>
          </a:xfrm>
        </p:grpSpPr>
        <p:sp>
          <p:nvSpPr>
            <p:cNvPr id="818" name=""/>
            <p:cNvSpPr/>
            <p:nvPr/>
          </p:nvSpPr>
          <p:spPr>
            <a:xfrm flipV="1">
              <a:off x="133812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92248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5330520" y="2565360"/>
            <a:ext cx="34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f we have plu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t says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46000" y="3686040"/>
            <a:ext cx="37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just to rewrite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from paren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228440" y="3284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375880" y="4694400"/>
            <a:ext cx="37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f we have minu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t says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28000" y="5846760"/>
            <a:ext cx="36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to change all sign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228440" y="54198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455840" y="276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60360" y="1954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I hope it was interesting and usefu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58920" y="3465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Now let's solve more 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with more operations and parenthes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Open your notebook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140360" y="249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</a:t>
            </a: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771640" y="11239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hat's al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0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57760" y="44845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7, -0.304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05920" y="2492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1, -2, -3, -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40120" y="2924280"/>
          <a:ext cx="2821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924280"/>
                    <a:ext cx="282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30760" y="3691080"/>
          <a:ext cx="2637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3691080"/>
                    <a:ext cx="2637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10800" y="17733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1, 2, 3, 4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8064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1268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1, 2, 3, 4, 5, 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320" y="189000"/>
            <a:ext cx="79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What kinds of numbers do you know and what 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they descri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7120" y="17733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38720" y="44118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36640" y="3114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4760" y="3809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042920" y="2349360"/>
            <a:ext cx="720108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cc"/>
                </a:solidFill>
                <a:latin typeface="Arial"/>
              </a:rPr>
              <a:t>Author of pres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00cc"/>
                </a:solidFill>
                <a:latin typeface="Arial"/>
              </a:rPr>
              <a:t>Antonija Horva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00cc"/>
                </a:solidFill>
                <a:latin typeface="Arial"/>
              </a:rPr>
              <a:t>Croatia</a:t>
            </a:r>
            <a:r>
              <a:rPr b="0" lang="hr-HR" sz="16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00cc"/>
                </a:solidFill>
                <a:latin typeface="Arial"/>
              </a:rPr>
              <a:t>September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03280" y="186372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f you want, you can use this presentation in your t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so, if you want, you can change some parts of it in this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560" y="2936880"/>
            <a:ext cx="656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ut, if you want to use it in public lectures, worksho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 writing books, articles, on CDs and simi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hen is nessesary to ask and to get permission of auth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19960" y="4406760"/>
            <a:ext cx="376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tonija Horv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ublic.carnet.hr/~ahor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horvatek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00" y="189000"/>
            <a:ext cx="570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How to change them into frac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05200" y="374004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96840" y="2060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3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88000" y="4340160"/>
          <a:ext cx="8413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340160"/>
                    <a:ext cx="84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560" y="20606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, 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81720" y="126828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48360" y="1125360"/>
          <a:ext cx="27612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125360"/>
                    <a:ext cx="2761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54720" y="1914480"/>
          <a:ext cx="63000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54720" y="1914480"/>
                    <a:ext cx="630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020000" y="1914480"/>
          <a:ext cx="30312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0000" y="1914480"/>
                    <a:ext cx="303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796000" y="4351320"/>
          <a:ext cx="44604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51320"/>
                    <a:ext cx="446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630760" y="3548160"/>
          <a:ext cx="63504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0760" y="3548160"/>
                    <a:ext cx="6350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196680" y="37400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, -0.00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596360" y="3548160"/>
          <a:ext cx="7524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354816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09320" y="4724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560" y="189000"/>
            <a:ext cx="74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nd contrary - from fractions into other fo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974280" y="1700280"/>
            <a:ext cx="15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it doesn'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exist,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can't dev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by zer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822440" y="3692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74000" y="3500280"/>
          <a:ext cx="77472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4000" y="3500280"/>
                    <a:ext cx="7747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131" name="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828560" y="3692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308720" y="3500280"/>
          <a:ext cx="56376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3500280"/>
                    <a:ext cx="5637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164" name="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74280" y="1700280"/>
            <a:ext cx="15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it doesn'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exist,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can't dev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by zer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6560" y="189000"/>
            <a:ext cx="74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nd contrary - from fractions into other fo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828560" y="3692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321680" y="3500280"/>
          <a:ext cx="56340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21680" y="3500280"/>
                    <a:ext cx="563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00" name="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74280" y="1700280"/>
            <a:ext cx="15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it doesn'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exist,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can't dev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by zer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6560" y="189000"/>
            <a:ext cx="74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nd contrary - from fractions into other fo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308720" y="3489480"/>
          <a:ext cx="540000" cy="81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3489480"/>
                    <a:ext cx="540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35" name="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822440" y="3386160"/>
            <a:ext cx="610560" cy="766080"/>
            <a:chOff x="7822440" y="3386160"/>
            <a:chExt cx="610560" cy="766080"/>
          </a:xfrm>
        </p:grpSpPr>
        <p:sp>
          <p:nvSpPr>
            <p:cNvPr id="244" name=""/>
            <p:cNvSpPr/>
            <p:nvPr/>
          </p:nvSpPr>
          <p:spPr>
            <a:xfrm>
              <a:off x="7822440" y="369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cc"/>
                  </a:solidFill>
                  <a:latin typeface="Comic Sans MS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25200" y="338616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00cc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74280" y="1700280"/>
            <a:ext cx="15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it doesn'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exist,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can't dev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by zer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6560" y="189000"/>
            <a:ext cx="74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nd contrary - from fractions into other fo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822920" y="4340160"/>
          <a:ext cx="7714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2920" y="4340160"/>
                    <a:ext cx="771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867280" y="4351320"/>
          <a:ext cx="44460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4351320"/>
                    <a:ext cx="444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4" name="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75" name="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78200" y="4508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3856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308720" y="3489480"/>
          <a:ext cx="540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3489480"/>
                    <a:ext cx="540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"/>
          <p:cNvGrpSpPr/>
          <p:nvPr/>
        </p:nvGrpSpPr>
        <p:grpSpPr>
          <a:xfrm>
            <a:off x="7822440" y="3386160"/>
            <a:ext cx="610560" cy="766080"/>
            <a:chOff x="7822440" y="3386160"/>
            <a:chExt cx="610560" cy="766080"/>
          </a:xfrm>
        </p:grpSpPr>
        <p:sp>
          <p:nvSpPr>
            <p:cNvPr id="285" name=""/>
            <p:cNvSpPr/>
            <p:nvPr/>
          </p:nvSpPr>
          <p:spPr>
            <a:xfrm>
              <a:off x="7822440" y="369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cc"/>
                  </a:solidFill>
                  <a:latin typeface="Comic Sans MS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25200" y="338616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00cc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00160" y="5105520"/>
            <a:ext cx="26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What operation did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calculate in all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task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14600" y="58500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74280" y="1700280"/>
            <a:ext cx="15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it doesn'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exist,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can't dev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by zer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50240" y="1268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natur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7120" y="2035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38720" y="36925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36640" y="29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24760" y="44845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ixe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6560" y="189000"/>
            <a:ext cx="74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nd contrary - from fractions into other fo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11:46Z</dcterms:created>
  <dc:creator>Antonija</dc:creator>
  <dc:description/>
  <dc:language>en-US</dc:language>
  <cp:lastModifiedBy>Antonija</cp:lastModifiedBy>
  <dcterms:modified xsi:type="dcterms:W3CDTF">2007-06-13T20:11:41Z</dcterms:modified>
  <cp:revision>141</cp:revision>
  <dc:subject/>
  <dc:title>Slide 1</dc:title>
</cp:coreProperties>
</file>