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C23-4AE5-479F-8AD1-CBF2A56B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788-EC75-4220-86FB-144367E6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9E5-CD6E-41B0-B2F0-E54BA5B0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473-116B-4B80-8E1D-C20C8EBF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68E-8642-407A-94EF-2CA3E1C6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CCD-9485-4A62-8E74-3AC56D9D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000-89C5-47E3-8B63-623FFCB0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395-DB63-4D46-B263-3E5C25A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1F7-AAA0-462E-8FB6-526B3136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3B6-CA8F-4544-BF77-4D883037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2F3-9E5F-4EEC-8626-1A4865BC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9B6-BDA1-4679-BC9C-09F54666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203A-0D75-4AA2-98B5-84725D88B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ublic.carnet.hr/~ahorvate" TargetMode="External"/><Relationship Id="rId2" Type="http://schemas.openxmlformats.org/officeDocument/2006/relationships/hyperlink" Target="mailto:ahorvatek@yahoo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43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3333cc"/>
                </a:solidFill>
                <a:latin typeface="Arial"/>
              </a:rPr>
              <a:t>Analogies</a:t>
            </a:r>
            <a:br>
              <a:rPr sz="4000"/>
            </a:br>
            <a:br>
              <a:rPr sz="2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4000" spc="-1" strike="noStrike">
                <a:solidFill>
                  <a:srgbClr val="3333cc"/>
                </a:solidFill>
                <a:latin typeface="Arial"/>
              </a:rPr>
              <a:t>between  formu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95280" y="3049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is i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16000" y="3049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parallepi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129528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What polygon is </a:t>
            </a:r>
            <a:r>
              <a:rPr b="0" i="1" lang="hr-HR" sz="2800" spc="-1" strike="noStrike">
                <a:solidFill>
                  <a:srgbClr val="2929a5"/>
                </a:solidFill>
                <a:latin typeface="Comic Sans MS"/>
              </a:rPr>
              <a:t>similar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o the parallepi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4200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396252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e parallepiped is a part of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9280" y="5013360"/>
            <a:ext cx="46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Which term</a:t>
            </a:r>
            <a:r>
              <a:rPr b="1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describe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the size of the part of spac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occupied by the parallepiped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434340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078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307800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·b·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15000" y="3948120"/>
            <a:ext cx="38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e rectangle is a part of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_____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_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24360" y="5013360"/>
            <a:ext cx="431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Which term</a:t>
            </a:r>
            <a:r>
              <a:rPr b="1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describe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the size of the part of a plan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occupied by the rectangl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4357800"/>
            <a:ext cx="15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a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15000" y="306216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66040" y="306216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·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791320" y="1504800"/>
            <a:ext cx="2132640" cy="1240560"/>
            <a:chOff x="5791320" y="1504800"/>
            <a:chExt cx="2132640" cy="1240560"/>
          </a:xfrm>
        </p:grpSpPr>
        <p:sp>
          <p:nvSpPr>
            <p:cNvPr id="317" name=""/>
            <p:cNvSpPr/>
            <p:nvPr/>
          </p:nvSpPr>
          <p:spPr>
            <a:xfrm>
              <a:off x="5791320" y="1504800"/>
              <a:ext cx="1524240" cy="8362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99720" y="22856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15560" y="1728360"/>
              <a:ext cx="60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523520" y="990720"/>
            <a:ext cx="1524240" cy="2030400"/>
            <a:chOff x="1523520" y="990720"/>
            <a:chExt cx="1524240" cy="2030400"/>
          </a:xfrm>
        </p:grpSpPr>
        <p:grpSp>
          <p:nvGrpSpPr>
            <p:cNvPr id="321" name=""/>
            <p:cNvGrpSpPr/>
            <p:nvPr/>
          </p:nvGrpSpPr>
          <p:grpSpPr>
            <a:xfrm>
              <a:off x="1523520" y="990720"/>
              <a:ext cx="1144080" cy="1617840"/>
              <a:chOff x="1523520" y="990720"/>
              <a:chExt cx="1144080" cy="1617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523880" y="990720"/>
                <a:ext cx="1142280" cy="289080"/>
              </a:xfrm>
              <a:custGeom>
                <a:avLst/>
                <a:gdLst/>
                <a:ahLst/>
                <a:rect l="l" t="t" r="r" b="b"/>
                <a:pathLst>
                  <a:path w="880" h="143">
                    <a:moveTo>
                      <a:pt x="652" y="143"/>
                    </a:moveTo>
                    <a:lnTo>
                      <a:pt x="880" y="0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652" y="143"/>
                    </a:lnTo>
                    <a:close/>
                  </a:path>
                </a:pathLst>
              </a:custGeom>
              <a:solidFill>
                <a:srgbClr val="1684fc"/>
              </a:solidFill>
              <a:ln w="0">
                <a:solidFill>
                  <a:srgbClr val="1684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70240" y="990720"/>
                <a:ext cx="295560" cy="1615680"/>
              </a:xfrm>
              <a:custGeom>
                <a:avLst/>
                <a:gdLst/>
                <a:ahLst/>
                <a:rect l="l" t="t" r="r" b="b"/>
                <a:pathLst>
                  <a:path w="228" h="799">
                    <a:moveTo>
                      <a:pt x="0" y="799"/>
                    </a:moveTo>
                    <a:lnTo>
                      <a:pt x="228" y="656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0" y="799"/>
                    </a:lnTo>
                    <a:close/>
                  </a:path>
                </a:pathLst>
              </a:custGeom>
              <a:solidFill>
                <a:srgbClr val="0153fe"/>
              </a:solidFill>
              <a:ln w="0">
                <a:solidFill>
                  <a:srgbClr val="0153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523880" y="1279800"/>
                <a:ext cx="846360" cy="1326240"/>
              </a:xfrm>
              <a:prstGeom prst="rect">
                <a:avLst/>
              </a:prstGeom>
              <a:solidFill>
                <a:srgbClr val="016cfe"/>
              </a:solidFill>
              <a:ln w="0">
                <a:solidFill>
                  <a:srgbClr val="016c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523880" y="2606400"/>
                <a:ext cx="846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370240" y="1279800"/>
                <a:ext cx="1080" cy="13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23880" y="1279800"/>
                <a:ext cx="84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3880" y="1279800"/>
                <a:ext cx="1080" cy="13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2369880" y="2317320"/>
                <a:ext cx="29556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666160" y="990720"/>
                <a:ext cx="1440" cy="13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19440" y="990720"/>
                <a:ext cx="84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523520" y="2317320"/>
                <a:ext cx="295560" cy="288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2369880" y="990720"/>
                <a:ext cx="29556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1523520" y="990720"/>
                <a:ext cx="29556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819440" y="2317320"/>
                <a:ext cx="84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819440" y="990720"/>
                <a:ext cx="1080" cy="13266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800720" y="2561400"/>
              <a:ext cx="3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09200" y="2287800"/>
              <a:ext cx="3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72640" y="1395720"/>
              <a:ext cx="3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90720" y="3078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07800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·b·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306216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66040" y="306216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·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146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791320" y="1504800"/>
            <a:ext cx="2132640" cy="1240560"/>
            <a:chOff x="5791320" y="1504800"/>
            <a:chExt cx="2132640" cy="1240560"/>
          </a:xfrm>
        </p:grpSpPr>
        <p:sp>
          <p:nvSpPr>
            <p:cNvPr id="346" name=""/>
            <p:cNvSpPr/>
            <p:nvPr/>
          </p:nvSpPr>
          <p:spPr>
            <a:xfrm>
              <a:off x="5791320" y="1504800"/>
              <a:ext cx="1524240" cy="8362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99720" y="22856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5560" y="1728360"/>
              <a:ext cx="60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23520" y="990720"/>
            <a:ext cx="1524240" cy="2030400"/>
            <a:chOff x="1523520" y="990720"/>
            <a:chExt cx="1524240" cy="2030400"/>
          </a:xfrm>
        </p:grpSpPr>
        <p:grpSp>
          <p:nvGrpSpPr>
            <p:cNvPr id="350" name=""/>
            <p:cNvGrpSpPr/>
            <p:nvPr/>
          </p:nvGrpSpPr>
          <p:grpSpPr>
            <a:xfrm>
              <a:off x="1523520" y="990720"/>
              <a:ext cx="1144080" cy="1617840"/>
              <a:chOff x="1523520" y="990720"/>
              <a:chExt cx="1144080" cy="16178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23880" y="990720"/>
                <a:ext cx="1142280" cy="289080"/>
              </a:xfrm>
              <a:custGeom>
                <a:avLst/>
                <a:gdLst/>
                <a:ahLst/>
                <a:rect l="l" t="t" r="r" b="b"/>
                <a:pathLst>
                  <a:path w="880" h="143">
                    <a:moveTo>
                      <a:pt x="652" y="143"/>
                    </a:moveTo>
                    <a:lnTo>
                      <a:pt x="880" y="0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652" y="143"/>
                    </a:lnTo>
                    <a:close/>
                  </a:path>
                </a:pathLst>
              </a:custGeom>
              <a:solidFill>
                <a:srgbClr val="1684fc"/>
              </a:solidFill>
              <a:ln w="0">
                <a:solidFill>
                  <a:srgbClr val="1684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0240" y="990720"/>
                <a:ext cx="295560" cy="1615680"/>
              </a:xfrm>
              <a:custGeom>
                <a:avLst/>
                <a:gdLst/>
                <a:ahLst/>
                <a:rect l="l" t="t" r="r" b="b"/>
                <a:pathLst>
                  <a:path w="228" h="799">
                    <a:moveTo>
                      <a:pt x="0" y="799"/>
                    </a:moveTo>
                    <a:lnTo>
                      <a:pt x="228" y="656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0" y="799"/>
                    </a:lnTo>
                    <a:close/>
                  </a:path>
                </a:pathLst>
              </a:custGeom>
              <a:solidFill>
                <a:srgbClr val="0153fe"/>
              </a:solidFill>
              <a:ln w="0">
                <a:solidFill>
                  <a:srgbClr val="0153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3880" y="1279800"/>
                <a:ext cx="846360" cy="1326240"/>
              </a:xfrm>
              <a:prstGeom prst="rect">
                <a:avLst/>
              </a:prstGeom>
              <a:solidFill>
                <a:srgbClr val="016cfe"/>
              </a:solidFill>
              <a:ln w="0">
                <a:solidFill>
                  <a:srgbClr val="016c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23880" y="2606400"/>
                <a:ext cx="846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370240" y="1279800"/>
                <a:ext cx="1080" cy="13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23880" y="1279800"/>
                <a:ext cx="84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23880" y="1279800"/>
                <a:ext cx="1080" cy="13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2369880" y="2317320"/>
                <a:ext cx="29556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66160" y="990720"/>
                <a:ext cx="1440" cy="13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19440" y="990720"/>
                <a:ext cx="84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1523520" y="2317320"/>
                <a:ext cx="295560" cy="288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2369880" y="990720"/>
                <a:ext cx="29556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523520" y="990720"/>
                <a:ext cx="29556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19440" y="2317320"/>
                <a:ext cx="84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19440" y="990720"/>
                <a:ext cx="1080" cy="13266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800720" y="2561400"/>
              <a:ext cx="3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09200" y="2287800"/>
              <a:ext cx="3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72640" y="1395720"/>
              <a:ext cx="3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116000" y="3049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parallepi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4200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7400" y="38862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analogies between these two formu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-144360" y="5029200"/>
            <a:ext cx="93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from these form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how many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e parallepiped/rectangle h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438280" y="2514600"/>
            <a:ext cx="220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And again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505320"/>
            <a:ext cx="281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.. diagonal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6019920" y="1600200"/>
            <a:ext cx="2132640" cy="1240560"/>
            <a:chOff x="6019920" y="1600200"/>
            <a:chExt cx="2132640" cy="1240560"/>
          </a:xfrm>
        </p:grpSpPr>
        <p:sp>
          <p:nvSpPr>
            <p:cNvPr id="376" name=""/>
            <p:cNvSpPr/>
            <p:nvPr/>
          </p:nvSpPr>
          <p:spPr>
            <a:xfrm>
              <a:off x="6019920" y="1600200"/>
              <a:ext cx="1524240" cy="8362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8320" y="23810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44160" y="1823760"/>
              <a:ext cx="60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20560" y="152280"/>
            <a:ext cx="333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space diagonal of the parallepi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10080" y="152280"/>
            <a:ext cx="258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agonal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of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the rect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33163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33004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019920" y="1600200"/>
            <a:ext cx="1523880" cy="838080"/>
            <a:chOff x="6019920" y="1600200"/>
            <a:chExt cx="1523880" cy="838080"/>
          </a:xfrm>
        </p:grpSpPr>
        <p:sp>
          <p:nvSpPr>
            <p:cNvPr id="384" name=""/>
            <p:cNvSpPr/>
            <p:nvPr/>
          </p:nvSpPr>
          <p:spPr>
            <a:xfrm flipV="1">
              <a:off x="6019920" y="1600200"/>
              <a:ext cx="152388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67320" y="1600200"/>
              <a:ext cx="795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900000" y="4464000"/>
            <a:ext cx="728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e diagonal is to the rectangl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the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________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____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is to the parallepi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676160" y="1219320"/>
            <a:ext cx="1523880" cy="2030400"/>
            <a:chOff x="1676160" y="1219320"/>
            <a:chExt cx="1523880" cy="2030400"/>
          </a:xfrm>
        </p:grpSpPr>
        <p:grpSp>
          <p:nvGrpSpPr>
            <p:cNvPr id="388" name=""/>
            <p:cNvGrpSpPr/>
            <p:nvPr/>
          </p:nvGrpSpPr>
          <p:grpSpPr>
            <a:xfrm>
              <a:off x="1676160" y="1219320"/>
              <a:ext cx="1143720" cy="1617840"/>
              <a:chOff x="1676160" y="1219320"/>
              <a:chExt cx="1143720" cy="1617840"/>
            </a:xfrm>
          </p:grpSpPr>
          <p:sp>
            <p:nvSpPr>
              <p:cNvPr id="389" name=""/>
              <p:cNvSpPr/>
              <p:nvPr/>
            </p:nvSpPr>
            <p:spPr>
              <a:xfrm>
                <a:off x="1676520" y="1219320"/>
                <a:ext cx="1141920" cy="289080"/>
              </a:xfrm>
              <a:custGeom>
                <a:avLst/>
                <a:gdLst/>
                <a:ahLst/>
                <a:rect l="l" t="t" r="r" b="b"/>
                <a:pathLst>
                  <a:path w="880" h="143">
                    <a:moveTo>
                      <a:pt x="652" y="143"/>
                    </a:moveTo>
                    <a:lnTo>
                      <a:pt x="880" y="0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652" y="143"/>
                    </a:lnTo>
                    <a:close/>
                  </a:path>
                </a:pathLst>
              </a:custGeom>
              <a:solidFill>
                <a:srgbClr val="1684fc"/>
              </a:solidFill>
              <a:ln w="0">
                <a:solidFill>
                  <a:srgbClr val="1684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522520" y="1219320"/>
                <a:ext cx="295560" cy="1615680"/>
              </a:xfrm>
              <a:custGeom>
                <a:avLst/>
                <a:gdLst/>
                <a:ahLst/>
                <a:rect l="l" t="t" r="r" b="b"/>
                <a:pathLst>
                  <a:path w="228" h="799">
                    <a:moveTo>
                      <a:pt x="0" y="799"/>
                    </a:moveTo>
                    <a:lnTo>
                      <a:pt x="228" y="656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0" y="799"/>
                    </a:lnTo>
                    <a:close/>
                  </a:path>
                </a:pathLst>
              </a:custGeom>
              <a:solidFill>
                <a:srgbClr val="0153fe"/>
              </a:solidFill>
              <a:ln w="0">
                <a:solidFill>
                  <a:srgbClr val="0153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76520" y="1508400"/>
                <a:ext cx="846000" cy="1326240"/>
              </a:xfrm>
              <a:prstGeom prst="rect">
                <a:avLst/>
              </a:prstGeom>
              <a:solidFill>
                <a:srgbClr val="016cfe"/>
              </a:solidFill>
              <a:ln w="0">
                <a:solidFill>
                  <a:srgbClr val="016c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76520" y="2835000"/>
                <a:ext cx="8460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22520" y="1508400"/>
                <a:ext cx="1080" cy="13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76520" y="1508400"/>
                <a:ext cx="84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76520" y="1508400"/>
                <a:ext cx="1080" cy="13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2522160" y="2545920"/>
                <a:ext cx="29556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818440" y="1219320"/>
                <a:ext cx="1440" cy="13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72080" y="1219320"/>
                <a:ext cx="84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1676160" y="2545920"/>
                <a:ext cx="295560" cy="288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522160" y="1219320"/>
                <a:ext cx="29556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1676160" y="1219320"/>
                <a:ext cx="29556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72080" y="2545920"/>
                <a:ext cx="84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972080" y="1219320"/>
                <a:ext cx="1080" cy="13266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953360" y="2790000"/>
              <a:ext cx="3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61480" y="2516400"/>
              <a:ext cx="37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24920" y="1624320"/>
              <a:ext cx="3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76520" y="1231560"/>
            <a:ext cx="1143000" cy="1600200"/>
            <a:chOff x="1676520" y="1231560"/>
            <a:chExt cx="1143000" cy="1600200"/>
          </a:xfrm>
        </p:grpSpPr>
        <p:sp>
          <p:nvSpPr>
            <p:cNvPr id="408" name=""/>
            <p:cNvSpPr/>
            <p:nvPr/>
          </p:nvSpPr>
          <p:spPr>
            <a:xfrm flipV="1">
              <a:off x="1676520" y="1231560"/>
              <a:ext cx="114300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17640" y="1671480"/>
              <a:ext cx="490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0" name=""/>
          <p:cNvGraphicFramePr/>
          <p:nvPr/>
        </p:nvGraphicFramePr>
        <p:xfrm>
          <a:off x="6400800" y="3195720"/>
          <a:ext cx="18288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3195720"/>
                    <a:ext cx="1828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1905120" y="3209760"/>
          <a:ext cx="25905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209760"/>
                    <a:ext cx="2590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2057400" y="421956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analogies between these two formu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360" y="522936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from these form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how many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e parallepiped/rectangle h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63640" y="4869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space 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3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00"/>
                            </p:stCondLst>
                            <p:childTnLst>
                              <p:par>
                                <p:cTn id="431" nodeType="after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9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3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2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371600" y="251460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A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nd now more abstract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0" y="3733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Ready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304920" y="228600"/>
            <a:ext cx="2133360" cy="4314240"/>
            <a:chOff x="304920" y="228600"/>
            <a:chExt cx="2133360" cy="4314240"/>
          </a:xfrm>
        </p:grpSpPr>
        <p:sp>
          <p:nvSpPr>
            <p:cNvPr id="420" name=""/>
            <p:cNvSpPr/>
            <p:nvPr/>
          </p:nvSpPr>
          <p:spPr>
            <a:xfrm>
              <a:off x="304920" y="228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2929a5"/>
                  </a:solidFill>
                  <a:latin typeface="Comic Sans MS"/>
                </a:rPr>
                <a:t>These are</a:t>
              </a:r>
              <a:r>
                <a:rPr b="0" lang="en-US" sz="2800" spc="-1" strike="noStrike">
                  <a:solidFill>
                    <a:srgbClr val="2929a5"/>
                  </a:solidFill>
                  <a:latin typeface="Comic Sans MS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4920" y="359568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2929a5"/>
                  </a:solidFill>
                  <a:latin typeface="Comic Sans MS"/>
                </a:rPr>
                <a:t>These are</a:t>
              </a:r>
              <a:r>
                <a:rPr b="0" lang="en-US" sz="2800" spc="-1" strike="noStrike">
                  <a:solidFill>
                    <a:srgbClr val="2929a5"/>
                  </a:solidFill>
                  <a:latin typeface="Comic Sans MS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24000" y="228600"/>
            <a:ext cx="1752480" cy="4314240"/>
            <a:chOff x="324000" y="228600"/>
            <a:chExt cx="1752480" cy="4314240"/>
          </a:xfrm>
        </p:grpSpPr>
        <p:sp>
          <p:nvSpPr>
            <p:cNvPr id="423" name=""/>
            <p:cNvSpPr/>
            <p:nvPr/>
          </p:nvSpPr>
          <p:spPr>
            <a:xfrm>
              <a:off x="324000" y="22860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2929a5"/>
                  </a:solidFill>
                  <a:latin typeface="Comic Sans MS"/>
                </a:rPr>
                <a:t>pris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4000" y="359568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a5"/>
                  </a:solidFill>
                  <a:latin typeface="Comic Sans MS"/>
                </a:rPr>
                <a:t>p</a:t>
              </a:r>
              <a:r>
                <a:rPr b="0" lang="hr-HR" sz="2800" spc="-1" strike="noStrike">
                  <a:solidFill>
                    <a:srgbClr val="2929a5"/>
                  </a:solidFill>
                  <a:latin typeface="Comic Sans MS"/>
                </a:rPr>
                <a:t>y</a:t>
              </a:r>
              <a:r>
                <a:rPr b="0" lang="en-US" sz="2800" spc="-1" strike="noStrike">
                  <a:solidFill>
                    <a:srgbClr val="2929a5"/>
                  </a:solidFill>
                  <a:latin typeface="Comic Sans MS"/>
                </a:rPr>
                <a:t>ramid</a:t>
              </a:r>
              <a:r>
                <a:rPr b="0" lang="hr-HR" sz="2800" spc="-1" strike="noStrike">
                  <a:solidFill>
                    <a:srgbClr val="2929a5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4716360" y="1447920"/>
            <a:ext cx="40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What polygons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prisms sugg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284720" y="4341960"/>
            <a:ext cx="47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What polygons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pyramids sugg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3868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943600" y="1392120"/>
            <a:ext cx="1904400" cy="1047960"/>
            <a:chOff x="5943600" y="1392120"/>
            <a:chExt cx="1904400" cy="1047960"/>
          </a:xfrm>
        </p:grpSpPr>
        <p:sp>
          <p:nvSpPr>
            <p:cNvPr id="429" name=""/>
            <p:cNvSpPr/>
            <p:nvPr/>
          </p:nvSpPr>
          <p:spPr>
            <a:xfrm>
              <a:off x="5943600" y="1392120"/>
              <a:ext cx="1361160" cy="630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86840" y="1980360"/>
              <a:ext cx="54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04760" y="1560600"/>
              <a:ext cx="5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6019920" y="3657600"/>
            <a:ext cx="15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tr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i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162840" y="4397400"/>
            <a:ext cx="1380960" cy="1395720"/>
            <a:chOff x="6162840" y="4397400"/>
            <a:chExt cx="1380960" cy="1395720"/>
          </a:xfrm>
        </p:grpSpPr>
        <p:sp>
          <p:nvSpPr>
            <p:cNvPr id="434" name=""/>
            <p:cNvSpPr/>
            <p:nvPr/>
          </p:nvSpPr>
          <p:spPr>
            <a:xfrm>
              <a:off x="6531120" y="5333400"/>
              <a:ext cx="54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00920" y="4652640"/>
              <a:ext cx="54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238800" y="4397400"/>
              <a:ext cx="783000" cy="979920"/>
              <a:chOff x="6238800" y="4397400"/>
              <a:chExt cx="783000" cy="979920"/>
            </a:xfrm>
          </p:grpSpPr>
          <p:sp>
            <p:nvSpPr>
              <p:cNvPr id="437" name=""/>
              <p:cNvSpPr/>
              <p:nvPr/>
            </p:nvSpPr>
            <p:spPr>
              <a:xfrm>
                <a:off x="6239160" y="4397400"/>
                <a:ext cx="782640" cy="978120"/>
              </a:xfrm>
              <a:custGeom>
                <a:avLst/>
                <a:gdLst/>
                <a:ahLst/>
                <a:rect l="l" t="t" r="r" b="b"/>
                <a:pathLst>
                  <a:path w="493" h="456">
                    <a:moveTo>
                      <a:pt x="400" y="0"/>
                    </a:moveTo>
                    <a:lnTo>
                      <a:pt x="493" y="456"/>
                    </a:lnTo>
                    <a:lnTo>
                      <a:pt x="0" y="456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39160" y="5375520"/>
                <a:ext cx="7826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238800" y="4397400"/>
                <a:ext cx="634680" cy="978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873840" y="4397400"/>
                <a:ext cx="147960" cy="978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6162840" y="4652640"/>
              <a:ext cx="54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56840" y="914400"/>
            <a:ext cx="3637080" cy="5637960"/>
            <a:chOff x="456840" y="914400"/>
            <a:chExt cx="3637080" cy="5637960"/>
          </a:xfrm>
        </p:grpSpPr>
        <p:grpSp>
          <p:nvGrpSpPr>
            <p:cNvPr id="443" name=""/>
            <p:cNvGrpSpPr/>
            <p:nvPr/>
          </p:nvGrpSpPr>
          <p:grpSpPr>
            <a:xfrm>
              <a:off x="456840" y="4267080"/>
              <a:ext cx="3481560" cy="2285280"/>
              <a:chOff x="456840" y="4267080"/>
              <a:chExt cx="3481560" cy="228528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914040" y="4267080"/>
                <a:ext cx="816480" cy="902880"/>
                <a:chOff x="914040" y="4267080"/>
                <a:chExt cx="816480" cy="902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914400" y="4267080"/>
                  <a:ext cx="403560" cy="901440"/>
                </a:xfrm>
                <a:custGeom>
                  <a:avLst/>
                  <a:gdLst/>
                  <a:ahLst/>
                  <a:rect l="l" t="t" r="r" b="b"/>
                  <a:pathLst>
                    <a:path w="347" h="664">
                      <a:moveTo>
                        <a:pt x="0" y="602"/>
                      </a:moveTo>
                      <a:lnTo>
                        <a:pt x="101" y="664"/>
                      </a:lnTo>
                      <a:lnTo>
                        <a:pt x="347" y="0"/>
                      </a:lnTo>
                      <a:lnTo>
                        <a:pt x="0" y="602"/>
                      </a:lnTo>
                      <a:close/>
                    </a:path>
                  </a:pathLst>
                </a:custGeom>
                <a:solidFill>
                  <a:srgbClr val="01c5fe"/>
                </a:solidFill>
                <a:ln w="0">
                  <a:solidFill>
                    <a:srgbClr val="01c5f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317960" y="4267080"/>
                  <a:ext cx="412560" cy="901440"/>
                </a:xfrm>
                <a:custGeom>
                  <a:avLst/>
                  <a:gdLst/>
                  <a:ahLst/>
                  <a:rect l="l" t="t" r="r" b="b"/>
                  <a:pathLst>
                    <a:path w="355" h="664">
                      <a:moveTo>
                        <a:pt x="156" y="664"/>
                      </a:moveTo>
                      <a:lnTo>
                        <a:pt x="355" y="559"/>
                      </a:lnTo>
                      <a:lnTo>
                        <a:pt x="0" y="0"/>
                      </a:lnTo>
                      <a:lnTo>
                        <a:pt x="156" y="66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031760" y="4267080"/>
                  <a:ext cx="467280" cy="901440"/>
                </a:xfrm>
                <a:custGeom>
                  <a:avLst/>
                  <a:gdLst/>
                  <a:ahLst/>
                  <a:rect l="l" t="t" r="r" b="b"/>
                  <a:pathLst>
                    <a:path w="402" h="664">
                      <a:moveTo>
                        <a:pt x="0" y="664"/>
                      </a:moveTo>
                      <a:lnTo>
                        <a:pt x="402" y="664"/>
                      </a:lnTo>
                      <a:lnTo>
                        <a:pt x="246" y="0"/>
                      </a:lnTo>
                      <a:lnTo>
                        <a:pt x="0" y="664"/>
                      </a:lnTo>
                      <a:close/>
                    </a:path>
                  </a:pathLst>
                </a:custGeom>
                <a:solidFill>
                  <a:srgbClr val="4e83fe"/>
                </a:solidFill>
                <a:ln w="0">
                  <a:solidFill>
                    <a:srgbClr val="4e83f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031760" y="5168520"/>
                  <a:ext cx="46728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1499400" y="5025960"/>
                  <a:ext cx="231120" cy="142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914400" y="5084640"/>
                  <a:ext cx="11736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1031760" y="4267080"/>
                  <a:ext cx="285840" cy="90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317960" y="4267080"/>
                  <a:ext cx="181080" cy="90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317960" y="4267080"/>
                  <a:ext cx="412560" cy="758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914040" y="4267080"/>
                  <a:ext cx="403560" cy="817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914400" y="4940640"/>
                  <a:ext cx="236160" cy="143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150560" y="4940640"/>
                  <a:ext cx="4669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617480" y="4940640"/>
                  <a:ext cx="112680" cy="84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317960" y="4267080"/>
                  <a:ext cx="299520" cy="673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150200" y="4267080"/>
                  <a:ext cx="167400" cy="673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1752120" y="5410080"/>
                <a:ext cx="979920" cy="1142280"/>
                <a:chOff x="1752120" y="5410080"/>
                <a:chExt cx="979920" cy="11422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1752480" y="5410080"/>
                  <a:ext cx="484200" cy="1140840"/>
                </a:xfrm>
                <a:custGeom>
                  <a:avLst/>
                  <a:gdLst/>
                  <a:ahLst/>
                  <a:rect l="l" t="t" r="r" b="b"/>
                  <a:pathLst>
                    <a:path w="305" h="584">
                      <a:moveTo>
                        <a:pt x="0" y="529"/>
                      </a:moveTo>
                      <a:lnTo>
                        <a:pt x="89" y="584"/>
                      </a:lnTo>
                      <a:lnTo>
                        <a:pt x="305" y="0"/>
                      </a:lnTo>
                      <a:lnTo>
                        <a:pt x="0" y="529"/>
                      </a:lnTo>
                      <a:close/>
                    </a:path>
                  </a:pathLst>
                </a:custGeom>
                <a:solidFill>
                  <a:srgbClr val="ffff77"/>
                </a:solidFill>
                <a:ln w="0">
                  <a:solidFill>
                    <a:srgbClr val="ffff7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236680" y="5410080"/>
                  <a:ext cx="495360" cy="1140840"/>
                </a:xfrm>
                <a:custGeom>
                  <a:avLst/>
                  <a:gdLst/>
                  <a:ahLst/>
                  <a:rect l="l" t="t" r="r" b="b"/>
                  <a:pathLst>
                    <a:path w="312" h="584">
                      <a:moveTo>
                        <a:pt x="137" y="584"/>
                      </a:moveTo>
                      <a:lnTo>
                        <a:pt x="312" y="491"/>
                      </a:lnTo>
                      <a:lnTo>
                        <a:pt x="0" y="0"/>
                      </a:lnTo>
                      <a:lnTo>
                        <a:pt x="137" y="584"/>
                      </a:lnTo>
                      <a:close/>
                    </a:path>
                  </a:pathLst>
                </a:custGeom>
                <a:solidFill>
                  <a:srgbClr val="fed101"/>
                </a:solidFill>
                <a:ln w="0">
                  <a:solidFill>
                    <a:srgbClr val="fed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893600" y="5410080"/>
                  <a:ext cx="560520" cy="1140840"/>
                </a:xfrm>
                <a:custGeom>
                  <a:avLst/>
                  <a:gdLst/>
                  <a:ahLst/>
                  <a:rect l="l" t="t" r="r" b="b"/>
                  <a:pathLst>
                    <a:path w="353" h="584">
                      <a:moveTo>
                        <a:pt x="0" y="584"/>
                      </a:moveTo>
                      <a:lnTo>
                        <a:pt x="353" y="584"/>
                      </a:lnTo>
                      <a:lnTo>
                        <a:pt x="216" y="0"/>
                      </a:lnTo>
                      <a:lnTo>
                        <a:pt x="0" y="58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93600" y="6550920"/>
                  <a:ext cx="56052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2454120" y="6369480"/>
                  <a:ext cx="277920" cy="18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752480" y="6443280"/>
                  <a:ext cx="141120" cy="1076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1893240" y="5410080"/>
                  <a:ext cx="343080" cy="11408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236680" y="5410080"/>
                  <a:ext cx="217440" cy="11408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236680" y="5410080"/>
                  <a:ext cx="495360" cy="959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1752120" y="5410080"/>
                  <a:ext cx="484200" cy="1033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1752120" y="6261480"/>
                  <a:ext cx="282600" cy="18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035080" y="6261480"/>
                  <a:ext cx="561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597040" y="6261480"/>
                  <a:ext cx="135000" cy="10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236680" y="5410080"/>
                  <a:ext cx="360360" cy="851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2035080" y="5410080"/>
                  <a:ext cx="201600" cy="851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56840" y="5486400"/>
                <a:ext cx="835200" cy="837720"/>
                <a:chOff x="456840" y="5486400"/>
                <a:chExt cx="835200" cy="8377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60040" y="5486400"/>
                  <a:ext cx="432000" cy="836280"/>
                </a:xfrm>
                <a:custGeom>
                  <a:avLst/>
                  <a:gdLst/>
                  <a:ahLst/>
                  <a:rect l="l" t="t" r="r" b="b"/>
                  <a:pathLst>
                    <a:path w="250" h="483">
                      <a:moveTo>
                        <a:pt x="115" y="483"/>
                      </a:moveTo>
                      <a:lnTo>
                        <a:pt x="250" y="386"/>
                      </a:lnTo>
                      <a:lnTo>
                        <a:pt x="0" y="0"/>
                      </a:lnTo>
                      <a:lnTo>
                        <a:pt x="115" y="48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57200" y="5486400"/>
                  <a:ext cx="601560" cy="836280"/>
                </a:xfrm>
                <a:custGeom>
                  <a:avLst/>
                  <a:gdLst/>
                  <a:ahLst/>
                  <a:rect l="l" t="t" r="r" b="b"/>
                  <a:pathLst>
                    <a:path w="348" h="483">
                      <a:moveTo>
                        <a:pt x="0" y="483"/>
                      </a:moveTo>
                      <a:lnTo>
                        <a:pt x="348" y="483"/>
                      </a:lnTo>
                      <a:lnTo>
                        <a:pt x="233" y="0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ff5757"/>
                </a:solidFill>
                <a:ln w="0">
                  <a:solidFill>
                    <a:srgbClr val="ff575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57200" y="6322680"/>
                  <a:ext cx="60156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457200" y="6154560"/>
                  <a:ext cx="233280" cy="167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456840" y="5486400"/>
                  <a:ext cx="402840" cy="8362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60040" y="5486400"/>
                  <a:ext cx="198720" cy="8362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1058760" y="6154560"/>
                  <a:ext cx="233280" cy="167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60040" y="5486400"/>
                  <a:ext cx="432000" cy="668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690480" y="5486400"/>
                  <a:ext cx="169200" cy="668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0480" y="6154560"/>
                  <a:ext cx="601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124080" y="5181480"/>
                <a:ext cx="814320" cy="850680"/>
                <a:chOff x="3124080" y="5181480"/>
                <a:chExt cx="814320" cy="8506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124080" y="5181480"/>
                  <a:ext cx="814320" cy="848520"/>
                </a:xfrm>
                <a:custGeom>
                  <a:avLst/>
                  <a:gdLst/>
                  <a:ahLst/>
                  <a:rect l="l" t="t" r="r" b="b"/>
                  <a:pathLst>
                    <a:path w="399" h="416">
                      <a:moveTo>
                        <a:pt x="0" y="416"/>
                      </a:moveTo>
                      <a:lnTo>
                        <a:pt x="399" y="416"/>
                      </a:lnTo>
                      <a:lnTo>
                        <a:pt x="230" y="0"/>
                      </a:lnTo>
                      <a:lnTo>
                        <a:pt x="0" y="4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124080" y="6030000"/>
                  <a:ext cx="814320" cy="2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689280" y="5809680"/>
                  <a:ext cx="249120" cy="219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3124080" y="5809680"/>
                  <a:ext cx="565200" cy="219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3124080" y="5181480"/>
                  <a:ext cx="469440" cy="8485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593520" y="5181480"/>
                  <a:ext cx="344880" cy="8485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593520" y="5181480"/>
                  <a:ext cx="95760" cy="628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2362320" y="4287960"/>
                <a:ext cx="837720" cy="816840"/>
                <a:chOff x="2362320" y="4287960"/>
                <a:chExt cx="837720" cy="8168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2362320" y="4287960"/>
                  <a:ext cx="413280" cy="815040"/>
                </a:xfrm>
                <a:custGeom>
                  <a:avLst/>
                  <a:gdLst/>
                  <a:ahLst/>
                  <a:rect l="l" t="t" r="r" b="b"/>
                  <a:pathLst>
                    <a:path w="219" h="432">
                      <a:moveTo>
                        <a:pt x="0" y="366"/>
                      </a:moveTo>
                      <a:lnTo>
                        <a:pt x="40" y="432"/>
                      </a:lnTo>
                      <a:lnTo>
                        <a:pt x="219" y="0"/>
                      </a:lnTo>
                      <a:lnTo>
                        <a:pt x="0" y="366"/>
                      </a:lnTo>
                      <a:close/>
                    </a:path>
                  </a:pathLst>
                </a:custGeom>
                <a:solidFill>
                  <a:srgbClr val="ff9fff"/>
                </a:solidFill>
                <a:ln w="0">
                  <a:solidFill>
                    <a:srgbClr val="ff9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775600" y="4287960"/>
                  <a:ext cx="424440" cy="815040"/>
                </a:xfrm>
                <a:custGeom>
                  <a:avLst/>
                  <a:gdLst/>
                  <a:ahLst/>
                  <a:rect l="l" t="t" r="r" b="b"/>
                  <a:pathLst>
                    <a:path w="225" h="432">
                      <a:moveTo>
                        <a:pt x="87" y="432"/>
                      </a:moveTo>
                      <a:lnTo>
                        <a:pt x="225" y="378"/>
                      </a:lnTo>
                      <a:lnTo>
                        <a:pt x="0" y="0"/>
                      </a:lnTo>
                      <a:lnTo>
                        <a:pt x="87" y="432"/>
                      </a:lnTo>
                      <a:close/>
                    </a:path>
                  </a:pathLst>
                </a:custGeom>
                <a:solidFill>
                  <a:srgbClr val="dd00dd"/>
                </a:solidFill>
                <a:ln w="0">
                  <a:solidFill>
                    <a:srgbClr val="dd00d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437920" y="4287960"/>
                  <a:ext cx="501840" cy="815040"/>
                </a:xfrm>
                <a:custGeom>
                  <a:avLst/>
                  <a:gdLst/>
                  <a:ahLst/>
                  <a:rect l="l" t="t" r="r" b="b"/>
                  <a:pathLst>
                    <a:path w="266" h="432">
                      <a:moveTo>
                        <a:pt x="0" y="432"/>
                      </a:moveTo>
                      <a:lnTo>
                        <a:pt x="266" y="432"/>
                      </a:lnTo>
                      <a:lnTo>
                        <a:pt x="179" y="0"/>
                      </a:lnTo>
                      <a:lnTo>
                        <a:pt x="0" y="432"/>
                      </a:lnTo>
                      <a:close/>
                    </a:path>
                  </a:pathLst>
                </a:custGeom>
                <a:solidFill>
                  <a:srgbClr val="ff51ff"/>
                </a:solidFill>
                <a:ln w="0">
                  <a:solidFill>
                    <a:srgbClr val="ff51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437920" y="5103000"/>
                  <a:ext cx="501840" cy="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2939760" y="5001120"/>
                  <a:ext cx="259920" cy="1015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362320" y="4978440"/>
                  <a:ext cx="75600" cy="124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2437920" y="4287960"/>
                  <a:ext cx="337680" cy="8150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75600" y="4287960"/>
                  <a:ext cx="164160" cy="8150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775600" y="4287960"/>
                  <a:ext cx="424440" cy="713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2362320" y="4287960"/>
                  <a:ext cx="413280" cy="690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818800" y="4839120"/>
                  <a:ext cx="381240" cy="162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75600" y="4287960"/>
                  <a:ext cx="43200" cy="551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2362320" y="4839120"/>
                  <a:ext cx="456480" cy="139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" name=""/>
            <p:cNvGrpSpPr/>
            <p:nvPr/>
          </p:nvGrpSpPr>
          <p:grpSpPr>
            <a:xfrm>
              <a:off x="609480" y="914400"/>
              <a:ext cx="3484440" cy="2150280"/>
              <a:chOff x="609480" y="914400"/>
              <a:chExt cx="3484440" cy="215028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1904760" y="1371240"/>
                <a:ext cx="566640" cy="826560"/>
                <a:chOff x="1904760" y="1371240"/>
                <a:chExt cx="566640" cy="8265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1905120" y="1522800"/>
                  <a:ext cx="564840" cy="6739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05120" y="1371240"/>
                  <a:ext cx="564840" cy="151560"/>
                </a:xfrm>
                <a:custGeom>
                  <a:avLst/>
                  <a:gdLst/>
                  <a:ahLst/>
                  <a:rect l="l" t="t" r="r" b="b"/>
                  <a:pathLst>
                    <a:path w="396" h="106">
                      <a:moveTo>
                        <a:pt x="0" y="106"/>
                      </a:moveTo>
                      <a:lnTo>
                        <a:pt x="396" y="106"/>
                      </a:lnTo>
                      <a:lnTo>
                        <a:pt x="296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ff91"/>
                </a:solidFill>
                <a:ln w="0">
                  <a:solidFill>
                    <a:srgbClr val="ffff9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05120" y="1522800"/>
                  <a:ext cx="56484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327400" y="1371240"/>
                  <a:ext cx="142560" cy="151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1904760" y="1371240"/>
                  <a:ext cx="422280" cy="151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905120" y="1522800"/>
                  <a:ext cx="1440" cy="67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905120" y="2196720"/>
                  <a:ext cx="56484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469960" y="1522800"/>
                  <a:ext cx="1440" cy="67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1904760" y="2045520"/>
                  <a:ext cx="422280" cy="151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27400" y="2045520"/>
                  <a:ext cx="142560" cy="151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327400" y="1371240"/>
                  <a:ext cx="1440" cy="67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3123720" y="1066680"/>
                <a:ext cx="617760" cy="605520"/>
                <a:chOff x="3123720" y="1066680"/>
                <a:chExt cx="617760" cy="60552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3124080" y="1066680"/>
                  <a:ext cx="615960" cy="123480"/>
                </a:xfrm>
                <a:custGeom>
                  <a:avLst/>
                  <a:gdLst/>
                  <a:ahLst/>
                  <a:rect l="l" t="t" r="r" b="b"/>
                  <a:pathLst>
                    <a:path w="388" h="78">
                      <a:moveTo>
                        <a:pt x="296" y="78"/>
                      </a:moveTo>
                      <a:lnTo>
                        <a:pt x="388" y="0"/>
                      </a:lnTo>
                      <a:lnTo>
                        <a:pt x="92" y="0"/>
                      </a:lnTo>
                      <a:lnTo>
                        <a:pt x="0" y="78"/>
                      </a:lnTo>
                      <a:lnTo>
                        <a:pt x="296" y="78"/>
                      </a:lnTo>
                      <a:close/>
                    </a:path>
                  </a:pathLst>
                </a:custGeom>
                <a:solidFill>
                  <a:srgbClr val="7bc2fd"/>
                </a:solidFill>
                <a:ln w="0">
                  <a:solidFill>
                    <a:srgbClr val="7bc2f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593880" y="1066680"/>
                  <a:ext cx="146160" cy="604440"/>
                </a:xfrm>
                <a:custGeom>
                  <a:avLst/>
                  <a:gdLst/>
                  <a:ahLst/>
                  <a:rect l="l" t="t" r="r" b="b"/>
                  <a:pathLst>
                    <a:path w="92" h="381">
                      <a:moveTo>
                        <a:pt x="0" y="381"/>
                      </a:moveTo>
                      <a:lnTo>
                        <a:pt x="92" y="303"/>
                      </a:lnTo>
                      <a:lnTo>
                        <a:pt x="92" y="0"/>
                      </a:lnTo>
                      <a:lnTo>
                        <a:pt x="0" y="78"/>
                      </a:lnTo>
                      <a:lnTo>
                        <a:pt x="0" y="38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24080" y="1190160"/>
                  <a:ext cx="469800" cy="480600"/>
                </a:xfrm>
                <a:prstGeom prst="rect">
                  <a:avLst/>
                </a:prstGeom>
                <a:solidFill>
                  <a:srgbClr val="0279fd"/>
                </a:solidFill>
                <a:ln w="0">
                  <a:solidFill>
                    <a:srgbClr val="0279f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24080" y="1671120"/>
                  <a:ext cx="469800" cy="1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593880" y="1190160"/>
                  <a:ext cx="1440" cy="480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124080" y="1190160"/>
                  <a:ext cx="469800" cy="1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124080" y="1190160"/>
                  <a:ext cx="1440" cy="480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3593880" y="1547280"/>
                  <a:ext cx="146160" cy="123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740040" y="1066680"/>
                  <a:ext cx="1440" cy="480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69880" y="1066680"/>
                  <a:ext cx="470160" cy="1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3123720" y="1547280"/>
                  <a:ext cx="145800" cy="123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3593880" y="1066680"/>
                  <a:ext cx="146160" cy="123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>
                  <a:off x="3123720" y="1066680"/>
                  <a:ext cx="145800" cy="123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269880" y="1547280"/>
                  <a:ext cx="4701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269880" y="1066680"/>
                  <a:ext cx="1800" cy="480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2666520" y="2285640"/>
                <a:ext cx="589320" cy="779040"/>
                <a:chOff x="2666520" y="2285640"/>
                <a:chExt cx="589320" cy="7790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2666880" y="2403000"/>
                  <a:ext cx="54000" cy="659880"/>
                </a:xfrm>
                <a:custGeom>
                  <a:avLst/>
                  <a:gdLst/>
                  <a:ahLst/>
                  <a:rect l="l" t="t" r="r" b="b"/>
                  <a:pathLst>
                    <a:path w="34" h="416">
                      <a:moveTo>
                        <a:pt x="34" y="67"/>
                      </a:moveTo>
                      <a:lnTo>
                        <a:pt x="0" y="0"/>
                      </a:lnTo>
                      <a:lnTo>
                        <a:pt x="0" y="349"/>
                      </a:lnTo>
                      <a:lnTo>
                        <a:pt x="34" y="416"/>
                      </a:lnTo>
                      <a:lnTo>
                        <a:pt x="34" y="67"/>
                      </a:lnTo>
                      <a:close/>
                    </a:path>
                  </a:pathLst>
                </a:custGeom>
                <a:solidFill>
                  <a:srgbClr val="73ff73"/>
                </a:solidFill>
                <a:ln w="0">
                  <a:solidFill>
                    <a:srgbClr val="73ff7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66880" y="2285640"/>
                  <a:ext cx="587520" cy="223560"/>
                </a:xfrm>
                <a:custGeom>
                  <a:avLst/>
                  <a:gdLst/>
                  <a:ahLst/>
                  <a:rect l="l" t="t" r="r" b="b"/>
                  <a:pathLst>
                    <a:path w="370" h="141">
                      <a:moveTo>
                        <a:pt x="255" y="141"/>
                      </a:moveTo>
                      <a:lnTo>
                        <a:pt x="370" y="87"/>
                      </a:lnTo>
                      <a:lnTo>
                        <a:pt x="202" y="0"/>
                      </a:lnTo>
                      <a:lnTo>
                        <a:pt x="0" y="74"/>
                      </a:lnTo>
                      <a:lnTo>
                        <a:pt x="34" y="141"/>
                      </a:lnTo>
                      <a:lnTo>
                        <a:pt x="255" y="141"/>
                      </a:lnTo>
                      <a:close/>
                    </a:path>
                  </a:pathLst>
                </a:custGeom>
                <a:solidFill>
                  <a:srgbClr val="aefe94"/>
                </a:solidFill>
                <a:ln w="0">
                  <a:solidFill>
                    <a:srgbClr val="aefe9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071880" y="2423520"/>
                  <a:ext cx="182520" cy="639360"/>
                </a:xfrm>
                <a:custGeom>
                  <a:avLst/>
                  <a:gdLst/>
                  <a:ahLst/>
                  <a:rect l="l" t="t" r="r" b="b"/>
                  <a:pathLst>
                    <a:path w="115" h="403">
                      <a:moveTo>
                        <a:pt x="0" y="403"/>
                      </a:moveTo>
                      <a:lnTo>
                        <a:pt x="115" y="349"/>
                      </a:lnTo>
                      <a:lnTo>
                        <a:pt x="115" y="0"/>
                      </a:lnTo>
                      <a:lnTo>
                        <a:pt x="0" y="54"/>
                      </a:lnTo>
                      <a:lnTo>
                        <a:pt x="0" y="40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720880" y="2509200"/>
                  <a:ext cx="351000" cy="553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720880" y="3063240"/>
                  <a:ext cx="35100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3071520" y="2977560"/>
                  <a:ext cx="182520" cy="85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666880" y="2957040"/>
                  <a:ext cx="54000" cy="105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987640" y="2839320"/>
                  <a:ext cx="266760" cy="137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2666520" y="2839320"/>
                  <a:ext cx="320760" cy="117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666880" y="2403000"/>
                  <a:ext cx="1800" cy="553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20880" y="2509200"/>
                  <a:ext cx="35100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3071520" y="2423520"/>
                  <a:ext cx="182520" cy="85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666880" y="2403000"/>
                  <a:ext cx="54000" cy="105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987640" y="2285640"/>
                  <a:ext cx="266760" cy="137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2666520" y="2285640"/>
                  <a:ext cx="320760" cy="117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20880" y="2509200"/>
                  <a:ext cx="1800" cy="553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071880" y="2509200"/>
                  <a:ext cx="1440" cy="553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54400" y="2423520"/>
                  <a:ext cx="1440" cy="553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987640" y="2285640"/>
                  <a:ext cx="1440" cy="55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3504960" y="1981080"/>
                <a:ext cx="588960" cy="423000"/>
                <a:chOff x="3504960" y="1981080"/>
                <a:chExt cx="588960" cy="4230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505320" y="1981080"/>
                  <a:ext cx="587160" cy="159840"/>
                </a:xfrm>
                <a:custGeom>
                  <a:avLst/>
                  <a:gdLst/>
                  <a:ahLst/>
                  <a:rect l="l" t="t" r="r" b="b"/>
                  <a:pathLst>
                    <a:path w="386" h="79">
                      <a:moveTo>
                        <a:pt x="38" y="79"/>
                      </a:moveTo>
                      <a:lnTo>
                        <a:pt x="261" y="79"/>
                      </a:lnTo>
                      <a:lnTo>
                        <a:pt x="386" y="36"/>
                      </a:lnTo>
                      <a:lnTo>
                        <a:pt x="348" y="0"/>
                      </a:lnTo>
                      <a:lnTo>
                        <a:pt x="125" y="0"/>
                      </a:lnTo>
                      <a:lnTo>
                        <a:pt x="0" y="44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ff9b37"/>
                </a:solidFill>
                <a:ln w="0">
                  <a:solidFill>
                    <a:srgbClr val="ff9b3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505320" y="2070000"/>
                  <a:ext cx="57960" cy="331920"/>
                </a:xfrm>
                <a:custGeom>
                  <a:avLst/>
                  <a:gdLst/>
                  <a:ahLst/>
                  <a:rect l="l" t="t" r="r" b="b"/>
                  <a:pathLst>
                    <a:path w="38" h="164">
                      <a:moveTo>
                        <a:pt x="38" y="35"/>
                      </a:moveTo>
                      <a:lnTo>
                        <a:pt x="0" y="0"/>
                      </a:lnTo>
                      <a:lnTo>
                        <a:pt x="0" y="129"/>
                      </a:lnTo>
                      <a:lnTo>
                        <a:pt x="38" y="164"/>
                      </a:lnTo>
                      <a:lnTo>
                        <a:pt x="38" y="35"/>
                      </a:lnTo>
                      <a:close/>
                    </a:path>
                  </a:pathLst>
                </a:custGeom>
                <a:solidFill>
                  <a:srgbClr val="fd5a02"/>
                </a:solidFill>
                <a:ln w="0">
                  <a:solidFill>
                    <a:srgbClr val="fd5a0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902400" y="2053800"/>
                  <a:ext cx="190080" cy="34812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0" y="172"/>
                      </a:moveTo>
                      <a:lnTo>
                        <a:pt x="125" y="128"/>
                      </a:lnTo>
                      <a:lnTo>
                        <a:pt x="125" y="0"/>
                      </a:lnTo>
                      <a:lnTo>
                        <a:pt x="0" y="4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50e0e"/>
                </a:solidFill>
                <a:ln w="0">
                  <a:solidFill>
                    <a:srgbClr val="c50e0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563280" y="2140920"/>
                  <a:ext cx="339120" cy="261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563280" y="2140920"/>
                  <a:ext cx="339120" cy="2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>
                  <a:off x="3902400" y="2053800"/>
                  <a:ext cx="190080" cy="86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505320" y="2070000"/>
                  <a:ext cx="57960" cy="705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563280" y="2140920"/>
                  <a:ext cx="1080" cy="2613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3504960" y="1981080"/>
                  <a:ext cx="190440" cy="88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695760" y="1981080"/>
                  <a:ext cx="339120" cy="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034880" y="1981080"/>
                  <a:ext cx="57600" cy="727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563280" y="2402280"/>
                  <a:ext cx="339120" cy="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3902400" y="2313000"/>
                  <a:ext cx="190080" cy="88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505320" y="2331720"/>
                  <a:ext cx="57960" cy="705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505320" y="2070000"/>
                  <a:ext cx="1440" cy="2613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902400" y="2140920"/>
                  <a:ext cx="1440" cy="2613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092480" y="2053800"/>
                  <a:ext cx="1440" cy="2588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3504960" y="2242440"/>
                  <a:ext cx="190440" cy="88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695760" y="2242440"/>
                  <a:ext cx="3391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034880" y="2242440"/>
                  <a:ext cx="57600" cy="70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695760" y="1981080"/>
                  <a:ext cx="1080" cy="261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034880" y="1981080"/>
                  <a:ext cx="1080" cy="261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609480" y="914400"/>
                <a:ext cx="728280" cy="837720"/>
                <a:chOff x="609480" y="914400"/>
                <a:chExt cx="728280" cy="83772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609480" y="914400"/>
                  <a:ext cx="726840" cy="163440"/>
                </a:xfrm>
                <a:custGeom>
                  <a:avLst/>
                  <a:gdLst/>
                  <a:ahLst/>
                  <a:rect l="l" t="t" r="r" b="b"/>
                  <a:pathLst>
                    <a:path w="452" h="102">
                      <a:moveTo>
                        <a:pt x="57" y="102"/>
                      </a:moveTo>
                      <a:lnTo>
                        <a:pt x="318" y="102"/>
                      </a:lnTo>
                      <a:lnTo>
                        <a:pt x="452" y="48"/>
                      </a:lnTo>
                      <a:lnTo>
                        <a:pt x="395" y="0"/>
                      </a:lnTo>
                      <a:lnTo>
                        <a:pt x="134" y="0"/>
                      </a:lnTo>
                      <a:lnTo>
                        <a:pt x="0" y="54"/>
                      </a:lnTo>
                      <a:lnTo>
                        <a:pt x="57" y="102"/>
                      </a:lnTo>
                      <a:close/>
                    </a:path>
                  </a:pathLst>
                </a:custGeom>
                <a:solidFill>
                  <a:srgbClr val="ffb051"/>
                </a:solidFill>
                <a:ln w="0">
                  <a:solidFill>
                    <a:srgbClr val="ffb05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09480" y="1000800"/>
                  <a:ext cx="91800" cy="749880"/>
                </a:xfrm>
                <a:custGeom>
                  <a:avLst/>
                  <a:gdLst/>
                  <a:ahLst/>
                  <a:rect l="l" t="t" r="r" b="b"/>
                  <a:pathLst>
                    <a:path w="57" h="467">
                      <a:moveTo>
                        <a:pt x="57" y="48"/>
                      </a:moveTo>
                      <a:lnTo>
                        <a:pt x="0" y="0"/>
                      </a:lnTo>
                      <a:lnTo>
                        <a:pt x="0" y="419"/>
                      </a:lnTo>
                      <a:lnTo>
                        <a:pt x="57" y="467"/>
                      </a:lnTo>
                      <a:lnTo>
                        <a:pt x="57" y="48"/>
                      </a:lnTo>
                      <a:close/>
                    </a:path>
                  </a:pathLst>
                </a:custGeom>
                <a:solidFill>
                  <a:srgbClr val="feb334"/>
                </a:solidFill>
                <a:ln w="0">
                  <a:solidFill>
                    <a:srgbClr val="feb33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21040" y="991080"/>
                  <a:ext cx="215280" cy="759600"/>
                </a:xfrm>
                <a:custGeom>
                  <a:avLst/>
                  <a:gdLst/>
                  <a:ahLst/>
                  <a:rect l="l" t="t" r="r" b="b"/>
                  <a:pathLst>
                    <a:path w="134" h="473">
                      <a:moveTo>
                        <a:pt x="0" y="473"/>
                      </a:moveTo>
                      <a:lnTo>
                        <a:pt x="134" y="419"/>
                      </a:lnTo>
                      <a:lnTo>
                        <a:pt x="134" y="0"/>
                      </a:lnTo>
                      <a:lnTo>
                        <a:pt x="0" y="54"/>
                      </a:lnTo>
                      <a:lnTo>
                        <a:pt x="0" y="473"/>
                      </a:lnTo>
                      <a:close/>
                    </a:path>
                  </a:pathLst>
                </a:custGeom>
                <a:solidFill>
                  <a:srgbClr val="fd6437"/>
                </a:solidFill>
                <a:ln w="0">
                  <a:solidFill>
                    <a:srgbClr val="fd643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01280" y="1077840"/>
                  <a:ext cx="419400" cy="67284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solidFill>
                    <a:srgbClr val="ff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01280" y="1077840"/>
                  <a:ext cx="419400" cy="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>
                  <a:off x="1121040" y="991080"/>
                  <a:ext cx="215280" cy="86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09480" y="1000800"/>
                  <a:ext cx="91800" cy="76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01280" y="1077840"/>
                  <a:ext cx="1440" cy="6728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609480" y="914400"/>
                  <a:ext cx="215280" cy="86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24760" y="914400"/>
                  <a:ext cx="41940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244520" y="914400"/>
                  <a:ext cx="91800" cy="76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01280" y="1750680"/>
                  <a:ext cx="41940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H="1">
                  <a:off x="1121040" y="1664280"/>
                  <a:ext cx="215280" cy="86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09480" y="1673640"/>
                  <a:ext cx="91800" cy="770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09480" y="1000800"/>
                  <a:ext cx="1800" cy="672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21040" y="1077840"/>
                  <a:ext cx="1440" cy="6728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336320" y="991080"/>
                  <a:ext cx="1440" cy="6728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609480" y="1586880"/>
                  <a:ext cx="215280" cy="86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24760" y="1586880"/>
                  <a:ext cx="4194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244520" y="1586880"/>
                  <a:ext cx="91800" cy="77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24760" y="914400"/>
                  <a:ext cx="1800" cy="672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244520" y="914400"/>
                  <a:ext cx="1800" cy="672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914040" y="2285640"/>
                <a:ext cx="567000" cy="756720"/>
                <a:chOff x="914040" y="2285640"/>
                <a:chExt cx="567000" cy="7567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914400" y="2285640"/>
                  <a:ext cx="565200" cy="104400"/>
                </a:xfrm>
                <a:custGeom>
                  <a:avLst/>
                  <a:gdLst/>
                  <a:ahLst/>
                  <a:rect l="l" t="t" r="r" b="b"/>
                  <a:pathLst>
                    <a:path w="356" h="66">
                      <a:moveTo>
                        <a:pt x="265" y="66"/>
                      </a:moveTo>
                      <a:lnTo>
                        <a:pt x="356" y="0"/>
                      </a:lnTo>
                      <a:lnTo>
                        <a:pt x="91" y="0"/>
                      </a:lnTo>
                      <a:lnTo>
                        <a:pt x="0" y="66"/>
                      </a:lnTo>
                      <a:lnTo>
                        <a:pt x="265" y="66"/>
                      </a:lnTo>
                      <a:close/>
                    </a:path>
                  </a:pathLst>
                </a:custGeom>
                <a:solidFill>
                  <a:srgbClr val="9bffff"/>
                </a:solidFill>
                <a:ln w="0">
                  <a:solidFill>
                    <a:srgbClr val="9b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334880" y="2285640"/>
                  <a:ext cx="144720" cy="755280"/>
                </a:xfrm>
                <a:custGeom>
                  <a:avLst/>
                  <a:gdLst/>
                  <a:ahLst/>
                  <a:rect l="l" t="t" r="r" b="b"/>
                  <a:pathLst>
                    <a:path w="91" h="476">
                      <a:moveTo>
                        <a:pt x="0" y="476"/>
                      </a:moveTo>
                      <a:lnTo>
                        <a:pt x="91" y="410"/>
                      </a:lnTo>
                      <a:lnTo>
                        <a:pt x="91" y="0"/>
                      </a:lnTo>
                      <a:lnTo>
                        <a:pt x="0" y="66"/>
                      </a:lnTo>
                      <a:lnTo>
                        <a:pt x="0" y="476"/>
                      </a:lnTo>
                      <a:close/>
                    </a:path>
                  </a:pathLst>
                </a:custGeom>
                <a:solidFill>
                  <a:srgbClr val="01b9fe"/>
                </a:solidFill>
                <a:ln w="0">
                  <a:solidFill>
                    <a:srgbClr val="01b9f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914400" y="2390040"/>
                  <a:ext cx="420480" cy="6505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914400" y="3040920"/>
                  <a:ext cx="42048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914400" y="2390040"/>
                  <a:ext cx="1440" cy="6505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914400" y="2390040"/>
                  <a:ext cx="42048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334880" y="2390040"/>
                  <a:ext cx="1800" cy="6505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>
                  <a:off x="914040" y="2936160"/>
                  <a:ext cx="144360" cy="10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058760" y="2936160"/>
                  <a:ext cx="420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058760" y="2285640"/>
                  <a:ext cx="1440" cy="65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058760" y="2285640"/>
                  <a:ext cx="420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479600" y="2285640"/>
                  <a:ext cx="1440" cy="6505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914040" y="2285640"/>
                  <a:ext cx="144360" cy="104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>
                  <a:off x="1334880" y="2285640"/>
                  <a:ext cx="144720" cy="104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>
                  <a:off x="1334880" y="2936160"/>
                  <a:ext cx="144720" cy="104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0" name=""/>
          <p:cNvSpPr/>
          <p:nvPr/>
        </p:nvSpPr>
        <p:spPr>
          <a:xfrm>
            <a:off x="4724280" y="25146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a5"/>
                </a:solidFill>
                <a:latin typeface="Comic Sans MS"/>
              </a:rPr>
              <a:t>(</a:t>
            </a:r>
            <a:r>
              <a:rPr b="0" lang="hr-HR" sz="2000" spc="-1" strike="noStrike">
                <a:solidFill>
                  <a:srgbClr val="2929a5"/>
                </a:solidFill>
                <a:latin typeface="Comic Sans MS"/>
              </a:rPr>
              <a:t>all lateral faces of all prisms are rectangles</a:t>
            </a:r>
            <a:r>
              <a:rPr b="0" lang="en-US" sz="2000" spc="-1" strike="noStrike">
                <a:solidFill>
                  <a:srgbClr val="2929a5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648320" y="592776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a5"/>
                </a:solidFill>
                <a:latin typeface="Comic Sans MS"/>
              </a:rPr>
              <a:t>(</a:t>
            </a:r>
            <a:r>
              <a:rPr b="0" lang="hr-HR" sz="2000" spc="-1" strike="noStrike">
                <a:solidFill>
                  <a:srgbClr val="2929a5"/>
                </a:solidFill>
                <a:latin typeface="Comic Sans MS"/>
              </a:rPr>
              <a:t>all lateral faces of all pyramids are triangles</a:t>
            </a:r>
            <a:r>
              <a:rPr b="0" lang="en-US" sz="2000" spc="-1" strike="noStrike">
                <a:solidFill>
                  <a:srgbClr val="2929a5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143000" y="34592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7400" y="34592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·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67280" y="34434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18320" y="34434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·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79560" y="450864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Area is to the rectangle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______ is 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to the pri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09480" y="914400"/>
            <a:ext cx="3484440" cy="2150280"/>
            <a:chOff x="609480" y="914400"/>
            <a:chExt cx="3484440" cy="2150280"/>
          </a:xfrm>
        </p:grpSpPr>
        <p:grpSp>
          <p:nvGrpSpPr>
            <p:cNvPr id="628" name=""/>
            <p:cNvGrpSpPr/>
            <p:nvPr/>
          </p:nvGrpSpPr>
          <p:grpSpPr>
            <a:xfrm>
              <a:off x="1904760" y="1371240"/>
              <a:ext cx="566640" cy="826560"/>
              <a:chOff x="1904760" y="1371240"/>
              <a:chExt cx="566640" cy="826560"/>
            </a:xfrm>
          </p:grpSpPr>
          <p:sp>
            <p:nvSpPr>
              <p:cNvPr id="629" name=""/>
              <p:cNvSpPr/>
              <p:nvPr/>
            </p:nvSpPr>
            <p:spPr>
              <a:xfrm>
                <a:off x="1905120" y="1522800"/>
                <a:ext cx="564840" cy="673920"/>
              </a:xfrm>
              <a:prstGeom prst="rect">
                <a:avLst/>
              </a:pr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905120" y="1371240"/>
                <a:ext cx="564840" cy="151560"/>
              </a:xfrm>
              <a:custGeom>
                <a:avLst/>
                <a:gdLst/>
                <a:ahLst/>
                <a:rect l="l" t="t" r="r" b="b"/>
                <a:pathLst>
                  <a:path w="396" h="106">
                    <a:moveTo>
                      <a:pt x="0" y="106"/>
                    </a:moveTo>
                    <a:lnTo>
                      <a:pt x="396" y="106"/>
                    </a:lnTo>
                    <a:lnTo>
                      <a:pt x="296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ff91"/>
              </a:solidFill>
              <a:ln w="0">
                <a:solidFill>
                  <a:srgbClr val="ffff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905120" y="1522800"/>
                <a:ext cx="5648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327400" y="1371240"/>
                <a:ext cx="142560" cy="151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1904760" y="1371240"/>
                <a:ext cx="422280" cy="151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905120" y="1522800"/>
                <a:ext cx="1440" cy="67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905120" y="2196720"/>
                <a:ext cx="5648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469960" y="1522800"/>
                <a:ext cx="1440" cy="67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1904760" y="2045520"/>
                <a:ext cx="422280" cy="151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327400" y="2045520"/>
                <a:ext cx="142560" cy="151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27400" y="1371240"/>
                <a:ext cx="1440" cy="6742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3720" y="1066680"/>
              <a:ext cx="617760" cy="605520"/>
              <a:chOff x="3123720" y="1066680"/>
              <a:chExt cx="617760" cy="60552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1066680"/>
                <a:ext cx="615960" cy="123480"/>
              </a:xfrm>
              <a:custGeom>
                <a:avLst/>
                <a:gdLst/>
                <a:ahLst/>
                <a:rect l="l" t="t" r="r" b="b"/>
                <a:pathLst>
                  <a:path w="388" h="78">
                    <a:moveTo>
                      <a:pt x="296" y="78"/>
                    </a:moveTo>
                    <a:lnTo>
                      <a:pt x="388" y="0"/>
                    </a:lnTo>
                    <a:lnTo>
                      <a:pt x="92" y="0"/>
                    </a:lnTo>
                    <a:lnTo>
                      <a:pt x="0" y="78"/>
                    </a:lnTo>
                    <a:lnTo>
                      <a:pt x="296" y="78"/>
                    </a:lnTo>
                    <a:close/>
                  </a:path>
                </a:pathLst>
              </a:custGeom>
              <a:solidFill>
                <a:srgbClr val="7bc2fd"/>
              </a:solidFill>
              <a:ln w="0">
                <a:solidFill>
                  <a:srgbClr val="7bc2f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593880" y="1066680"/>
                <a:ext cx="146160" cy="604440"/>
              </a:xfrm>
              <a:custGeom>
                <a:avLst/>
                <a:gdLst/>
                <a:ahLst/>
                <a:rect l="l" t="t" r="r" b="b"/>
                <a:pathLst>
                  <a:path w="92" h="381">
                    <a:moveTo>
                      <a:pt x="0" y="381"/>
                    </a:moveTo>
                    <a:lnTo>
                      <a:pt x="92" y="303"/>
                    </a:lnTo>
                    <a:lnTo>
                      <a:pt x="92" y="0"/>
                    </a:lnTo>
                    <a:lnTo>
                      <a:pt x="0" y="78"/>
                    </a:lnTo>
                    <a:lnTo>
                      <a:pt x="0" y="38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24080" y="1190160"/>
                <a:ext cx="469800" cy="480600"/>
              </a:xfrm>
              <a:prstGeom prst="rect">
                <a:avLst/>
              </a:prstGeom>
              <a:solidFill>
                <a:srgbClr val="0279fd"/>
              </a:solidFill>
              <a:ln w="0">
                <a:solidFill>
                  <a:srgbClr val="0279f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124080" y="1671120"/>
                <a:ext cx="469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593880" y="1190160"/>
                <a:ext cx="1440" cy="480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124080" y="1190160"/>
                <a:ext cx="469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124080" y="1190160"/>
                <a:ext cx="1440" cy="480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593880" y="1547280"/>
                <a:ext cx="146160" cy="123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40040" y="1066680"/>
                <a:ext cx="1440" cy="480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69880" y="1066680"/>
                <a:ext cx="47016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3123720" y="1547280"/>
                <a:ext cx="145800" cy="12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3593880" y="1066680"/>
                <a:ext cx="146160" cy="123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3123720" y="1066680"/>
                <a:ext cx="145800" cy="123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269880" y="1547280"/>
                <a:ext cx="470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69880" y="1066680"/>
                <a:ext cx="1800" cy="4806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2666520" y="2285640"/>
              <a:ext cx="589320" cy="779040"/>
              <a:chOff x="2666520" y="2285640"/>
              <a:chExt cx="589320" cy="779040"/>
            </a:xfrm>
          </p:grpSpPr>
          <p:sp>
            <p:nvSpPr>
              <p:cNvPr id="657" name=""/>
              <p:cNvSpPr/>
              <p:nvPr/>
            </p:nvSpPr>
            <p:spPr>
              <a:xfrm>
                <a:off x="2666880" y="2403000"/>
                <a:ext cx="54000" cy="659880"/>
              </a:xfrm>
              <a:custGeom>
                <a:avLst/>
                <a:gdLst/>
                <a:ahLst/>
                <a:rect l="l" t="t" r="r" b="b"/>
                <a:pathLst>
                  <a:path w="34" h="416">
                    <a:moveTo>
                      <a:pt x="34" y="67"/>
                    </a:moveTo>
                    <a:lnTo>
                      <a:pt x="0" y="0"/>
                    </a:lnTo>
                    <a:lnTo>
                      <a:pt x="0" y="349"/>
                    </a:lnTo>
                    <a:lnTo>
                      <a:pt x="34" y="41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73ff73"/>
              </a:solidFill>
              <a:ln w="0">
                <a:solidFill>
                  <a:srgbClr val="73ff7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666880" y="2285640"/>
                <a:ext cx="587520" cy="223560"/>
              </a:xfrm>
              <a:custGeom>
                <a:avLst/>
                <a:gdLst/>
                <a:ahLst/>
                <a:rect l="l" t="t" r="r" b="b"/>
                <a:pathLst>
                  <a:path w="370" h="141">
                    <a:moveTo>
                      <a:pt x="255" y="141"/>
                    </a:moveTo>
                    <a:lnTo>
                      <a:pt x="370" y="87"/>
                    </a:lnTo>
                    <a:lnTo>
                      <a:pt x="202" y="0"/>
                    </a:lnTo>
                    <a:lnTo>
                      <a:pt x="0" y="74"/>
                    </a:lnTo>
                    <a:lnTo>
                      <a:pt x="34" y="141"/>
                    </a:lnTo>
                    <a:lnTo>
                      <a:pt x="255" y="141"/>
                    </a:lnTo>
                    <a:close/>
                  </a:path>
                </a:pathLst>
              </a:custGeom>
              <a:solidFill>
                <a:srgbClr val="aefe94"/>
              </a:solidFill>
              <a:ln w="0">
                <a:solidFill>
                  <a:srgbClr val="aefe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71880" y="2423520"/>
                <a:ext cx="182520" cy="639360"/>
              </a:xfrm>
              <a:custGeom>
                <a:avLst/>
                <a:gdLst/>
                <a:ahLst/>
                <a:rect l="l" t="t" r="r" b="b"/>
                <a:pathLst>
                  <a:path w="115" h="403">
                    <a:moveTo>
                      <a:pt x="0" y="403"/>
                    </a:moveTo>
                    <a:lnTo>
                      <a:pt x="115" y="349"/>
                    </a:lnTo>
                    <a:lnTo>
                      <a:pt x="115" y="0"/>
                    </a:lnTo>
                    <a:lnTo>
                      <a:pt x="0" y="54"/>
                    </a:lnTo>
                    <a:lnTo>
                      <a:pt x="0" y="40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720880" y="2509200"/>
                <a:ext cx="351000" cy="553680"/>
              </a:xfrm>
              <a:prstGeom prst="rect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20880" y="3063240"/>
                <a:ext cx="351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071520" y="2977560"/>
                <a:ext cx="18252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666880" y="2957040"/>
                <a:ext cx="54000" cy="10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987640" y="2839320"/>
                <a:ext cx="266760" cy="1378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666520" y="2839320"/>
                <a:ext cx="320760" cy="117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666880" y="2403000"/>
                <a:ext cx="1800" cy="55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20880" y="2509200"/>
                <a:ext cx="351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3071520" y="2423520"/>
                <a:ext cx="18252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66880" y="2403000"/>
                <a:ext cx="54000" cy="10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987640" y="2285640"/>
                <a:ext cx="266760" cy="137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2666520" y="2285640"/>
                <a:ext cx="320760" cy="117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20880" y="2509200"/>
                <a:ext cx="1800" cy="55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71880" y="2509200"/>
                <a:ext cx="1440" cy="55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254400" y="2423520"/>
                <a:ext cx="1440" cy="55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987640" y="2285640"/>
                <a:ext cx="1440" cy="5536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3504960" y="1981080"/>
              <a:ext cx="588960" cy="423000"/>
              <a:chOff x="3504960" y="1981080"/>
              <a:chExt cx="588960" cy="423000"/>
            </a:xfrm>
          </p:grpSpPr>
          <p:sp>
            <p:nvSpPr>
              <p:cNvPr id="677" name=""/>
              <p:cNvSpPr/>
              <p:nvPr/>
            </p:nvSpPr>
            <p:spPr>
              <a:xfrm>
                <a:off x="3505320" y="1981080"/>
                <a:ext cx="587160" cy="159840"/>
              </a:xfrm>
              <a:custGeom>
                <a:avLst/>
                <a:gdLst/>
                <a:ahLst/>
                <a:rect l="l" t="t" r="r" b="b"/>
                <a:pathLst>
                  <a:path w="386" h="79">
                    <a:moveTo>
                      <a:pt x="38" y="79"/>
                    </a:moveTo>
                    <a:lnTo>
                      <a:pt x="261" y="79"/>
                    </a:lnTo>
                    <a:lnTo>
                      <a:pt x="386" y="36"/>
                    </a:lnTo>
                    <a:lnTo>
                      <a:pt x="348" y="0"/>
                    </a:lnTo>
                    <a:lnTo>
                      <a:pt x="125" y="0"/>
                    </a:lnTo>
                    <a:lnTo>
                      <a:pt x="0" y="44"/>
                    </a:lnTo>
                    <a:lnTo>
                      <a:pt x="38" y="79"/>
                    </a:lnTo>
                    <a:close/>
                  </a:path>
                </a:pathLst>
              </a:custGeom>
              <a:solidFill>
                <a:srgbClr val="ff9b37"/>
              </a:solidFill>
              <a:ln w="0">
                <a:solidFill>
                  <a:srgbClr val="ff9b3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05320" y="2070000"/>
                <a:ext cx="57960" cy="331920"/>
              </a:xfrm>
              <a:custGeom>
                <a:avLst/>
                <a:gdLst/>
                <a:ahLst/>
                <a:rect l="l" t="t" r="r" b="b"/>
                <a:pathLst>
                  <a:path w="38" h="164">
                    <a:moveTo>
                      <a:pt x="38" y="35"/>
                    </a:moveTo>
                    <a:lnTo>
                      <a:pt x="0" y="0"/>
                    </a:lnTo>
                    <a:lnTo>
                      <a:pt x="0" y="129"/>
                    </a:lnTo>
                    <a:lnTo>
                      <a:pt x="38" y="164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d5a02"/>
              </a:solidFill>
              <a:ln w="0">
                <a:solidFill>
                  <a:srgbClr val="fd5a0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902400" y="2053800"/>
                <a:ext cx="190080" cy="348120"/>
              </a:xfrm>
              <a:custGeom>
                <a:avLst/>
                <a:gdLst/>
                <a:ahLst/>
                <a:rect l="l" t="t" r="r" b="b"/>
                <a:pathLst>
                  <a:path w="125" h="172">
                    <a:moveTo>
                      <a:pt x="0" y="172"/>
                    </a:moveTo>
                    <a:lnTo>
                      <a:pt x="125" y="128"/>
                    </a:lnTo>
                    <a:lnTo>
                      <a:pt x="125" y="0"/>
                    </a:lnTo>
                    <a:lnTo>
                      <a:pt x="0" y="43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c50e0e"/>
              </a:solidFill>
              <a:ln w="0">
                <a:solidFill>
                  <a:srgbClr val="c50e0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563280" y="2140920"/>
                <a:ext cx="339120" cy="26136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63280" y="2140920"/>
                <a:ext cx="339120" cy="2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3902400" y="2053800"/>
                <a:ext cx="190080" cy="867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05320" y="2070000"/>
                <a:ext cx="57960" cy="70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563280" y="2140920"/>
                <a:ext cx="1080" cy="261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504960" y="1981080"/>
                <a:ext cx="190440" cy="88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95760" y="1981080"/>
                <a:ext cx="339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034880" y="1981080"/>
                <a:ext cx="57600" cy="72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563280" y="2402280"/>
                <a:ext cx="339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3902400" y="2313000"/>
                <a:ext cx="190080" cy="88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505320" y="2331720"/>
                <a:ext cx="57960" cy="70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505320" y="2070000"/>
                <a:ext cx="1440" cy="261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902400" y="2140920"/>
                <a:ext cx="1440" cy="261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92480" y="2053800"/>
                <a:ext cx="1440" cy="258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3504960" y="2242440"/>
                <a:ext cx="190440" cy="889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695760" y="2242440"/>
                <a:ext cx="339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034880" y="2242440"/>
                <a:ext cx="57600" cy="705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695760" y="1981080"/>
                <a:ext cx="1080" cy="261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034880" y="1981080"/>
                <a:ext cx="1080" cy="261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09480" y="914400"/>
              <a:ext cx="728280" cy="837720"/>
              <a:chOff x="609480" y="914400"/>
              <a:chExt cx="728280" cy="837720"/>
            </a:xfrm>
          </p:grpSpPr>
          <p:sp>
            <p:nvSpPr>
              <p:cNvPr id="700" name=""/>
              <p:cNvSpPr/>
              <p:nvPr/>
            </p:nvSpPr>
            <p:spPr>
              <a:xfrm>
                <a:off x="609480" y="914400"/>
                <a:ext cx="726840" cy="163440"/>
              </a:xfrm>
              <a:custGeom>
                <a:avLst/>
                <a:gdLst/>
                <a:ahLst/>
                <a:rect l="l" t="t" r="r" b="b"/>
                <a:pathLst>
                  <a:path w="452" h="102">
                    <a:moveTo>
                      <a:pt x="57" y="102"/>
                    </a:moveTo>
                    <a:lnTo>
                      <a:pt x="318" y="102"/>
                    </a:lnTo>
                    <a:lnTo>
                      <a:pt x="452" y="48"/>
                    </a:lnTo>
                    <a:lnTo>
                      <a:pt x="395" y="0"/>
                    </a:lnTo>
                    <a:lnTo>
                      <a:pt x="134" y="0"/>
                    </a:lnTo>
                    <a:lnTo>
                      <a:pt x="0" y="54"/>
                    </a:lnTo>
                    <a:lnTo>
                      <a:pt x="57" y="102"/>
                    </a:lnTo>
                    <a:close/>
                  </a:path>
                </a:pathLst>
              </a:custGeom>
              <a:solidFill>
                <a:srgbClr val="ffb051"/>
              </a:solidFill>
              <a:ln w="0">
                <a:solidFill>
                  <a:srgbClr val="ffb05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09480" y="1000800"/>
                <a:ext cx="91800" cy="749880"/>
              </a:xfrm>
              <a:custGeom>
                <a:avLst/>
                <a:gdLst/>
                <a:ahLst/>
                <a:rect l="l" t="t" r="r" b="b"/>
                <a:pathLst>
                  <a:path w="57" h="467">
                    <a:moveTo>
                      <a:pt x="57" y="48"/>
                    </a:moveTo>
                    <a:lnTo>
                      <a:pt x="0" y="0"/>
                    </a:lnTo>
                    <a:lnTo>
                      <a:pt x="0" y="419"/>
                    </a:lnTo>
                    <a:lnTo>
                      <a:pt x="57" y="467"/>
                    </a:lnTo>
                    <a:lnTo>
                      <a:pt x="57" y="48"/>
                    </a:lnTo>
                    <a:close/>
                  </a:path>
                </a:pathLst>
              </a:custGeom>
              <a:solidFill>
                <a:srgbClr val="feb334"/>
              </a:solidFill>
              <a:ln w="0">
                <a:solidFill>
                  <a:srgbClr val="feb3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121040" y="991080"/>
                <a:ext cx="215280" cy="759600"/>
              </a:xfrm>
              <a:custGeom>
                <a:avLst/>
                <a:gdLst/>
                <a:ahLst/>
                <a:rect l="l" t="t" r="r" b="b"/>
                <a:pathLst>
                  <a:path w="134" h="473">
                    <a:moveTo>
                      <a:pt x="0" y="473"/>
                    </a:moveTo>
                    <a:lnTo>
                      <a:pt x="134" y="419"/>
                    </a:lnTo>
                    <a:lnTo>
                      <a:pt x="134" y="0"/>
                    </a:lnTo>
                    <a:lnTo>
                      <a:pt x="0" y="54"/>
                    </a:lnTo>
                    <a:lnTo>
                      <a:pt x="0" y="473"/>
                    </a:lnTo>
                    <a:close/>
                  </a:path>
                </a:pathLst>
              </a:custGeom>
              <a:solidFill>
                <a:srgbClr val="fd6437"/>
              </a:solidFill>
              <a:ln w="0">
                <a:solidFill>
                  <a:srgbClr val="fd643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1280" y="1077840"/>
                <a:ext cx="419400" cy="672840"/>
              </a:xfrm>
              <a:prstGeom prst="rect">
                <a:avLst/>
              </a:prstGeom>
              <a:solidFill>
                <a:srgbClr val="ff8000"/>
              </a:solidFill>
              <a:ln w="0">
                <a:solidFill>
                  <a:srgbClr val="ff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1280" y="1077840"/>
                <a:ext cx="4194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121040" y="991080"/>
                <a:ext cx="215280" cy="86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9480" y="1000800"/>
                <a:ext cx="91800" cy="76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1280" y="1077840"/>
                <a:ext cx="1440" cy="67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609480" y="914400"/>
                <a:ext cx="215280" cy="86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24760" y="914400"/>
                <a:ext cx="4194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44520" y="914400"/>
                <a:ext cx="91800" cy="76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1280" y="1750680"/>
                <a:ext cx="4194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1121040" y="1664280"/>
                <a:ext cx="215280" cy="86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09480" y="1673640"/>
                <a:ext cx="91800" cy="770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09480" y="1000800"/>
                <a:ext cx="1800" cy="672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21040" y="1077840"/>
                <a:ext cx="1440" cy="67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36320" y="991080"/>
                <a:ext cx="1440" cy="67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09480" y="1586880"/>
                <a:ext cx="215280" cy="864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24760" y="1586880"/>
                <a:ext cx="419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44520" y="1586880"/>
                <a:ext cx="91800" cy="77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24760" y="914400"/>
                <a:ext cx="1800" cy="672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244520" y="914400"/>
                <a:ext cx="1800" cy="672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914040" y="2285640"/>
              <a:ext cx="567000" cy="756720"/>
              <a:chOff x="914040" y="2285640"/>
              <a:chExt cx="567000" cy="756720"/>
            </a:xfrm>
          </p:grpSpPr>
          <p:sp>
            <p:nvSpPr>
              <p:cNvPr id="723" name=""/>
              <p:cNvSpPr/>
              <p:nvPr/>
            </p:nvSpPr>
            <p:spPr>
              <a:xfrm>
                <a:off x="914400" y="2285640"/>
                <a:ext cx="565200" cy="104400"/>
              </a:xfrm>
              <a:custGeom>
                <a:avLst/>
                <a:gdLst/>
                <a:ahLst/>
                <a:rect l="l" t="t" r="r" b="b"/>
                <a:pathLst>
                  <a:path w="356" h="66">
                    <a:moveTo>
                      <a:pt x="265" y="66"/>
                    </a:moveTo>
                    <a:lnTo>
                      <a:pt x="356" y="0"/>
                    </a:lnTo>
                    <a:lnTo>
                      <a:pt x="91" y="0"/>
                    </a:lnTo>
                    <a:lnTo>
                      <a:pt x="0" y="66"/>
                    </a:lnTo>
                    <a:lnTo>
                      <a:pt x="265" y="66"/>
                    </a:lnTo>
                    <a:close/>
                  </a:path>
                </a:pathLst>
              </a:custGeom>
              <a:solidFill>
                <a:srgbClr val="9bffff"/>
              </a:solidFill>
              <a:ln w="0">
                <a:solidFill>
                  <a:srgbClr val="9b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334880" y="2285640"/>
                <a:ext cx="144720" cy="755280"/>
              </a:xfrm>
              <a:custGeom>
                <a:avLst/>
                <a:gdLst/>
                <a:ahLst/>
                <a:rect l="l" t="t" r="r" b="b"/>
                <a:pathLst>
                  <a:path w="91" h="476">
                    <a:moveTo>
                      <a:pt x="0" y="476"/>
                    </a:moveTo>
                    <a:lnTo>
                      <a:pt x="91" y="410"/>
                    </a:lnTo>
                    <a:lnTo>
                      <a:pt x="91" y="0"/>
                    </a:lnTo>
                    <a:lnTo>
                      <a:pt x="0" y="66"/>
                    </a:lnTo>
                    <a:lnTo>
                      <a:pt x="0" y="476"/>
                    </a:lnTo>
                    <a:close/>
                  </a:path>
                </a:pathLst>
              </a:custGeom>
              <a:solidFill>
                <a:srgbClr val="01b9fe"/>
              </a:solidFill>
              <a:ln w="0">
                <a:solidFill>
                  <a:srgbClr val="01b9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914400" y="2390040"/>
                <a:ext cx="420480" cy="650520"/>
              </a:xfrm>
              <a:prstGeom prst="rect">
                <a:avLst/>
              </a:pr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914400" y="3040920"/>
                <a:ext cx="42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14400" y="2390040"/>
                <a:ext cx="1440" cy="650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914400" y="2390040"/>
                <a:ext cx="42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334880" y="2390040"/>
                <a:ext cx="1800" cy="650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914040" y="2936160"/>
                <a:ext cx="14436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058760" y="2936160"/>
                <a:ext cx="42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058760" y="2285640"/>
                <a:ext cx="1440" cy="65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058760" y="2285640"/>
                <a:ext cx="4208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479600" y="2285640"/>
                <a:ext cx="1440" cy="650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914040" y="2285640"/>
                <a:ext cx="144360" cy="104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1334880" y="2285640"/>
                <a:ext cx="144720" cy="104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1334880" y="2936160"/>
                <a:ext cx="144720" cy="104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5943600" y="1392120"/>
            <a:ext cx="1904400" cy="1047960"/>
            <a:chOff x="5943600" y="1392120"/>
            <a:chExt cx="1904400" cy="1047960"/>
          </a:xfrm>
        </p:grpSpPr>
        <p:sp>
          <p:nvSpPr>
            <p:cNvPr id="739" name=""/>
            <p:cNvSpPr/>
            <p:nvPr/>
          </p:nvSpPr>
          <p:spPr>
            <a:xfrm>
              <a:off x="5943600" y="1392120"/>
              <a:ext cx="1361160" cy="630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86840" y="1980360"/>
              <a:ext cx="54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04760" y="1560600"/>
              <a:ext cx="5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324000" y="228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pr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63868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450864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analogies between these two formu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87280" y="4508640"/>
            <a:ext cx="693612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from these form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how many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e prism/rectangle h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a5"/>
                </a:solidFill>
                <a:latin typeface="Comic Sans MS"/>
              </a:rPr>
              <a:t>(</a:t>
            </a:r>
            <a:r>
              <a:rPr b="0" lang="hr-HR" sz="2000" spc="-1" strike="noStrike">
                <a:solidFill>
                  <a:srgbClr val="2929a5"/>
                </a:solidFill>
                <a:latin typeface="Comic Sans MS"/>
              </a:rPr>
              <a:t>Think how much dimensions are</a:t>
            </a:r>
            <a:r>
              <a:rPr b="0" lang="en-US" sz="20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i="1" lang="hr-HR" sz="2000" spc="-1" strike="noStrike">
                <a:solidFill>
                  <a:srgbClr val="2929a5"/>
                </a:solidFill>
                <a:latin typeface="Comic Sans MS"/>
              </a:rPr>
              <a:t>hidden </a:t>
            </a:r>
            <a:r>
              <a:rPr b="0" lang="hr-HR" sz="2000" spc="-1" strike="noStrike">
                <a:solidFill>
                  <a:srgbClr val="2929a5"/>
                </a:solidFill>
                <a:latin typeface="Comic Sans MS"/>
              </a:rPr>
              <a:t>in</a:t>
            </a:r>
            <a:r>
              <a:rPr b="0" lang="en-US" sz="2000" spc="-1" strike="noStrike">
                <a:solidFill>
                  <a:srgbClr val="2929a5"/>
                </a:solidFill>
                <a:latin typeface="Comic Sans MS"/>
              </a:rPr>
              <a:t> B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56000" y="4925880"/>
            <a:ext cx="139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04920" y="2286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p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ramid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43000" y="37544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67280" y="37386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49480" y="4965840"/>
            <a:ext cx="525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Area is to the triangle 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______ is 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to the p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yram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33520" y="990720"/>
            <a:ext cx="3480480" cy="2285280"/>
            <a:chOff x="533520" y="990720"/>
            <a:chExt cx="3480480" cy="2285280"/>
          </a:xfrm>
        </p:grpSpPr>
        <p:grpSp>
          <p:nvGrpSpPr>
            <p:cNvPr id="752" name=""/>
            <p:cNvGrpSpPr/>
            <p:nvPr/>
          </p:nvGrpSpPr>
          <p:grpSpPr>
            <a:xfrm>
              <a:off x="990000" y="990720"/>
              <a:ext cx="815760" cy="902880"/>
              <a:chOff x="990000" y="990720"/>
              <a:chExt cx="815760" cy="902880"/>
            </a:xfrm>
          </p:grpSpPr>
          <p:sp>
            <p:nvSpPr>
              <p:cNvPr id="753" name=""/>
              <p:cNvSpPr/>
              <p:nvPr/>
            </p:nvSpPr>
            <p:spPr>
              <a:xfrm>
                <a:off x="990360" y="990720"/>
                <a:ext cx="403200" cy="901440"/>
              </a:xfrm>
              <a:custGeom>
                <a:avLst/>
                <a:gdLst/>
                <a:ahLst/>
                <a:rect l="l" t="t" r="r" b="b"/>
                <a:pathLst>
                  <a:path w="347" h="664">
                    <a:moveTo>
                      <a:pt x="0" y="602"/>
                    </a:moveTo>
                    <a:lnTo>
                      <a:pt x="101" y="664"/>
                    </a:lnTo>
                    <a:lnTo>
                      <a:pt x="347" y="0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1c5fe"/>
              </a:solidFill>
              <a:ln w="0">
                <a:solidFill>
                  <a:srgbClr val="01c5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93560" y="990720"/>
                <a:ext cx="412200" cy="901440"/>
              </a:xfrm>
              <a:custGeom>
                <a:avLst/>
                <a:gdLst/>
                <a:ahLst/>
                <a:rect l="l" t="t" r="r" b="b"/>
                <a:pathLst>
                  <a:path w="355" h="664">
                    <a:moveTo>
                      <a:pt x="156" y="664"/>
                    </a:moveTo>
                    <a:lnTo>
                      <a:pt x="355" y="559"/>
                    </a:lnTo>
                    <a:lnTo>
                      <a:pt x="0" y="0"/>
                    </a:lnTo>
                    <a:lnTo>
                      <a:pt x="156" y="66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107720" y="990720"/>
                <a:ext cx="466920" cy="901440"/>
              </a:xfrm>
              <a:custGeom>
                <a:avLst/>
                <a:gdLst/>
                <a:ahLst/>
                <a:rect l="l" t="t" r="r" b="b"/>
                <a:pathLst>
                  <a:path w="402" h="664">
                    <a:moveTo>
                      <a:pt x="0" y="664"/>
                    </a:moveTo>
                    <a:lnTo>
                      <a:pt x="402" y="664"/>
                    </a:lnTo>
                    <a:lnTo>
                      <a:pt x="246" y="0"/>
                    </a:lnTo>
                    <a:lnTo>
                      <a:pt x="0" y="664"/>
                    </a:lnTo>
                    <a:close/>
                  </a:path>
                </a:pathLst>
              </a:custGeom>
              <a:solidFill>
                <a:srgbClr val="4e83fe"/>
              </a:solidFill>
              <a:ln w="0">
                <a:solidFill>
                  <a:srgbClr val="4e83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07720" y="1892160"/>
                <a:ext cx="466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1574640" y="1749600"/>
                <a:ext cx="230760" cy="14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990360" y="1808280"/>
                <a:ext cx="117360" cy="8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1107720" y="990720"/>
                <a:ext cx="285840" cy="90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393560" y="990720"/>
                <a:ext cx="181080" cy="90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393560" y="990720"/>
                <a:ext cx="412200" cy="75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990360" y="990720"/>
                <a:ext cx="403200" cy="81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990000" y="1664280"/>
                <a:ext cx="235800" cy="1436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226160" y="1664280"/>
                <a:ext cx="466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693080" y="1664280"/>
                <a:ext cx="112680" cy="84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393560" y="990720"/>
                <a:ext cx="299520" cy="6735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1226160" y="990720"/>
                <a:ext cx="167040" cy="6735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1828440" y="2133720"/>
              <a:ext cx="978840" cy="1142280"/>
              <a:chOff x="1828440" y="2133720"/>
              <a:chExt cx="978840" cy="1142280"/>
            </a:xfrm>
          </p:grpSpPr>
          <p:sp>
            <p:nvSpPr>
              <p:cNvPr id="769" name=""/>
              <p:cNvSpPr/>
              <p:nvPr/>
            </p:nvSpPr>
            <p:spPr>
              <a:xfrm>
                <a:off x="1828440" y="2133720"/>
                <a:ext cx="483840" cy="1140840"/>
              </a:xfrm>
              <a:custGeom>
                <a:avLst/>
                <a:gdLst/>
                <a:ahLst/>
                <a:rect l="l" t="t" r="r" b="b"/>
                <a:pathLst>
                  <a:path w="305" h="584">
                    <a:moveTo>
                      <a:pt x="0" y="529"/>
                    </a:moveTo>
                    <a:lnTo>
                      <a:pt x="89" y="584"/>
                    </a:lnTo>
                    <a:lnTo>
                      <a:pt x="305" y="0"/>
                    </a:lnTo>
                    <a:lnTo>
                      <a:pt x="0" y="529"/>
                    </a:lnTo>
                    <a:close/>
                  </a:path>
                </a:pathLst>
              </a:custGeom>
              <a:solidFill>
                <a:srgbClr val="ffff77"/>
              </a:solidFill>
              <a:ln w="0">
                <a:solidFill>
                  <a:srgbClr val="ffff7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312280" y="2133720"/>
                <a:ext cx="495000" cy="1140840"/>
              </a:xfrm>
              <a:custGeom>
                <a:avLst/>
                <a:gdLst/>
                <a:ahLst/>
                <a:rect l="l" t="t" r="r" b="b"/>
                <a:pathLst>
                  <a:path w="312" h="584">
                    <a:moveTo>
                      <a:pt x="137" y="584"/>
                    </a:moveTo>
                    <a:lnTo>
                      <a:pt x="312" y="491"/>
                    </a:lnTo>
                    <a:lnTo>
                      <a:pt x="0" y="0"/>
                    </a:lnTo>
                    <a:lnTo>
                      <a:pt x="137" y="584"/>
                    </a:lnTo>
                    <a:close/>
                  </a:path>
                </a:pathLst>
              </a:custGeom>
              <a:solidFill>
                <a:srgbClr val="fed101"/>
              </a:solidFill>
              <a:ln w="0">
                <a:solidFill>
                  <a:srgbClr val="fed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969200" y="2133720"/>
                <a:ext cx="560160" cy="1140840"/>
              </a:xfrm>
              <a:custGeom>
                <a:avLst/>
                <a:gdLst/>
                <a:ahLst/>
                <a:rect l="l" t="t" r="r" b="b"/>
                <a:pathLst>
                  <a:path w="353" h="584">
                    <a:moveTo>
                      <a:pt x="0" y="584"/>
                    </a:moveTo>
                    <a:lnTo>
                      <a:pt x="353" y="584"/>
                    </a:lnTo>
                    <a:lnTo>
                      <a:pt x="216" y="0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69200" y="3274560"/>
                <a:ext cx="5601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2529360" y="3093120"/>
                <a:ext cx="277560" cy="18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828440" y="3166920"/>
                <a:ext cx="140760" cy="1076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1969200" y="2133720"/>
                <a:ext cx="342720" cy="1140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312280" y="2133720"/>
                <a:ext cx="217080" cy="1140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312280" y="2133720"/>
                <a:ext cx="495000" cy="959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1828440" y="2133720"/>
                <a:ext cx="483840" cy="1033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1828440" y="2985120"/>
                <a:ext cx="282240" cy="18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110680" y="2985120"/>
                <a:ext cx="5616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72640" y="2985120"/>
                <a:ext cx="134640" cy="1076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312280" y="2133720"/>
                <a:ext cx="360000" cy="8514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2110320" y="2133720"/>
                <a:ext cx="201240" cy="8514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533520" y="2210040"/>
              <a:ext cx="834480" cy="837720"/>
              <a:chOff x="533520" y="2210040"/>
              <a:chExt cx="834480" cy="837720"/>
            </a:xfrm>
          </p:grpSpPr>
          <p:sp>
            <p:nvSpPr>
              <p:cNvPr id="785" name=""/>
              <p:cNvSpPr/>
              <p:nvPr/>
            </p:nvSpPr>
            <p:spPr>
              <a:xfrm>
                <a:off x="936000" y="2210040"/>
                <a:ext cx="432000" cy="836280"/>
              </a:xfrm>
              <a:custGeom>
                <a:avLst/>
                <a:gdLst/>
                <a:ahLst/>
                <a:rect l="l" t="t" r="r" b="b"/>
                <a:pathLst>
                  <a:path w="250" h="483">
                    <a:moveTo>
                      <a:pt x="115" y="483"/>
                    </a:moveTo>
                    <a:lnTo>
                      <a:pt x="250" y="386"/>
                    </a:lnTo>
                    <a:lnTo>
                      <a:pt x="0" y="0"/>
                    </a:lnTo>
                    <a:lnTo>
                      <a:pt x="115" y="4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33520" y="2210040"/>
                <a:ext cx="601200" cy="836280"/>
              </a:xfrm>
              <a:custGeom>
                <a:avLst/>
                <a:gdLst/>
                <a:ahLst/>
                <a:rect l="l" t="t" r="r" b="b"/>
                <a:pathLst>
                  <a:path w="348" h="483">
                    <a:moveTo>
                      <a:pt x="0" y="483"/>
                    </a:moveTo>
                    <a:lnTo>
                      <a:pt x="348" y="483"/>
                    </a:lnTo>
                    <a:lnTo>
                      <a:pt x="233" y="0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ff5757"/>
              </a:solidFill>
              <a:ln w="0">
                <a:solidFill>
                  <a:srgbClr val="ff575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33520" y="3046320"/>
                <a:ext cx="601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533520" y="2878200"/>
                <a:ext cx="233280" cy="1677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533520" y="2210040"/>
                <a:ext cx="402480" cy="836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36000" y="2210040"/>
                <a:ext cx="198720" cy="836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1134720" y="2878200"/>
                <a:ext cx="233280" cy="1677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36000" y="2210040"/>
                <a:ext cx="432000" cy="668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766800" y="2210040"/>
                <a:ext cx="169200" cy="66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6800" y="2878200"/>
                <a:ext cx="601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3199680" y="1905120"/>
              <a:ext cx="814320" cy="850680"/>
              <a:chOff x="3199680" y="1905120"/>
              <a:chExt cx="814320" cy="850680"/>
            </a:xfrm>
          </p:grpSpPr>
          <p:sp>
            <p:nvSpPr>
              <p:cNvPr id="796" name=""/>
              <p:cNvSpPr/>
              <p:nvPr/>
            </p:nvSpPr>
            <p:spPr>
              <a:xfrm>
                <a:off x="3200040" y="1905120"/>
                <a:ext cx="813960" cy="848520"/>
              </a:xfrm>
              <a:custGeom>
                <a:avLst/>
                <a:gdLst/>
                <a:ahLst/>
                <a:rect l="l" t="t" r="r" b="b"/>
                <a:pathLst>
                  <a:path w="399" h="416">
                    <a:moveTo>
                      <a:pt x="0" y="416"/>
                    </a:moveTo>
                    <a:lnTo>
                      <a:pt x="399" y="416"/>
                    </a:lnTo>
                    <a:lnTo>
                      <a:pt x="230" y="0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200040" y="2753640"/>
                <a:ext cx="813960" cy="2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64880" y="2533320"/>
                <a:ext cx="248760" cy="219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3199680" y="2533320"/>
                <a:ext cx="564840" cy="219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3199680" y="1905120"/>
                <a:ext cx="469080" cy="84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69120" y="1905120"/>
                <a:ext cx="344520" cy="84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69120" y="1905120"/>
                <a:ext cx="95760" cy="628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437920" y="1011600"/>
              <a:ext cx="837720" cy="816840"/>
              <a:chOff x="2437920" y="1011600"/>
              <a:chExt cx="837720" cy="816840"/>
            </a:xfrm>
          </p:grpSpPr>
          <p:sp>
            <p:nvSpPr>
              <p:cNvPr id="804" name=""/>
              <p:cNvSpPr/>
              <p:nvPr/>
            </p:nvSpPr>
            <p:spPr>
              <a:xfrm>
                <a:off x="2438280" y="1011600"/>
                <a:ext cx="412920" cy="815040"/>
              </a:xfrm>
              <a:custGeom>
                <a:avLst/>
                <a:gdLst/>
                <a:ahLst/>
                <a:rect l="l" t="t" r="r" b="b"/>
                <a:pathLst>
                  <a:path w="219" h="432">
                    <a:moveTo>
                      <a:pt x="0" y="366"/>
                    </a:moveTo>
                    <a:lnTo>
                      <a:pt x="40" y="432"/>
                    </a:lnTo>
                    <a:lnTo>
                      <a:pt x="219" y="0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f9fff"/>
              </a:solidFill>
              <a:ln w="0">
                <a:solidFill>
                  <a:srgbClr val="ff9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851200" y="1011600"/>
                <a:ext cx="424080" cy="815040"/>
              </a:xfrm>
              <a:custGeom>
                <a:avLst/>
                <a:gdLst/>
                <a:ahLst/>
                <a:rect l="l" t="t" r="r" b="b"/>
                <a:pathLst>
                  <a:path w="225" h="432">
                    <a:moveTo>
                      <a:pt x="87" y="432"/>
                    </a:moveTo>
                    <a:lnTo>
                      <a:pt x="225" y="378"/>
                    </a:lnTo>
                    <a:lnTo>
                      <a:pt x="0" y="0"/>
                    </a:lnTo>
                    <a:lnTo>
                      <a:pt x="87" y="432"/>
                    </a:lnTo>
                    <a:close/>
                  </a:path>
                </a:pathLst>
              </a:custGeom>
              <a:solidFill>
                <a:srgbClr val="dd00dd"/>
              </a:solidFill>
              <a:ln w="0">
                <a:solidFill>
                  <a:srgbClr val="dd00d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13880" y="1011600"/>
                <a:ext cx="501480" cy="815040"/>
              </a:xfrm>
              <a:custGeom>
                <a:avLst/>
                <a:gdLst/>
                <a:ahLst/>
                <a:rect l="l" t="t" r="r" b="b"/>
                <a:pathLst>
                  <a:path w="266" h="432">
                    <a:moveTo>
                      <a:pt x="0" y="432"/>
                    </a:moveTo>
                    <a:lnTo>
                      <a:pt x="266" y="432"/>
                    </a:lnTo>
                    <a:lnTo>
                      <a:pt x="179" y="0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ff51ff"/>
              </a:solidFill>
              <a:ln w="0">
                <a:solidFill>
                  <a:srgbClr val="ff51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3880" y="1826640"/>
                <a:ext cx="501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3015720" y="1724760"/>
                <a:ext cx="259920" cy="101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438280" y="1702080"/>
                <a:ext cx="75600" cy="124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2513520" y="1011600"/>
                <a:ext cx="337320" cy="8150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51200" y="1011600"/>
                <a:ext cx="164160" cy="8150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851200" y="1011600"/>
                <a:ext cx="424080" cy="713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2437920" y="1011600"/>
                <a:ext cx="412920" cy="69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894400" y="1562760"/>
                <a:ext cx="380880" cy="1620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51200" y="1011600"/>
                <a:ext cx="43200" cy="55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2437920" y="1562760"/>
                <a:ext cx="456120" cy="139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7" name=""/>
          <p:cNvSpPr/>
          <p:nvPr/>
        </p:nvSpPr>
        <p:spPr>
          <a:xfrm>
            <a:off x="6019920" y="304920"/>
            <a:ext cx="164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tr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i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162840" y="1347840"/>
            <a:ext cx="1609200" cy="1549080"/>
            <a:chOff x="6162840" y="1347840"/>
            <a:chExt cx="1609200" cy="1549080"/>
          </a:xfrm>
        </p:grpSpPr>
        <p:sp>
          <p:nvSpPr>
            <p:cNvPr id="819" name=""/>
            <p:cNvSpPr/>
            <p:nvPr/>
          </p:nvSpPr>
          <p:spPr>
            <a:xfrm>
              <a:off x="6591960" y="243720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39520" y="1644840"/>
              <a:ext cx="6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6251400" y="1347840"/>
              <a:ext cx="911880" cy="1140480"/>
              <a:chOff x="6251400" y="1347840"/>
              <a:chExt cx="911880" cy="1140480"/>
            </a:xfrm>
          </p:grpSpPr>
          <p:sp>
            <p:nvSpPr>
              <p:cNvPr id="822" name=""/>
              <p:cNvSpPr/>
              <p:nvPr/>
            </p:nvSpPr>
            <p:spPr>
              <a:xfrm>
                <a:off x="6251760" y="1347840"/>
                <a:ext cx="911520" cy="1138320"/>
              </a:xfrm>
              <a:custGeom>
                <a:avLst/>
                <a:gdLst/>
                <a:ahLst/>
                <a:rect l="l" t="t" r="r" b="b"/>
                <a:pathLst>
                  <a:path w="493" h="456">
                    <a:moveTo>
                      <a:pt x="400" y="0"/>
                    </a:moveTo>
                    <a:lnTo>
                      <a:pt x="493" y="456"/>
                    </a:lnTo>
                    <a:lnTo>
                      <a:pt x="0" y="456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51760" y="2486160"/>
                <a:ext cx="91152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6251400" y="1347840"/>
                <a:ext cx="739080" cy="113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990840" y="1347840"/>
                <a:ext cx="172080" cy="113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6162840" y="164484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7" name=""/>
          <p:cNvGraphicFramePr/>
          <p:nvPr/>
        </p:nvGraphicFramePr>
        <p:xfrm>
          <a:off x="6781680" y="3495600"/>
          <a:ext cx="12956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495600"/>
                    <a:ext cx="12956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2057400" y="3484440"/>
          <a:ext cx="1219320" cy="107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484440"/>
                    <a:ext cx="12193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1" name=""/>
          <p:cNvGrpSpPr/>
          <p:nvPr/>
        </p:nvGrpSpPr>
        <p:grpSpPr>
          <a:xfrm>
            <a:off x="6705720" y="1350720"/>
            <a:ext cx="457200" cy="1149480"/>
            <a:chOff x="6705720" y="1350720"/>
            <a:chExt cx="457200" cy="1149480"/>
          </a:xfrm>
        </p:grpSpPr>
        <p:sp>
          <p:nvSpPr>
            <p:cNvPr id="832" name=""/>
            <p:cNvSpPr/>
            <p:nvPr/>
          </p:nvSpPr>
          <p:spPr>
            <a:xfrm flipV="1">
              <a:off x="6989760" y="13507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7057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6816600" y="2347920"/>
              <a:ext cx="152640" cy="152280"/>
              <a:chOff x="6816600" y="2347920"/>
              <a:chExt cx="152640" cy="152280"/>
            </a:xfrm>
          </p:grpSpPr>
          <p:sp>
            <p:nvSpPr>
              <p:cNvPr id="835" name=""/>
              <p:cNvSpPr/>
              <p:nvPr/>
            </p:nvSpPr>
            <p:spPr>
              <a:xfrm>
                <a:off x="6816600" y="2347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816600" y="23479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"/>
          <p:cNvSpPr/>
          <p:nvPr/>
        </p:nvSpPr>
        <p:spPr>
          <a:xfrm>
            <a:off x="2057400" y="494172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analogies between these two formu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87280" y="4935600"/>
            <a:ext cx="693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  <a:ea typeface="ＭＳ Ｐゴシック"/>
              </a:rPr>
              <a:t>Can you see from these form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  <a:ea typeface="ＭＳ Ｐゴシック"/>
              </a:rPr>
              <a:t>how many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  <a:ea typeface="ＭＳ Ｐゴシック"/>
              </a:rPr>
              <a:t>the pyramid/triangle h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84360" y="53578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828800" y="1925640"/>
            <a:ext cx="5551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at's all, folk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I hope, after this explanations, remembering and understanding of formulas will be easier to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835280" y="1998720"/>
            <a:ext cx="536400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ut</a:t>
            </a:r>
            <a:r>
              <a:rPr b="1" lang="hr-HR" sz="2000" spc="-1" strike="noStrike">
                <a:solidFill>
                  <a:srgbClr val="3333cc"/>
                </a:solidFill>
                <a:latin typeface="Comic Sans MS"/>
              </a:rPr>
              <a:t>h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or </a:t>
            </a:r>
            <a:r>
              <a:rPr b="1" lang="hr-HR" sz="2000" spc="-1" strike="noStrike">
                <a:solidFill>
                  <a:srgbClr val="3333cc"/>
                </a:solidFill>
                <a:latin typeface="Comic Sans MS"/>
              </a:rPr>
              <a:t>of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re</a:t>
            </a:r>
            <a:r>
              <a:rPr b="1" lang="hr-HR" sz="2000" spc="-1" strike="noStrike">
                <a:solidFill>
                  <a:srgbClr val="3333cc"/>
                </a:solidFill>
                <a:latin typeface="Comic Sans MS"/>
              </a:rPr>
              <a:t>sentation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Antonija Horva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cc"/>
                </a:solidFill>
                <a:latin typeface="Comic Sans MS"/>
              </a:rPr>
              <a:t>Croatia, Apr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200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2920" y="533520"/>
            <a:ext cx="91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Polyhedrons and other geometric solids are parts of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350532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Polygons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and other 2D-figures are parts of 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523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16720" y="3500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4343400"/>
            <a:ext cx="1371600" cy="5335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343400"/>
            <a:ext cx="10666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5562720"/>
            <a:ext cx="609840" cy="53316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572000"/>
            <a:ext cx="533160" cy="533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434340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5486400"/>
            <a:ext cx="685800" cy="593640"/>
          </a:xfrm>
          <a:prstGeom prst="hexagon">
            <a:avLst>
              <a:gd name="adj" fmla="val 28881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8674400">
            <a:off x="838080" y="5562000"/>
            <a:ext cx="533160" cy="5335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5334120"/>
            <a:ext cx="685800" cy="533160"/>
          </a:xfrm>
          <a:prstGeom prst="octagon">
            <a:avLst>
              <a:gd name="adj" fmla="val 2928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01000" y="5105520"/>
            <a:ext cx="533520" cy="990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500840" y="1952640"/>
            <a:ext cx="1004760" cy="1718640"/>
            <a:chOff x="1500840" y="1952640"/>
            <a:chExt cx="1004760" cy="1718640"/>
          </a:xfrm>
        </p:grpSpPr>
        <p:sp>
          <p:nvSpPr>
            <p:cNvPr id="56" name=""/>
            <p:cNvSpPr/>
            <p:nvPr/>
          </p:nvSpPr>
          <p:spPr>
            <a:xfrm>
              <a:off x="1676520" y="2499840"/>
              <a:ext cx="651960" cy="629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01920" y="2699640"/>
              <a:ext cx="1002960" cy="97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38" y="2543"/>
                  </a:moveTo>
                  <a:arcTo wR="10800" hR="10800" stAng="-7808121" swAng="4769164"/>
                  <a:lnTo>
                    <a:pt x="10800" y="10800"/>
                  </a:lnTo>
                  <a:close/>
                </a:path>
                <a:path fill="none" w="21600" h="21600">
                  <a:moveTo>
                    <a:pt x="3838" y="2543"/>
                  </a:moveTo>
                  <a:arcTo wR="10800" hR="10800" stAng="-7808121" swAng="4769164"/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00840" y="1952640"/>
              <a:ext cx="1004760" cy="97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75" y="19129"/>
                  </a:moveTo>
                  <a:arcTo wR="10800" hR="10800" stAng="3027913" swAng="4791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75" y="19129"/>
                  </a:moveTo>
                  <a:arcTo wR="10800" hR="10800" stAng="3027913" swAng="4791307"/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520" y="2499840"/>
              <a:ext cx="645120" cy="622080"/>
            </a:xfrm>
            <a:custGeom>
              <a:avLst/>
              <a:gdLst/>
              <a:ahLst/>
              <a:rect l="l" t="t" r="r" b="b"/>
              <a:pathLst>
                <a:path w="359" h="352">
                  <a:moveTo>
                    <a:pt x="359" y="176"/>
                  </a:moveTo>
                  <a:lnTo>
                    <a:pt x="359" y="191"/>
                  </a:lnTo>
                  <a:lnTo>
                    <a:pt x="356" y="206"/>
                  </a:lnTo>
                  <a:lnTo>
                    <a:pt x="352" y="221"/>
                  </a:lnTo>
                  <a:lnTo>
                    <a:pt x="348" y="236"/>
                  </a:lnTo>
                  <a:lnTo>
                    <a:pt x="344" y="251"/>
                  </a:lnTo>
                  <a:lnTo>
                    <a:pt x="337" y="262"/>
                  </a:lnTo>
                  <a:lnTo>
                    <a:pt x="329" y="277"/>
                  </a:lnTo>
                  <a:lnTo>
                    <a:pt x="318" y="288"/>
                  </a:lnTo>
                  <a:lnTo>
                    <a:pt x="310" y="300"/>
                  </a:lnTo>
                  <a:lnTo>
                    <a:pt x="299" y="311"/>
                  </a:lnTo>
                  <a:lnTo>
                    <a:pt x="284" y="318"/>
                  </a:lnTo>
                  <a:lnTo>
                    <a:pt x="272" y="326"/>
                  </a:lnTo>
                  <a:lnTo>
                    <a:pt x="261" y="333"/>
                  </a:lnTo>
                  <a:lnTo>
                    <a:pt x="246" y="341"/>
                  </a:lnTo>
                  <a:lnTo>
                    <a:pt x="231" y="344"/>
                  </a:lnTo>
                  <a:lnTo>
                    <a:pt x="216" y="348"/>
                  </a:lnTo>
                  <a:lnTo>
                    <a:pt x="201" y="352"/>
                  </a:lnTo>
                  <a:lnTo>
                    <a:pt x="186" y="352"/>
                  </a:lnTo>
                  <a:lnTo>
                    <a:pt x="167" y="352"/>
                  </a:lnTo>
                  <a:lnTo>
                    <a:pt x="152" y="348"/>
                  </a:lnTo>
                  <a:lnTo>
                    <a:pt x="136" y="348"/>
                  </a:lnTo>
                  <a:lnTo>
                    <a:pt x="121" y="344"/>
                  </a:lnTo>
                  <a:lnTo>
                    <a:pt x="106" y="337"/>
                  </a:lnTo>
                  <a:lnTo>
                    <a:pt x="95" y="329"/>
                  </a:lnTo>
                  <a:lnTo>
                    <a:pt x="80" y="322"/>
                  </a:lnTo>
                  <a:lnTo>
                    <a:pt x="68" y="314"/>
                  </a:lnTo>
                  <a:lnTo>
                    <a:pt x="57" y="303"/>
                  </a:lnTo>
                  <a:lnTo>
                    <a:pt x="46" y="292"/>
                  </a:lnTo>
                  <a:lnTo>
                    <a:pt x="34" y="281"/>
                  </a:lnTo>
                  <a:lnTo>
                    <a:pt x="27" y="270"/>
                  </a:lnTo>
                  <a:lnTo>
                    <a:pt x="19" y="255"/>
                  </a:lnTo>
                  <a:lnTo>
                    <a:pt x="12" y="243"/>
                  </a:lnTo>
                  <a:lnTo>
                    <a:pt x="8" y="228"/>
                  </a:lnTo>
                  <a:lnTo>
                    <a:pt x="4" y="214"/>
                  </a:lnTo>
                  <a:lnTo>
                    <a:pt x="0" y="199"/>
                  </a:lnTo>
                  <a:lnTo>
                    <a:pt x="0" y="184"/>
                  </a:lnTo>
                  <a:lnTo>
                    <a:pt x="0" y="169"/>
                  </a:lnTo>
                  <a:lnTo>
                    <a:pt x="0" y="154"/>
                  </a:lnTo>
                  <a:lnTo>
                    <a:pt x="4" y="139"/>
                  </a:lnTo>
                  <a:lnTo>
                    <a:pt x="8" y="124"/>
                  </a:lnTo>
                  <a:lnTo>
                    <a:pt x="12" y="109"/>
                  </a:lnTo>
                  <a:lnTo>
                    <a:pt x="19" y="98"/>
                  </a:lnTo>
                  <a:lnTo>
                    <a:pt x="27" y="83"/>
                  </a:lnTo>
                  <a:lnTo>
                    <a:pt x="34" y="71"/>
                  </a:lnTo>
                  <a:lnTo>
                    <a:pt x="46" y="60"/>
                  </a:lnTo>
                  <a:lnTo>
                    <a:pt x="57" y="49"/>
                  </a:lnTo>
                  <a:lnTo>
                    <a:pt x="68" y="38"/>
                  </a:lnTo>
                  <a:lnTo>
                    <a:pt x="80" y="30"/>
                  </a:lnTo>
                  <a:lnTo>
                    <a:pt x="95" y="23"/>
                  </a:lnTo>
                  <a:lnTo>
                    <a:pt x="106" y="15"/>
                  </a:lnTo>
                  <a:lnTo>
                    <a:pt x="121" y="8"/>
                  </a:lnTo>
                  <a:lnTo>
                    <a:pt x="136" y="4"/>
                  </a:lnTo>
                  <a:lnTo>
                    <a:pt x="152" y="4"/>
                  </a:lnTo>
                  <a:lnTo>
                    <a:pt x="167" y="0"/>
                  </a:lnTo>
                  <a:lnTo>
                    <a:pt x="186" y="0"/>
                  </a:lnTo>
                  <a:lnTo>
                    <a:pt x="201" y="0"/>
                  </a:lnTo>
                  <a:lnTo>
                    <a:pt x="216" y="4"/>
                  </a:lnTo>
                  <a:lnTo>
                    <a:pt x="231" y="8"/>
                  </a:lnTo>
                  <a:lnTo>
                    <a:pt x="246" y="12"/>
                  </a:lnTo>
                  <a:lnTo>
                    <a:pt x="261" y="19"/>
                  </a:lnTo>
                  <a:lnTo>
                    <a:pt x="272" y="27"/>
                  </a:lnTo>
                  <a:lnTo>
                    <a:pt x="284" y="34"/>
                  </a:lnTo>
                  <a:lnTo>
                    <a:pt x="299" y="42"/>
                  </a:lnTo>
                  <a:lnTo>
                    <a:pt x="310" y="53"/>
                  </a:lnTo>
                  <a:lnTo>
                    <a:pt x="318" y="64"/>
                  </a:lnTo>
                  <a:lnTo>
                    <a:pt x="329" y="75"/>
                  </a:lnTo>
                  <a:lnTo>
                    <a:pt x="337" y="90"/>
                  </a:lnTo>
                  <a:lnTo>
                    <a:pt x="344" y="101"/>
                  </a:lnTo>
                  <a:lnTo>
                    <a:pt x="348" y="116"/>
                  </a:lnTo>
                  <a:lnTo>
                    <a:pt x="352" y="131"/>
                  </a:lnTo>
                  <a:lnTo>
                    <a:pt x="356" y="146"/>
                  </a:lnTo>
                  <a:lnTo>
                    <a:pt x="359" y="161"/>
                  </a:lnTo>
                  <a:lnTo>
                    <a:pt x="359" y="1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235680" y="2819520"/>
            <a:ext cx="753120" cy="685080"/>
            <a:chOff x="3235680" y="2819520"/>
            <a:chExt cx="753120" cy="685080"/>
          </a:xfrm>
        </p:grpSpPr>
        <p:sp>
          <p:nvSpPr>
            <p:cNvPr id="61" name=""/>
            <p:cNvSpPr/>
            <p:nvPr/>
          </p:nvSpPr>
          <p:spPr>
            <a:xfrm>
              <a:off x="3352680" y="2819520"/>
              <a:ext cx="533520" cy="53316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35680" y="3200400"/>
              <a:ext cx="753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60" y="2971"/>
                  </a:moveTo>
                  <a:arcTo wR="10800" hR="10800" stAng="-8012531" swAng="5225061"/>
                  <a:lnTo>
                    <a:pt x="10800" y="10800"/>
                  </a:lnTo>
                  <a:close/>
                </a:path>
                <a:path fill="none" w="21600" h="21600">
                  <a:moveTo>
                    <a:pt x="3360" y="2971"/>
                  </a:moveTo>
                  <a:arcTo wR="10800" hR="10800" stAng="-8012531" swAng="5225061"/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870520" y="1371600"/>
            <a:ext cx="808560" cy="915840"/>
            <a:chOff x="5870520" y="1371600"/>
            <a:chExt cx="808560" cy="915840"/>
          </a:xfrm>
        </p:grpSpPr>
        <p:sp>
          <p:nvSpPr>
            <p:cNvPr id="64" name=""/>
            <p:cNvSpPr/>
            <p:nvPr/>
          </p:nvSpPr>
          <p:spPr>
            <a:xfrm>
              <a:off x="5943600" y="1371600"/>
              <a:ext cx="609480" cy="75708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30000">
              <a:off x="5871600" y="1979280"/>
              <a:ext cx="806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62" y="2970"/>
                  </a:moveTo>
                  <a:arcTo wR="10800" hR="10800" stAng="-8011685" swAng="5223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62" y="2970"/>
                  </a:moveTo>
                  <a:arcTo wR="10800" hR="10800" stAng="-8011685" swAng="5223369"/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543800" y="1447920"/>
            <a:ext cx="596160" cy="581760"/>
            <a:chOff x="7543800" y="1447920"/>
            <a:chExt cx="596160" cy="581760"/>
          </a:xfrm>
        </p:grpSpPr>
        <p:sp>
          <p:nvSpPr>
            <p:cNvPr id="67" name=""/>
            <p:cNvSpPr/>
            <p:nvPr/>
          </p:nvSpPr>
          <p:spPr>
            <a:xfrm>
              <a:off x="7543800" y="1447920"/>
              <a:ext cx="594720" cy="118080"/>
            </a:xfrm>
            <a:custGeom>
              <a:avLst/>
              <a:gdLst/>
              <a:ahLst/>
              <a:rect l="l" t="t" r="r" b="b"/>
              <a:pathLst>
                <a:path w="306" h="61">
                  <a:moveTo>
                    <a:pt x="233" y="61"/>
                  </a:moveTo>
                  <a:lnTo>
                    <a:pt x="306" y="0"/>
                  </a:lnTo>
                  <a:lnTo>
                    <a:pt x="73" y="0"/>
                  </a:lnTo>
                  <a:lnTo>
                    <a:pt x="0" y="61"/>
                  </a:lnTo>
                  <a:lnTo>
                    <a:pt x="233" y="6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96680" y="1447920"/>
              <a:ext cx="141840" cy="580320"/>
            </a:xfrm>
            <a:custGeom>
              <a:avLst/>
              <a:gdLst/>
              <a:ahLst/>
              <a:rect l="l" t="t" r="r" b="b"/>
              <a:pathLst>
                <a:path w="73" h="299">
                  <a:moveTo>
                    <a:pt x="0" y="299"/>
                  </a:moveTo>
                  <a:lnTo>
                    <a:pt x="73" y="238"/>
                  </a:lnTo>
                  <a:lnTo>
                    <a:pt x="73" y="0"/>
                  </a:lnTo>
                  <a:lnTo>
                    <a:pt x="0" y="61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00a6ff"/>
            </a:solidFill>
            <a:ln w="0">
              <a:solidFill>
                <a:srgbClr val="00a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43800" y="1566000"/>
              <a:ext cx="452880" cy="461880"/>
            </a:xfrm>
            <a:prstGeom prst="rect">
              <a:avLst/>
            </a:prstGeom>
            <a:solidFill>
              <a:srgbClr val="00d2ff"/>
            </a:solidFill>
            <a:ln w="0">
              <a:solidFill>
                <a:srgbClr val="00d2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2028240"/>
              <a:ext cx="45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96680" y="1566000"/>
              <a:ext cx="1440" cy="46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43800" y="1566000"/>
              <a:ext cx="4528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43800" y="1566000"/>
              <a:ext cx="2160" cy="46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996680" y="1909800"/>
              <a:ext cx="141840" cy="11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38520" y="1447920"/>
              <a:ext cx="1440" cy="46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85640" y="1447920"/>
              <a:ext cx="4528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43800" y="1909800"/>
              <a:ext cx="141840" cy="118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996680" y="1447920"/>
              <a:ext cx="141840" cy="11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543800" y="1447920"/>
              <a:ext cx="141840" cy="11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5640" y="1909800"/>
              <a:ext cx="452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85640" y="1447920"/>
              <a:ext cx="2160" cy="4618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622560" y="2286000"/>
            <a:ext cx="796320" cy="1145520"/>
            <a:chOff x="6622560" y="2286000"/>
            <a:chExt cx="796320" cy="1145520"/>
          </a:xfrm>
        </p:grpSpPr>
        <p:grpSp>
          <p:nvGrpSpPr>
            <p:cNvPr id="83" name=""/>
            <p:cNvGrpSpPr/>
            <p:nvPr/>
          </p:nvGrpSpPr>
          <p:grpSpPr>
            <a:xfrm>
              <a:off x="6705360" y="2286000"/>
              <a:ext cx="609840" cy="837720"/>
              <a:chOff x="6705360" y="2286000"/>
              <a:chExt cx="609840" cy="83772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6705720" y="2286000"/>
                <a:ext cx="609480" cy="837720"/>
                <a:chOff x="6705720" y="2286000"/>
                <a:chExt cx="609480" cy="8377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705720" y="2935080"/>
                  <a:ext cx="609480" cy="188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2286000"/>
                  <a:ext cx="609480" cy="757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7010640" y="2286000"/>
                <a:ext cx="30456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6705360" y="2286000"/>
                <a:ext cx="30492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622560" y="2971800"/>
              <a:ext cx="796320" cy="4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73" y="2959"/>
                  </a:moveTo>
                  <a:arcTo wR="10800" hR="10800" stAng="-8006807" swAng="521361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73" y="2959"/>
                  </a:moveTo>
                  <a:arcTo wR="10800" hR="10800" stAng="-8006807" swAng="5213613"/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71640" y="1905120"/>
            <a:ext cx="685800" cy="990000"/>
            <a:chOff x="4571640" y="1905120"/>
            <a:chExt cx="685800" cy="990000"/>
          </a:xfrm>
        </p:grpSpPr>
        <p:sp>
          <p:nvSpPr>
            <p:cNvPr id="91" name=""/>
            <p:cNvSpPr/>
            <p:nvPr/>
          </p:nvSpPr>
          <p:spPr>
            <a:xfrm>
              <a:off x="4572000" y="1905120"/>
              <a:ext cx="683640" cy="147960"/>
            </a:xfrm>
            <a:custGeom>
              <a:avLst/>
              <a:gdLst/>
              <a:ahLst/>
              <a:rect l="l" t="t" r="r" b="b"/>
              <a:pathLst>
                <a:path w="408" h="84">
                  <a:moveTo>
                    <a:pt x="308" y="84"/>
                  </a:moveTo>
                  <a:lnTo>
                    <a:pt x="408" y="0"/>
                  </a:lnTo>
                  <a:lnTo>
                    <a:pt x="100" y="0"/>
                  </a:lnTo>
                  <a:lnTo>
                    <a:pt x="0" y="84"/>
                  </a:lnTo>
                  <a:lnTo>
                    <a:pt x="308" y="84"/>
                  </a:lnTo>
                  <a:close/>
                </a:path>
              </a:pathLst>
            </a:custGeom>
            <a:solidFill>
              <a:srgbClr val="fe4601"/>
            </a:solidFill>
            <a:ln w="0">
              <a:solidFill>
                <a:srgbClr val="fe46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87880" y="1905120"/>
              <a:ext cx="167400" cy="988200"/>
            </a:xfrm>
            <a:custGeom>
              <a:avLst/>
              <a:gdLst/>
              <a:ahLst/>
              <a:rect l="l" t="t" r="r" b="b"/>
              <a:pathLst>
                <a:path w="100" h="562">
                  <a:moveTo>
                    <a:pt x="0" y="562"/>
                  </a:moveTo>
                  <a:lnTo>
                    <a:pt x="100" y="478"/>
                  </a:lnTo>
                  <a:lnTo>
                    <a:pt x="100" y="0"/>
                  </a:lnTo>
                  <a:lnTo>
                    <a:pt x="0" y="84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e10000"/>
            </a:solidFill>
            <a:ln w="0">
              <a:solidFill>
                <a:srgbClr val="e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2053080"/>
              <a:ext cx="515880" cy="8402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2893320"/>
              <a:ext cx="515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2053080"/>
              <a:ext cx="1800" cy="840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0" y="2053080"/>
              <a:ext cx="515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87880" y="2053080"/>
              <a:ext cx="1800" cy="840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571640" y="2745720"/>
              <a:ext cx="167400" cy="147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39400" y="2745720"/>
              <a:ext cx="515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39400" y="1905120"/>
              <a:ext cx="1800" cy="8406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39400" y="1905120"/>
              <a:ext cx="515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55640" y="1905120"/>
              <a:ext cx="1800" cy="840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571640" y="1905120"/>
              <a:ext cx="167400" cy="147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087520" y="1905120"/>
              <a:ext cx="167400" cy="147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087520" y="2745720"/>
              <a:ext cx="167400" cy="14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37720" y="1295280"/>
            <a:ext cx="609840" cy="761400"/>
            <a:chOff x="837720" y="1295280"/>
            <a:chExt cx="609840" cy="761400"/>
          </a:xfrm>
        </p:grpSpPr>
        <p:sp>
          <p:nvSpPr>
            <p:cNvPr id="107" name=""/>
            <p:cNvSpPr/>
            <p:nvPr/>
          </p:nvSpPr>
          <p:spPr>
            <a:xfrm>
              <a:off x="838080" y="1411560"/>
              <a:ext cx="55800" cy="643320"/>
            </a:xfrm>
            <a:custGeom>
              <a:avLst/>
              <a:gdLst/>
              <a:ahLst/>
              <a:rect l="l" t="t" r="r" b="b"/>
              <a:pathLst>
                <a:path w="27" h="271">
                  <a:moveTo>
                    <a:pt x="27" y="43"/>
                  </a:moveTo>
                  <a:lnTo>
                    <a:pt x="0" y="0"/>
                  </a:lnTo>
                  <a:lnTo>
                    <a:pt x="0" y="227"/>
                  </a:lnTo>
                  <a:lnTo>
                    <a:pt x="27" y="271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73ff73"/>
            </a:solidFill>
            <a:ln w="0">
              <a:solidFill>
                <a:srgbClr val="73f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8080" y="1295280"/>
              <a:ext cx="607680" cy="217800"/>
            </a:xfrm>
            <a:custGeom>
              <a:avLst/>
              <a:gdLst/>
              <a:ahLst/>
              <a:rect l="l" t="t" r="r" b="b"/>
              <a:pathLst>
                <a:path w="293" h="92">
                  <a:moveTo>
                    <a:pt x="202" y="92"/>
                  </a:moveTo>
                  <a:lnTo>
                    <a:pt x="293" y="57"/>
                  </a:lnTo>
                  <a:lnTo>
                    <a:pt x="160" y="0"/>
                  </a:lnTo>
                  <a:lnTo>
                    <a:pt x="0" y="49"/>
                  </a:lnTo>
                  <a:lnTo>
                    <a:pt x="27" y="92"/>
                  </a:lnTo>
                  <a:lnTo>
                    <a:pt x="202" y="92"/>
                  </a:lnTo>
                  <a:close/>
                </a:path>
              </a:pathLst>
            </a:custGeom>
            <a:solidFill>
              <a:srgbClr val="61fd02"/>
            </a:solidFill>
            <a:ln w="0">
              <a:solidFill>
                <a:srgbClr val="61fd0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7120" y="1430280"/>
              <a:ext cx="188640" cy="624600"/>
            </a:xfrm>
            <a:custGeom>
              <a:avLst/>
              <a:gdLst/>
              <a:ahLst/>
              <a:rect l="l" t="t" r="r" b="b"/>
              <a:pathLst>
                <a:path w="91" h="263">
                  <a:moveTo>
                    <a:pt x="0" y="263"/>
                  </a:moveTo>
                  <a:lnTo>
                    <a:pt x="91" y="228"/>
                  </a:lnTo>
                  <a:lnTo>
                    <a:pt x="91" y="0"/>
                  </a:lnTo>
                  <a:lnTo>
                    <a:pt x="0" y="35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00b000"/>
            </a:solidFill>
            <a:ln w="0">
              <a:solidFill>
                <a:srgbClr val="00b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3880" y="1513080"/>
              <a:ext cx="362880" cy="5414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93880" y="2054880"/>
              <a:ext cx="36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257120" y="1971360"/>
              <a:ext cx="188640" cy="8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1950480"/>
              <a:ext cx="55800" cy="10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69640" y="1836360"/>
              <a:ext cx="276120" cy="135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7720" y="1836360"/>
              <a:ext cx="331560" cy="114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1411560"/>
              <a:ext cx="1800" cy="53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93880" y="1513080"/>
              <a:ext cx="36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57120" y="1430280"/>
              <a:ext cx="188640" cy="8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1411560"/>
              <a:ext cx="55800" cy="101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69640" y="1295280"/>
              <a:ext cx="27612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37720" y="1295280"/>
              <a:ext cx="331560" cy="116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93880" y="1513080"/>
              <a:ext cx="1800" cy="5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57120" y="1513080"/>
              <a:ext cx="1800" cy="54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5760" y="1430280"/>
              <a:ext cx="1800" cy="54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69640" y="1295280"/>
              <a:ext cx="2160" cy="54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619360" y="1335960"/>
            <a:ext cx="936360" cy="954360"/>
            <a:chOff x="2619360" y="1335960"/>
            <a:chExt cx="936360" cy="954360"/>
          </a:xfrm>
        </p:grpSpPr>
        <p:sp>
          <p:nvSpPr>
            <p:cNvPr id="127" name=""/>
            <p:cNvSpPr/>
            <p:nvPr/>
          </p:nvSpPr>
          <p:spPr>
            <a:xfrm>
              <a:off x="2619720" y="1335960"/>
              <a:ext cx="460080" cy="953640"/>
            </a:xfrm>
            <a:custGeom>
              <a:avLst/>
              <a:gdLst/>
              <a:ahLst/>
              <a:rect l="l" t="t" r="r" b="b"/>
              <a:pathLst>
                <a:path w="527" h="1027">
                  <a:moveTo>
                    <a:pt x="0" y="927"/>
                  </a:moveTo>
                  <a:lnTo>
                    <a:pt x="145" y="1027"/>
                  </a:lnTo>
                  <a:lnTo>
                    <a:pt x="527" y="0"/>
                  </a:lnTo>
                  <a:lnTo>
                    <a:pt x="0" y="927"/>
                  </a:lnTo>
                  <a:close/>
                </a:path>
              </a:pathLst>
            </a:custGeom>
            <a:solidFill>
              <a:srgbClr val="00b7ec"/>
            </a:solidFill>
            <a:ln w="0">
              <a:solidFill>
                <a:srgbClr val="00b7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9800" y="1335960"/>
              <a:ext cx="475920" cy="953640"/>
            </a:xfrm>
            <a:custGeom>
              <a:avLst/>
              <a:gdLst/>
              <a:ahLst/>
              <a:rect l="l" t="t" r="r" b="b"/>
              <a:pathLst>
                <a:path w="545" h="1027">
                  <a:moveTo>
                    <a:pt x="245" y="1027"/>
                  </a:moveTo>
                  <a:lnTo>
                    <a:pt x="545" y="864"/>
                  </a:lnTo>
                  <a:lnTo>
                    <a:pt x="0" y="0"/>
                  </a:lnTo>
                  <a:lnTo>
                    <a:pt x="245" y="1027"/>
                  </a:lnTo>
                  <a:close/>
                </a:path>
              </a:pathLst>
            </a:custGeom>
            <a:solidFill>
              <a:srgbClr val="2d2dff"/>
            </a:solidFill>
            <a:ln w="0">
              <a:solidFill>
                <a:srgbClr val="2d2d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6440" y="1335960"/>
              <a:ext cx="547200" cy="953640"/>
            </a:xfrm>
            <a:custGeom>
              <a:avLst/>
              <a:gdLst/>
              <a:ahLst/>
              <a:rect l="l" t="t" r="r" b="b"/>
              <a:pathLst>
                <a:path w="627" h="1027">
                  <a:moveTo>
                    <a:pt x="0" y="1027"/>
                  </a:moveTo>
                  <a:lnTo>
                    <a:pt x="627" y="1027"/>
                  </a:lnTo>
                  <a:lnTo>
                    <a:pt x="382" y="0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0280fd"/>
            </a:solidFill>
            <a:ln w="0">
              <a:solidFill>
                <a:srgbClr val="0280f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6440" y="2289600"/>
              <a:ext cx="547200" cy="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293280" y="2138400"/>
              <a:ext cx="261720" cy="15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19720" y="2196720"/>
              <a:ext cx="126360" cy="9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746440" y="1335960"/>
              <a:ext cx="333360" cy="953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9800" y="1335960"/>
              <a:ext cx="213840" cy="953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79800" y="1335960"/>
              <a:ext cx="475920" cy="80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19720" y="1335960"/>
              <a:ext cx="460080" cy="860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619360" y="2045520"/>
              <a:ext cx="269640" cy="1512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9360" y="2045520"/>
              <a:ext cx="53928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2045520"/>
              <a:ext cx="126360" cy="928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79800" y="1335960"/>
              <a:ext cx="349200" cy="7095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889360" y="1335960"/>
              <a:ext cx="190080" cy="7095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2700360" y="1941480"/>
            <a:ext cx="3816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cc"/>
                </a:solidFill>
                <a:latin typeface="Comic Sans MS"/>
              </a:rPr>
              <a:t>Thank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cc"/>
                </a:solidFill>
                <a:latin typeface="Comic Sans MS"/>
              </a:rPr>
              <a:t>Ed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cc"/>
                </a:solidFill>
                <a:latin typeface="Comic Sans MS"/>
              </a:rPr>
              <a:t>for helping me with the translation into Englis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03280" y="1647720"/>
            <a:ext cx="82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cc"/>
                </a:solidFill>
                <a:latin typeface="Comic Sans MS"/>
              </a:rPr>
              <a:t>If you want, you can use this presentation in your teac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cc"/>
                </a:solidFill>
                <a:latin typeface="Comic Sans MS"/>
              </a:rPr>
              <a:t>Also, if you want, you can change some parts of it in this purp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-500760" y="2708280"/>
            <a:ext cx="886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cc"/>
                </a:solidFill>
                <a:latin typeface="Comic Sans MS"/>
              </a:rPr>
              <a:t>But, if you want to use it in public lectures, workshop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cc"/>
                </a:solidFill>
                <a:latin typeface="Comic Sans MS"/>
              </a:rPr>
              <a:t>in writing books, articles, on CDs and simil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cc"/>
                </a:solidFill>
                <a:latin typeface="Comic Sans MS"/>
              </a:rPr>
              <a:t>then is nessesary to ask and to get permission of auth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51400" y="4005360"/>
            <a:ext cx="52099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cc"/>
                </a:solidFill>
                <a:latin typeface="Comic Sans MS"/>
              </a:rPr>
              <a:t>Antonija Horva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public.carnet.hr/~ahor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ahorvatek@yahoo.com</a:t>
            </a:r>
            <a:r>
              <a:rPr b="0" lang="hr-HR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1109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Some polyhedrons are like some polyg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49228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Som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929a5"/>
                </a:solidFill>
                <a:latin typeface="Comic Sans MS"/>
              </a:rPr>
              <a:t>formul</a:t>
            </a:r>
            <a:r>
              <a:rPr b="1" lang="hr-HR" sz="2800" spc="-1" strike="noStrike">
                <a:solidFill>
                  <a:srgbClr val="2929a5"/>
                </a:solidFill>
                <a:latin typeface="Comic Sans MS"/>
              </a:rPr>
              <a:t>as</a:t>
            </a:r>
            <a:r>
              <a:rPr b="1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about polyhed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are like som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929a5"/>
                </a:solidFill>
                <a:latin typeface="Comic Sans MS"/>
              </a:rPr>
              <a:t>formul</a:t>
            </a:r>
            <a:r>
              <a:rPr b="1" lang="hr-HR" sz="2800" spc="-1" strike="noStrike">
                <a:solidFill>
                  <a:srgbClr val="2929a5"/>
                </a:solidFill>
                <a:latin typeface="Comic Sans MS"/>
              </a:rPr>
              <a:t>a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about polygon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05080" y="4595760"/>
            <a:ext cx="633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Let's find their similariti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eir differencie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0652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One of the most simple polyhedrons is </a:t>
            </a:r>
            <a:r>
              <a:rPr b="1" lang="hr-HR" sz="2800" spc="-1" strike="noStrike">
                <a:solidFill>
                  <a:srgbClr val="2929a5"/>
                </a:solidFill>
                <a:latin typeface="Comic Sans MS"/>
              </a:rPr>
              <a:t>the cube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. What is the cu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457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129528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What polygon is </a:t>
            </a:r>
            <a:r>
              <a:rPr b="0" i="1" lang="hr-HR" sz="2800" spc="-1" strike="noStrike">
                <a:solidFill>
                  <a:srgbClr val="2929a5"/>
                </a:solidFill>
                <a:latin typeface="Comic Sans MS"/>
              </a:rPr>
              <a:t>similar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o the cu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57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7800" y="3962520"/>
            <a:ext cx="46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e cube is a part of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_____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_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5680" y="5013360"/>
            <a:ext cx="414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Which term</a:t>
            </a:r>
            <a:r>
              <a:rPr b="1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describe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the size of the part of spac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occupied by the cub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960" y="4340160"/>
            <a:ext cx="117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3078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078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1280" y="394812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e square is a part of 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___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____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68920" y="5013360"/>
            <a:ext cx="434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Which term</a:t>
            </a:r>
            <a:r>
              <a:rPr b="1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describe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the size of the part of a plan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occupied by the squar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4365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a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06216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46920" y="306216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172200" y="1447920"/>
            <a:ext cx="1600200" cy="1526400"/>
            <a:chOff x="6172200" y="1447920"/>
            <a:chExt cx="1600200" cy="1526400"/>
          </a:xfrm>
        </p:grpSpPr>
        <p:sp>
          <p:nvSpPr>
            <p:cNvPr id="160" name=""/>
            <p:cNvSpPr/>
            <p:nvPr/>
          </p:nvSpPr>
          <p:spPr>
            <a:xfrm>
              <a:off x="6172200" y="1447920"/>
              <a:ext cx="1143000" cy="1143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4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15200" y="1752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413000" y="1295280"/>
            <a:ext cx="2015640" cy="1793880"/>
            <a:chOff x="1413000" y="1295280"/>
            <a:chExt cx="2015640" cy="1793880"/>
          </a:xfrm>
        </p:grpSpPr>
        <p:grpSp>
          <p:nvGrpSpPr>
            <p:cNvPr id="164" name=""/>
            <p:cNvGrpSpPr/>
            <p:nvPr/>
          </p:nvGrpSpPr>
          <p:grpSpPr>
            <a:xfrm>
              <a:off x="1413000" y="1295280"/>
              <a:ext cx="1512360" cy="1373400"/>
              <a:chOff x="1413000" y="1295280"/>
              <a:chExt cx="1512360" cy="1373400"/>
            </a:xfrm>
          </p:grpSpPr>
          <p:sp>
            <p:nvSpPr>
              <p:cNvPr id="165" name=""/>
              <p:cNvSpPr/>
              <p:nvPr/>
            </p:nvSpPr>
            <p:spPr>
              <a:xfrm>
                <a:off x="1413000" y="1295280"/>
                <a:ext cx="1510560" cy="245520"/>
              </a:xfrm>
              <a:custGeom>
                <a:avLst/>
                <a:gdLst/>
                <a:ahLst/>
                <a:rect l="l" t="t" r="r" b="b"/>
                <a:pathLst>
                  <a:path w="880" h="143">
                    <a:moveTo>
                      <a:pt x="652" y="143"/>
                    </a:moveTo>
                    <a:lnTo>
                      <a:pt x="880" y="0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652" y="143"/>
                    </a:lnTo>
                    <a:close/>
                  </a:path>
                </a:pathLst>
              </a:custGeom>
              <a:solidFill>
                <a:srgbClr val="1684fc"/>
              </a:solidFill>
              <a:ln w="0">
                <a:solidFill>
                  <a:srgbClr val="1684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32240" y="1295280"/>
                <a:ext cx="390960" cy="1371600"/>
              </a:xfrm>
              <a:custGeom>
                <a:avLst/>
                <a:gdLst/>
                <a:ahLst/>
                <a:rect l="l" t="t" r="r" b="b"/>
                <a:pathLst>
                  <a:path w="228" h="799">
                    <a:moveTo>
                      <a:pt x="0" y="799"/>
                    </a:moveTo>
                    <a:lnTo>
                      <a:pt x="228" y="656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0" y="799"/>
                    </a:lnTo>
                    <a:close/>
                  </a:path>
                </a:pathLst>
              </a:custGeom>
              <a:solidFill>
                <a:srgbClr val="0153fe"/>
              </a:solidFill>
              <a:ln w="0">
                <a:solidFill>
                  <a:srgbClr val="0153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13000" y="1540800"/>
                <a:ext cx="1119240" cy="1126080"/>
              </a:xfrm>
              <a:prstGeom prst="rect">
                <a:avLst/>
              </a:prstGeom>
              <a:solidFill>
                <a:srgbClr val="016cfe"/>
              </a:solidFill>
              <a:ln w="0">
                <a:solidFill>
                  <a:srgbClr val="016c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13000" y="266688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32240" y="1540800"/>
                <a:ext cx="1440" cy="11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13000" y="154080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13000" y="1540800"/>
                <a:ext cx="1440" cy="11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532240" y="2421720"/>
                <a:ext cx="390960" cy="2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23560" y="1295280"/>
                <a:ext cx="1800" cy="112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03960" y="129528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413000" y="2421720"/>
                <a:ext cx="390960" cy="245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32240" y="1295280"/>
                <a:ext cx="39096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413000" y="1295280"/>
                <a:ext cx="39096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03960" y="2421720"/>
                <a:ext cx="111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03960" y="1295280"/>
                <a:ext cx="1440" cy="1126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780200" y="262944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87040" y="238212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34360" y="164016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76520" y="457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57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3078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078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06216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46920" y="306216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172200" y="1447920"/>
            <a:ext cx="1600200" cy="1526400"/>
            <a:chOff x="6172200" y="1447920"/>
            <a:chExt cx="1600200" cy="1526400"/>
          </a:xfrm>
        </p:grpSpPr>
        <p:sp>
          <p:nvSpPr>
            <p:cNvPr id="190" name=""/>
            <p:cNvSpPr/>
            <p:nvPr/>
          </p:nvSpPr>
          <p:spPr>
            <a:xfrm>
              <a:off x="6172200" y="1447920"/>
              <a:ext cx="1143000" cy="1143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294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15200" y="1752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057400" y="38862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analogies between these two formu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5029200"/>
            <a:ext cx="58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from these formulas how many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the cube/square h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413000" y="1295280"/>
            <a:ext cx="2015640" cy="1793880"/>
            <a:chOff x="1413000" y="1295280"/>
            <a:chExt cx="2015640" cy="1793880"/>
          </a:xfrm>
        </p:grpSpPr>
        <p:grpSp>
          <p:nvGrpSpPr>
            <p:cNvPr id="196" name=""/>
            <p:cNvGrpSpPr/>
            <p:nvPr/>
          </p:nvGrpSpPr>
          <p:grpSpPr>
            <a:xfrm>
              <a:off x="1413000" y="1295280"/>
              <a:ext cx="1512360" cy="1373400"/>
              <a:chOff x="1413000" y="1295280"/>
              <a:chExt cx="1512360" cy="1373400"/>
            </a:xfrm>
          </p:grpSpPr>
          <p:sp>
            <p:nvSpPr>
              <p:cNvPr id="197" name=""/>
              <p:cNvSpPr/>
              <p:nvPr/>
            </p:nvSpPr>
            <p:spPr>
              <a:xfrm>
                <a:off x="1413000" y="1295280"/>
                <a:ext cx="1510560" cy="245520"/>
              </a:xfrm>
              <a:custGeom>
                <a:avLst/>
                <a:gdLst/>
                <a:ahLst/>
                <a:rect l="l" t="t" r="r" b="b"/>
                <a:pathLst>
                  <a:path w="880" h="143">
                    <a:moveTo>
                      <a:pt x="652" y="143"/>
                    </a:moveTo>
                    <a:lnTo>
                      <a:pt x="880" y="0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652" y="143"/>
                    </a:lnTo>
                    <a:close/>
                  </a:path>
                </a:pathLst>
              </a:custGeom>
              <a:solidFill>
                <a:srgbClr val="1684fc"/>
              </a:solidFill>
              <a:ln w="0">
                <a:solidFill>
                  <a:srgbClr val="1684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32240" y="1295280"/>
                <a:ext cx="390960" cy="1371600"/>
              </a:xfrm>
              <a:custGeom>
                <a:avLst/>
                <a:gdLst/>
                <a:ahLst/>
                <a:rect l="l" t="t" r="r" b="b"/>
                <a:pathLst>
                  <a:path w="228" h="799">
                    <a:moveTo>
                      <a:pt x="0" y="799"/>
                    </a:moveTo>
                    <a:lnTo>
                      <a:pt x="228" y="656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0" y="799"/>
                    </a:lnTo>
                    <a:close/>
                  </a:path>
                </a:pathLst>
              </a:custGeom>
              <a:solidFill>
                <a:srgbClr val="0153fe"/>
              </a:solidFill>
              <a:ln w="0">
                <a:solidFill>
                  <a:srgbClr val="0153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13000" y="1540800"/>
                <a:ext cx="1119240" cy="1126080"/>
              </a:xfrm>
              <a:prstGeom prst="rect">
                <a:avLst/>
              </a:prstGeom>
              <a:solidFill>
                <a:srgbClr val="016cfe"/>
              </a:solidFill>
              <a:ln w="0">
                <a:solidFill>
                  <a:srgbClr val="016c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13000" y="266688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32240" y="1540800"/>
                <a:ext cx="1440" cy="11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413000" y="154080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13000" y="1540800"/>
                <a:ext cx="1440" cy="11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32240" y="2421720"/>
                <a:ext cx="390960" cy="2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23560" y="1295280"/>
                <a:ext cx="1800" cy="112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03960" y="129528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413000" y="2421720"/>
                <a:ext cx="390960" cy="245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532240" y="1295280"/>
                <a:ext cx="39096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413000" y="1295280"/>
                <a:ext cx="39096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803960" y="2421720"/>
                <a:ext cx="111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3960" y="1295280"/>
                <a:ext cx="1440" cy="1126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780200" y="262944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87040" y="238212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4360" y="164016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24000" y="2514600"/>
            <a:ext cx="206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And now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505320"/>
            <a:ext cx="281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.. diagonal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152280"/>
            <a:ext cx="295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spac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agonal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of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the c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152280"/>
            <a:ext cx="281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of the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30020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29862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172200" y="1447920"/>
            <a:ext cx="1600200" cy="1526400"/>
            <a:chOff x="6172200" y="1447920"/>
            <a:chExt cx="1600200" cy="1526400"/>
          </a:xfrm>
        </p:grpSpPr>
        <p:sp>
          <p:nvSpPr>
            <p:cNvPr id="222" name=""/>
            <p:cNvSpPr/>
            <p:nvPr/>
          </p:nvSpPr>
          <p:spPr>
            <a:xfrm>
              <a:off x="6172200" y="1447920"/>
              <a:ext cx="1143000" cy="1143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294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5200" y="1752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3809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The d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iagonal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of the square is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_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______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_______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which connects two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___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____________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_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goes through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________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__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of the square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72200" y="1447560"/>
            <a:ext cx="1143000" cy="1143000"/>
            <a:chOff x="6172200" y="1447560"/>
            <a:chExt cx="1143000" cy="1143000"/>
          </a:xfrm>
        </p:grpSpPr>
        <p:sp>
          <p:nvSpPr>
            <p:cNvPr id="227" name=""/>
            <p:cNvSpPr/>
            <p:nvPr/>
          </p:nvSpPr>
          <p:spPr>
            <a:xfrm flipV="1">
              <a:off x="6172200" y="1447560"/>
              <a:ext cx="114300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37440" y="1600200"/>
              <a:ext cx="59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364000" y="37893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the lin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67280" y="414972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erticies of a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45561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the 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5300640"/>
            <a:ext cx="672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What is the name of the line segment which connects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two verticies of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the 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cub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goes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through the 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interior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2929a5"/>
                </a:solidFill>
                <a:latin typeface="Comic Sans MS"/>
              </a:rPr>
              <a:t>of the cube</a:t>
            </a:r>
            <a:r>
              <a:rPr b="0" lang="en-US" sz="2400" spc="-1" strike="noStrike">
                <a:solidFill>
                  <a:srgbClr val="2929a5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413000" y="1295280"/>
            <a:ext cx="2015640" cy="1793880"/>
            <a:chOff x="1413000" y="1295280"/>
            <a:chExt cx="2015640" cy="1793880"/>
          </a:xfrm>
        </p:grpSpPr>
        <p:grpSp>
          <p:nvGrpSpPr>
            <p:cNvPr id="234" name=""/>
            <p:cNvGrpSpPr/>
            <p:nvPr/>
          </p:nvGrpSpPr>
          <p:grpSpPr>
            <a:xfrm>
              <a:off x="1413000" y="1295280"/>
              <a:ext cx="1512360" cy="1373400"/>
              <a:chOff x="1413000" y="1295280"/>
              <a:chExt cx="1512360" cy="1373400"/>
            </a:xfrm>
          </p:grpSpPr>
          <p:sp>
            <p:nvSpPr>
              <p:cNvPr id="235" name=""/>
              <p:cNvSpPr/>
              <p:nvPr/>
            </p:nvSpPr>
            <p:spPr>
              <a:xfrm>
                <a:off x="1413000" y="1295280"/>
                <a:ext cx="1510560" cy="245520"/>
              </a:xfrm>
              <a:custGeom>
                <a:avLst/>
                <a:gdLst/>
                <a:ahLst/>
                <a:rect l="l" t="t" r="r" b="b"/>
                <a:pathLst>
                  <a:path w="880" h="143">
                    <a:moveTo>
                      <a:pt x="652" y="143"/>
                    </a:moveTo>
                    <a:lnTo>
                      <a:pt x="880" y="0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652" y="143"/>
                    </a:lnTo>
                    <a:close/>
                  </a:path>
                </a:pathLst>
              </a:custGeom>
              <a:solidFill>
                <a:srgbClr val="1684fc"/>
              </a:solidFill>
              <a:ln w="0">
                <a:solidFill>
                  <a:srgbClr val="1684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32240" y="1295280"/>
                <a:ext cx="390960" cy="1371600"/>
              </a:xfrm>
              <a:custGeom>
                <a:avLst/>
                <a:gdLst/>
                <a:ahLst/>
                <a:rect l="l" t="t" r="r" b="b"/>
                <a:pathLst>
                  <a:path w="228" h="799">
                    <a:moveTo>
                      <a:pt x="0" y="799"/>
                    </a:moveTo>
                    <a:lnTo>
                      <a:pt x="228" y="656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0" y="799"/>
                    </a:lnTo>
                    <a:close/>
                  </a:path>
                </a:pathLst>
              </a:custGeom>
              <a:solidFill>
                <a:srgbClr val="0153fe"/>
              </a:solidFill>
              <a:ln w="0">
                <a:solidFill>
                  <a:srgbClr val="0153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13000" y="1540800"/>
                <a:ext cx="1119240" cy="1126080"/>
              </a:xfrm>
              <a:prstGeom prst="rect">
                <a:avLst/>
              </a:prstGeom>
              <a:solidFill>
                <a:srgbClr val="016cfe"/>
              </a:solidFill>
              <a:ln w="0">
                <a:solidFill>
                  <a:srgbClr val="016c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3000" y="266688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32240" y="1540800"/>
                <a:ext cx="1440" cy="11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13000" y="154080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13000" y="1540800"/>
                <a:ext cx="1440" cy="11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532240" y="2421720"/>
                <a:ext cx="390960" cy="2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923560" y="1295280"/>
                <a:ext cx="1800" cy="112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03960" y="129528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413000" y="2421720"/>
                <a:ext cx="390960" cy="245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532240" y="1295280"/>
                <a:ext cx="39096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1413000" y="1295280"/>
                <a:ext cx="39096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3960" y="2421720"/>
                <a:ext cx="111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03960" y="1295280"/>
                <a:ext cx="1440" cy="1126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780200" y="262944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87040" y="238212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4360" y="164016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406520" y="1295280"/>
            <a:ext cx="1523880" cy="1371600"/>
            <a:chOff x="1406520" y="1295280"/>
            <a:chExt cx="1523880" cy="1371600"/>
          </a:xfrm>
        </p:grpSpPr>
        <p:sp>
          <p:nvSpPr>
            <p:cNvPr id="254" name=""/>
            <p:cNvSpPr/>
            <p:nvPr/>
          </p:nvSpPr>
          <p:spPr>
            <a:xfrm flipV="1">
              <a:off x="1406520" y="1295280"/>
              <a:ext cx="152388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76440" y="1676520"/>
              <a:ext cx="662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6" name=""/>
          <p:cNvGraphicFramePr/>
          <p:nvPr/>
        </p:nvGraphicFramePr>
        <p:xfrm>
          <a:off x="2209680" y="2911320"/>
          <a:ext cx="1067040" cy="7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11320"/>
                    <a:ext cx="10670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781680" y="2895480"/>
          <a:ext cx="990720" cy="7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2895480"/>
                    <a:ext cx="990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95280" y="30020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29862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172200" y="1447920"/>
            <a:ext cx="1600200" cy="1526400"/>
            <a:chOff x="6172200" y="1447920"/>
            <a:chExt cx="1600200" cy="1526400"/>
          </a:xfrm>
        </p:grpSpPr>
        <p:sp>
          <p:nvSpPr>
            <p:cNvPr id="263" name=""/>
            <p:cNvSpPr/>
            <p:nvPr/>
          </p:nvSpPr>
          <p:spPr>
            <a:xfrm>
              <a:off x="6172200" y="1447920"/>
              <a:ext cx="1143000" cy="1143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94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15200" y="1752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057400" y="38862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analogies between these two formu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13000" y="1295280"/>
            <a:ext cx="2015640" cy="1793880"/>
            <a:chOff x="1413000" y="1295280"/>
            <a:chExt cx="2015640" cy="1793880"/>
          </a:xfrm>
        </p:grpSpPr>
        <p:grpSp>
          <p:nvGrpSpPr>
            <p:cNvPr id="268" name=""/>
            <p:cNvGrpSpPr/>
            <p:nvPr/>
          </p:nvGrpSpPr>
          <p:grpSpPr>
            <a:xfrm>
              <a:off x="1413000" y="1295280"/>
              <a:ext cx="1512360" cy="1373400"/>
              <a:chOff x="1413000" y="1295280"/>
              <a:chExt cx="1512360" cy="1373400"/>
            </a:xfrm>
          </p:grpSpPr>
          <p:sp>
            <p:nvSpPr>
              <p:cNvPr id="269" name=""/>
              <p:cNvSpPr/>
              <p:nvPr/>
            </p:nvSpPr>
            <p:spPr>
              <a:xfrm>
                <a:off x="1413000" y="1295280"/>
                <a:ext cx="1510560" cy="245520"/>
              </a:xfrm>
              <a:custGeom>
                <a:avLst/>
                <a:gdLst/>
                <a:ahLst/>
                <a:rect l="l" t="t" r="r" b="b"/>
                <a:pathLst>
                  <a:path w="880" h="143">
                    <a:moveTo>
                      <a:pt x="652" y="143"/>
                    </a:moveTo>
                    <a:lnTo>
                      <a:pt x="880" y="0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652" y="143"/>
                    </a:lnTo>
                    <a:close/>
                  </a:path>
                </a:pathLst>
              </a:custGeom>
              <a:solidFill>
                <a:srgbClr val="1684fc"/>
              </a:solidFill>
              <a:ln w="0">
                <a:solidFill>
                  <a:srgbClr val="1684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32240" y="1295280"/>
                <a:ext cx="390960" cy="1371600"/>
              </a:xfrm>
              <a:custGeom>
                <a:avLst/>
                <a:gdLst/>
                <a:ahLst/>
                <a:rect l="l" t="t" r="r" b="b"/>
                <a:pathLst>
                  <a:path w="228" h="799">
                    <a:moveTo>
                      <a:pt x="0" y="799"/>
                    </a:moveTo>
                    <a:lnTo>
                      <a:pt x="228" y="656"/>
                    </a:lnTo>
                    <a:lnTo>
                      <a:pt x="228" y="0"/>
                    </a:lnTo>
                    <a:lnTo>
                      <a:pt x="0" y="143"/>
                    </a:lnTo>
                    <a:lnTo>
                      <a:pt x="0" y="799"/>
                    </a:lnTo>
                    <a:close/>
                  </a:path>
                </a:pathLst>
              </a:custGeom>
              <a:solidFill>
                <a:srgbClr val="0153fe"/>
              </a:solidFill>
              <a:ln w="0">
                <a:solidFill>
                  <a:srgbClr val="0153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13000" y="1540800"/>
                <a:ext cx="1119240" cy="1126080"/>
              </a:xfrm>
              <a:prstGeom prst="rect">
                <a:avLst/>
              </a:prstGeom>
              <a:solidFill>
                <a:srgbClr val="016cfe"/>
              </a:solidFill>
              <a:ln w="0">
                <a:solidFill>
                  <a:srgbClr val="016cf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13000" y="266688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32240" y="1540800"/>
                <a:ext cx="1440" cy="11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413000" y="154080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13000" y="1540800"/>
                <a:ext cx="1440" cy="11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532240" y="2421720"/>
                <a:ext cx="390960" cy="2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23560" y="1295280"/>
                <a:ext cx="1800" cy="112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3960" y="129528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1413000" y="2421720"/>
                <a:ext cx="390960" cy="245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532240" y="1295280"/>
                <a:ext cx="39096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413000" y="1295280"/>
                <a:ext cx="39096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03960" y="2421720"/>
                <a:ext cx="111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803960" y="1295280"/>
                <a:ext cx="1440" cy="1126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780200" y="262944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87040" y="238212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34360" y="164016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209680" y="2911320"/>
          <a:ext cx="1067040" cy="7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11320"/>
                    <a:ext cx="10670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781680" y="2895480"/>
          <a:ext cx="990720" cy="7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2895480"/>
                    <a:ext cx="990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6172200" y="1447560"/>
            <a:ext cx="1143000" cy="1143000"/>
            <a:chOff x="6172200" y="1447560"/>
            <a:chExt cx="1143000" cy="1143000"/>
          </a:xfrm>
        </p:grpSpPr>
        <p:sp>
          <p:nvSpPr>
            <p:cNvPr id="292" name=""/>
            <p:cNvSpPr/>
            <p:nvPr/>
          </p:nvSpPr>
          <p:spPr>
            <a:xfrm flipV="1">
              <a:off x="6172200" y="1447560"/>
              <a:ext cx="114300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7440" y="1600200"/>
              <a:ext cx="59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406520" y="1295280"/>
            <a:ext cx="1523880" cy="1371600"/>
            <a:chOff x="1406520" y="1295280"/>
            <a:chExt cx="1523880" cy="1371600"/>
          </a:xfrm>
        </p:grpSpPr>
        <p:sp>
          <p:nvSpPr>
            <p:cNvPr id="295" name=""/>
            <p:cNvSpPr/>
            <p:nvPr/>
          </p:nvSpPr>
          <p:spPr>
            <a:xfrm flipV="1">
              <a:off x="1406520" y="1295280"/>
              <a:ext cx="152388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76440" y="1676520"/>
              <a:ext cx="662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55640" y="152280"/>
            <a:ext cx="295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spac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agonal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of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the c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152280"/>
            <a:ext cx="281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of the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47640" y="5029200"/>
            <a:ext cx="58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an you see from these formulas how many dimensions the cube/square h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905120" y="24382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uby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, </a:t>
            </a: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cuby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327672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a5"/>
                </a:solidFill>
                <a:latin typeface="Comic Sans MS"/>
              </a:rPr>
              <a:t>elongate a little</a:t>
            </a:r>
            <a:r>
              <a:rPr b="0" lang="en-US" sz="2800" spc="-1" strike="noStrike">
                <a:solidFill>
                  <a:srgbClr val="2929a5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53:16Z</dcterms:created>
  <dc:creator>Slavko</dc:creator>
  <dc:description/>
  <dc:language>en-US</dc:language>
  <cp:lastModifiedBy>Antonija</cp:lastModifiedBy>
  <dcterms:modified xsi:type="dcterms:W3CDTF">2007-01-09T16:57:41Z</dcterms:modified>
  <cp:revision>215</cp:revision>
  <dc:subject/>
  <dc:title>Analogija između (nekih) formula</dc:title>
</cp:coreProperties>
</file>