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92DF-B322-4F51-8398-85BCE894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C250-479C-4591-8546-135719B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24EF-2DE9-4816-8881-B57D7E06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E652-6E8E-4B67-95A0-2D7CE43A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CC1-2FD8-4A14-8DDD-086B6A85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E746-3AF6-4823-B5B3-867C59D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519-BB48-4DA3-AF4B-35DD9E9F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02B-BFFD-457D-BC2C-389A6ABD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FC64-8B26-418A-8E43-F736633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BA60-ACE7-455C-810F-09C123E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3117-1539-4EFA-8A50-FAF8803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28CC-A605-4D05-86E9-27F574E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FDC-265F-4FDE-8ECB-41029B6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274C-A126-4AD1-87AB-B64AD47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74A-E610-4273-8C0B-B3F6794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14A6-D6FE-450B-B9BE-59D0562F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E5E-A0BE-433A-962F-A19E00E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F42A-DB29-42EF-A1E6-1CF25B1E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281B-E76D-496C-864C-0DF46C4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9022-E05B-4C6E-9B6F-D80BDB21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EE98-7F4B-425D-A2AE-C7045CF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5B6D-DCE1-4A6D-90DB-C647CE8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637B-F8A9-4B5B-8CA8-AF5AA34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495C-4FAC-4060-959B-E2BF069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2A5F-5160-451E-868F-40A280CA6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1E3F-96D9-497B-B579-1274D36F3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hyperlink" Target="http://public.carnet.hr/~ahorvate" TargetMode="External"/><Relationship Id="rId3" Type="http://schemas.openxmlformats.org/officeDocument/2006/relationships/hyperlink" Target="http://public.carnet.hr/~ahorvate" TargetMode="External"/><Relationship Id="rId4" Type="http://schemas.openxmlformats.org/officeDocument/2006/relationships/hyperlink" Target="http://public.carnet.hr/~ahorvate" TargetMode="External"/><Relationship Id="rId5" Type="http://schemas.openxmlformats.org/officeDocument/2006/relationships/hyperlink" Target="http://public.carnet.hr/~ahorvate" TargetMode="External"/><Relationship Id="rId6" Type="http://schemas.openxmlformats.org/officeDocument/2006/relationships/hyperlink" Target="http://public.carnet.hr/~ahorvate" TargetMode="External"/><Relationship Id="rId7" Type="http://schemas.openxmlformats.org/officeDocument/2006/relationships/hyperlink" Target="mailto:ahorvatek@yahoo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280" y="1736640"/>
            <a:ext cx="88934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e5e5ff"/>
                </a:solidFill>
                <a:latin typeface="Garamond"/>
              </a:rPr>
              <a:t>Introduction - Probabil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0800" y="189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9680" y="62064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do you think - is it more probable to choose red or blue marbl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(if we mix marbles before choosing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7440" y="1316160"/>
            <a:ext cx="3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71640" y="1339920"/>
            <a:ext cx="711000" cy="1201680"/>
            <a:chOff x="971640" y="1339920"/>
            <a:chExt cx="711000" cy="120168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971640" y="1339920"/>
              <a:ext cx="711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177920" y="2347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23479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83240" y="1498680"/>
            <a:ext cx="16164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The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probabili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are equ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25520" y="149688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7800" y="210816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7080" y="2706840"/>
            <a:ext cx="409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2640" y="2889360"/>
            <a:ext cx="16164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The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probabili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are equ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25520" y="288756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7800" y="349884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440" y="4160880"/>
            <a:ext cx="3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7120" y="4343400"/>
            <a:ext cx="16164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The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probabili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are equ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25520" y="434196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7800" y="495288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2730600"/>
            <a:ext cx="711000" cy="1201680"/>
            <a:chOff x="971640" y="2730600"/>
            <a:chExt cx="711000" cy="120168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971640" y="2730600"/>
              <a:ext cx="711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163520" y="37386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08240" y="37386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43080" y="36036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9080" y="369252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71640" y="4292640"/>
            <a:ext cx="711000" cy="1201680"/>
            <a:chOff x="971640" y="4292640"/>
            <a:chExt cx="711000" cy="120168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971640" y="4292640"/>
              <a:ext cx="711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63520" y="530064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08240" y="530064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43080" y="5166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59080" y="525456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8040" y="511668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58760" y="518796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108240" y="5624640"/>
            <a:ext cx="34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bc02"/>
                </a:solidFill>
                <a:latin typeface="Arial"/>
              </a:rPr>
              <a:t>half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of the marbles are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69880" y="620064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bc02"/>
                </a:solidFill>
                <a:latin typeface="Arial"/>
              </a:rPr>
              <a:t>half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of the marbles are  bl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113080" y="1268280"/>
            <a:ext cx="464040" cy="808200"/>
            <a:chOff x="5113080" y="1268280"/>
            <a:chExt cx="464040" cy="808200"/>
          </a:xfrm>
        </p:grpSpPr>
        <p:sp>
          <p:nvSpPr>
            <p:cNvPr id="251" name=""/>
            <p:cNvSpPr/>
            <p:nvPr/>
          </p:nvSpPr>
          <p:spPr>
            <a:xfrm>
              <a:off x="5182920" y="126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2920" y="167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3080" y="1344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28720" y="1901880"/>
            <a:ext cx="464040" cy="808200"/>
            <a:chOff x="5328720" y="1901880"/>
            <a:chExt cx="464040" cy="808200"/>
          </a:xfrm>
        </p:grpSpPr>
        <p:sp>
          <p:nvSpPr>
            <p:cNvPr id="255" name=""/>
            <p:cNvSpPr/>
            <p:nvPr/>
          </p:nvSpPr>
          <p:spPr>
            <a:xfrm>
              <a:off x="5398200" y="1901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8200" y="231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28720" y="197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293800" y="4724280"/>
            <a:ext cx="464040" cy="808200"/>
            <a:chOff x="5293800" y="4724280"/>
            <a:chExt cx="464040" cy="808200"/>
          </a:xfrm>
        </p:grpSpPr>
        <p:sp>
          <p:nvSpPr>
            <p:cNvPr id="259" name=""/>
            <p:cNvSpPr/>
            <p:nvPr/>
          </p:nvSpPr>
          <p:spPr>
            <a:xfrm>
              <a:off x="5363280" y="4724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63280" y="5133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3800" y="4800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078160" y="4135320"/>
            <a:ext cx="464040" cy="808200"/>
            <a:chOff x="5078160" y="4135320"/>
            <a:chExt cx="464040" cy="808200"/>
          </a:xfrm>
        </p:grpSpPr>
        <p:sp>
          <p:nvSpPr>
            <p:cNvPr id="263" name=""/>
            <p:cNvSpPr/>
            <p:nvPr/>
          </p:nvSpPr>
          <p:spPr>
            <a:xfrm>
              <a:off x="5148000" y="4135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48000" y="454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8160" y="4211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328720" y="3284640"/>
            <a:ext cx="464040" cy="808200"/>
            <a:chOff x="5328720" y="3284640"/>
            <a:chExt cx="464040" cy="808200"/>
          </a:xfrm>
        </p:grpSpPr>
        <p:sp>
          <p:nvSpPr>
            <p:cNvPr id="267" name=""/>
            <p:cNvSpPr/>
            <p:nvPr/>
          </p:nvSpPr>
          <p:spPr>
            <a:xfrm>
              <a:off x="5398200" y="328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98200" y="3693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28720" y="336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113080" y="2637000"/>
            <a:ext cx="464040" cy="808200"/>
            <a:chOff x="5113080" y="2637000"/>
            <a:chExt cx="464040" cy="808200"/>
          </a:xfrm>
        </p:grpSpPr>
        <p:sp>
          <p:nvSpPr>
            <p:cNvPr id="271" name=""/>
            <p:cNvSpPr/>
            <p:nvPr/>
          </p:nvSpPr>
          <p:spPr>
            <a:xfrm>
              <a:off x="5182920" y="26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82920" y="304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13080" y="2712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2200" y="5430960"/>
            <a:ext cx="2719080" cy="808200"/>
            <a:chOff x="412200" y="5430960"/>
            <a:chExt cx="2719080" cy="808200"/>
          </a:xfrm>
        </p:grpSpPr>
        <p:sp>
          <p:nvSpPr>
            <p:cNvPr id="275" name=""/>
            <p:cNvSpPr/>
            <p:nvPr/>
          </p:nvSpPr>
          <p:spPr>
            <a:xfrm>
              <a:off x="412200" y="562464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(red)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1040" y="56246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becau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499760" y="5430960"/>
              <a:ext cx="464040" cy="808200"/>
              <a:chOff x="1499760" y="5430960"/>
              <a:chExt cx="464040" cy="808200"/>
            </a:xfrm>
          </p:grpSpPr>
          <p:sp>
            <p:nvSpPr>
              <p:cNvPr id="278" name=""/>
              <p:cNvSpPr/>
              <p:nvPr/>
            </p:nvSpPr>
            <p:spPr>
              <a:xfrm>
                <a:off x="1569240" y="543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69240" y="584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99760" y="55069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394920" y="6021360"/>
            <a:ext cx="2930040" cy="808200"/>
            <a:chOff x="394920" y="6021360"/>
            <a:chExt cx="2930040" cy="808200"/>
          </a:xfrm>
        </p:grpSpPr>
        <p:sp>
          <p:nvSpPr>
            <p:cNvPr id="282" name=""/>
            <p:cNvSpPr/>
            <p:nvPr/>
          </p:nvSpPr>
          <p:spPr>
            <a:xfrm>
              <a:off x="394920" y="621504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(blue)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720" y="62150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becau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693440" y="6021360"/>
              <a:ext cx="464040" cy="808200"/>
              <a:chOff x="1693440" y="6021360"/>
              <a:chExt cx="464040" cy="808200"/>
            </a:xfrm>
          </p:grpSpPr>
          <p:sp>
            <p:nvSpPr>
              <p:cNvPr id="285" name=""/>
              <p:cNvSpPr/>
              <p:nvPr/>
            </p:nvSpPr>
            <p:spPr>
              <a:xfrm>
                <a:off x="1762920" y="6021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2920" y="6430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93440" y="60973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cc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41640" y="5430960"/>
            <a:ext cx="4084200" cy="808200"/>
            <a:chOff x="341640" y="5430960"/>
            <a:chExt cx="4084200" cy="808200"/>
          </a:xfrm>
        </p:grpSpPr>
        <p:sp>
          <p:nvSpPr>
            <p:cNvPr id="289" name=""/>
            <p:cNvSpPr/>
            <p:nvPr/>
          </p:nvSpPr>
          <p:spPr>
            <a:xfrm>
              <a:off x="341640" y="561060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Why are these probabili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9600" y="5610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657240" y="5430960"/>
              <a:ext cx="464040" cy="808200"/>
              <a:chOff x="3657240" y="5430960"/>
              <a:chExt cx="464040" cy="808200"/>
            </a:xfrm>
          </p:grpSpPr>
          <p:sp>
            <p:nvSpPr>
              <p:cNvPr id="292" name=""/>
              <p:cNvSpPr/>
              <p:nvPr/>
            </p:nvSpPr>
            <p:spPr>
              <a:xfrm>
                <a:off x="3726720" y="543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26720" y="584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57240" y="55069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ffff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88800" y="553392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hy is P(red) = P(blue) in all these examp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800" y="5967360"/>
            <a:ext cx="77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Because in each 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the number of red marbles </a:t>
            </a:r>
            <a:r>
              <a:rPr b="1" lang="hr-HR" sz="2000" spc="-1" strike="noStrike" u="sng">
                <a:solidFill>
                  <a:srgbClr val="ffcc00"/>
                </a:solidFill>
                <a:uFillTx/>
                <a:latin typeface="Arial"/>
              </a:rPr>
              <a:t>equals</a:t>
            </a: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 the number of blue mar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9160" y="18900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2720" y="816120"/>
            <a:ext cx="42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6920" y="32050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P(red) = P(blue) = P(green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428720" y="2997360"/>
            <a:ext cx="464040" cy="808200"/>
            <a:chOff x="4428720" y="2997360"/>
            <a:chExt cx="464040" cy="808200"/>
          </a:xfrm>
        </p:grpSpPr>
        <p:sp>
          <p:nvSpPr>
            <p:cNvPr id="301" name=""/>
            <p:cNvSpPr/>
            <p:nvPr/>
          </p:nvSpPr>
          <p:spPr>
            <a:xfrm>
              <a:off x="4498200" y="2997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8200" y="340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28720" y="3073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187280" y="151776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red) = P(blue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211640" y="620640"/>
            <a:ext cx="431640" cy="720720"/>
            <a:chOff x="4211640" y="620640"/>
            <a:chExt cx="431640" cy="72072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4211640" y="620640"/>
              <a:ext cx="4316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332960" y="1194480"/>
              <a:ext cx="121320" cy="120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54640" y="1194480"/>
              <a:ext cx="121680" cy="120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421840" y="1989000"/>
            <a:ext cx="469800" cy="793800"/>
            <a:chOff x="8421840" y="1989000"/>
            <a:chExt cx="469800" cy="79380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8421840" y="1989000"/>
              <a:ext cx="4698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553960" y="2620800"/>
              <a:ext cx="132120" cy="13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86440" y="2620800"/>
              <a:ext cx="132480" cy="132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04720" y="2504520"/>
              <a:ext cx="132480" cy="13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979640" y="4076640"/>
            <a:ext cx="431640" cy="722520"/>
            <a:chOff x="1979640" y="4076640"/>
            <a:chExt cx="431640" cy="722520"/>
          </a:xfrm>
        </p:grpSpPr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1979640" y="4076640"/>
              <a:ext cx="43164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100960" y="4651920"/>
              <a:ext cx="121680" cy="120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22640" y="4651920"/>
              <a:ext cx="121320" cy="120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47760" y="4545720"/>
              <a:ext cx="121320" cy="120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8800" y="4557960"/>
              <a:ext cx="121320" cy="120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82560" y="83664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e concluded that in the c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16720" y="836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e hav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276360" y="1327320"/>
            <a:ext cx="464040" cy="808200"/>
            <a:chOff x="3276360" y="1327320"/>
            <a:chExt cx="464040" cy="808200"/>
          </a:xfrm>
        </p:grpSpPr>
        <p:sp>
          <p:nvSpPr>
            <p:cNvPr id="323" name=""/>
            <p:cNvSpPr/>
            <p:nvPr/>
          </p:nvSpPr>
          <p:spPr>
            <a:xfrm>
              <a:off x="3346200" y="1327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46200" y="173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6360" y="1403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81080" y="2255760"/>
            <a:ext cx="42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0200" y="2276640"/>
            <a:ext cx="75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ich marble has the greatest probability to be chosen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5480" y="499104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P(red) = P(blue) = P(green) = P(yellow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5800" y="4782960"/>
            <a:ext cx="464040" cy="808200"/>
            <a:chOff x="5725800" y="4782960"/>
            <a:chExt cx="464040" cy="808200"/>
          </a:xfrm>
        </p:grpSpPr>
        <p:sp>
          <p:nvSpPr>
            <p:cNvPr id="330" name=""/>
            <p:cNvSpPr/>
            <p:nvPr/>
          </p:nvSpPr>
          <p:spPr>
            <a:xfrm>
              <a:off x="579564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5640" y="51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25800" y="4858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81080" y="4129200"/>
            <a:ext cx="42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3080" y="4149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nd 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3160" y="2654280"/>
            <a:ext cx="39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if we mix all marbles before choos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02080" y="3251160"/>
            <a:ext cx="390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because </a:t>
            </a:r>
            <a:r>
              <a:rPr b="1" lang="hr-HR" sz="1600" spc="-1" strike="noStrike">
                <a:solidFill>
                  <a:srgbClr val="febc02"/>
                </a:solidFill>
                <a:latin typeface="Arial"/>
              </a:rPr>
              <a:t>one third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of marbles are re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ebc02"/>
                </a:solidFill>
                <a:latin typeface="Arial"/>
              </a:rPr>
              <a:t>one third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are blue 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one third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are gree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8480" y="4979880"/>
            <a:ext cx="25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because </a:t>
            </a:r>
            <a:r>
              <a:rPr b="1" lang="hr-HR" sz="1600" spc="-1" strike="noStrike">
                <a:solidFill>
                  <a:srgbClr val="febc02"/>
                </a:solidFill>
                <a:latin typeface="Arial"/>
              </a:rPr>
              <a:t>one quarter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marbles are re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ebc02"/>
                </a:solidFill>
                <a:latin typeface="Arial"/>
              </a:rPr>
              <a:t>one quarter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are blue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95280" y="5157720"/>
            <a:ext cx="6985080" cy="14400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800" y="2602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680" y="692280"/>
            <a:ext cx="87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Let's compare the next two cases and find the probabilities that we looked f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6160" y="1125360"/>
            <a:ext cx="3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66520" y="139068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00000" y="1270080"/>
            <a:ext cx="512640" cy="865080"/>
            <a:chOff x="900000" y="1270080"/>
            <a:chExt cx="512640" cy="86508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900000" y="1270080"/>
              <a:ext cx="5126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044360" y="19587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88720" y="195876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99800" y="1832040"/>
              <a:ext cx="14472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917440" y="1165320"/>
            <a:ext cx="464040" cy="808200"/>
            <a:chOff x="2917440" y="1165320"/>
            <a:chExt cx="464040" cy="808200"/>
          </a:xfrm>
        </p:grpSpPr>
        <p:sp>
          <p:nvSpPr>
            <p:cNvPr id="349" name=""/>
            <p:cNvSpPr/>
            <p:nvPr/>
          </p:nvSpPr>
          <p:spPr>
            <a:xfrm>
              <a:off x="2986920" y="1165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86920" y="157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17440" y="1241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573800" y="1125360"/>
            <a:ext cx="409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4520" y="139068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48360" y="1270080"/>
            <a:ext cx="512640" cy="865080"/>
            <a:chOff x="5148360" y="1270080"/>
            <a:chExt cx="512640" cy="86508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5148360" y="1270080"/>
              <a:ext cx="5126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292720" y="19587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37080" y="195876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48160" y="183204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165800" y="1157400"/>
            <a:ext cx="464040" cy="808200"/>
            <a:chOff x="7165800" y="1157400"/>
            <a:chExt cx="464040" cy="808200"/>
          </a:xfrm>
        </p:grpSpPr>
        <p:sp>
          <p:nvSpPr>
            <p:cNvPr id="360" name=""/>
            <p:cNvSpPr/>
            <p:nvPr/>
          </p:nvSpPr>
          <p:spPr>
            <a:xfrm>
              <a:off x="7235640" y="1157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35640" y="156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65800" y="123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26160" y="2687760"/>
            <a:ext cx="3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6520" y="283068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82520" y="2637000"/>
            <a:ext cx="464040" cy="808200"/>
            <a:chOff x="2882520" y="2637000"/>
            <a:chExt cx="464040" cy="808200"/>
          </a:xfrm>
        </p:grpSpPr>
        <p:sp>
          <p:nvSpPr>
            <p:cNvPr id="366" name=""/>
            <p:cNvSpPr/>
            <p:nvPr/>
          </p:nvSpPr>
          <p:spPr>
            <a:xfrm>
              <a:off x="2952000" y="26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52000" y="304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82520" y="2712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00000" y="2852640"/>
            <a:ext cx="513000" cy="865080"/>
            <a:chOff x="900000" y="2852640"/>
            <a:chExt cx="513000" cy="86508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900000" y="2852640"/>
              <a:ext cx="513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044360" y="354168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89080" y="354168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00160" y="341460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4920" y="34290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765800" y="360828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989080" y="3414600"/>
            <a:ext cx="464040" cy="808200"/>
            <a:chOff x="2989080" y="3414600"/>
            <a:chExt cx="464040" cy="808200"/>
          </a:xfrm>
        </p:grpSpPr>
        <p:sp>
          <p:nvSpPr>
            <p:cNvPr id="377" name=""/>
            <p:cNvSpPr/>
            <p:nvPr/>
          </p:nvSpPr>
          <p:spPr>
            <a:xfrm>
              <a:off x="3058920" y="3414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8920" y="3823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89080" y="349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766880" y="4400640"/>
            <a:ext cx="143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133080" y="4191120"/>
            <a:ext cx="464040" cy="808560"/>
            <a:chOff x="3133080" y="4191120"/>
            <a:chExt cx="464040" cy="808560"/>
          </a:xfrm>
        </p:grpSpPr>
        <p:sp>
          <p:nvSpPr>
            <p:cNvPr id="382" name=""/>
            <p:cNvSpPr/>
            <p:nvPr/>
          </p:nvSpPr>
          <p:spPr>
            <a:xfrm>
              <a:off x="320328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03280" y="4600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33080" y="4267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645080" y="2781360"/>
            <a:ext cx="409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5440" y="456552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pink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310160" y="4365720"/>
            <a:ext cx="464040" cy="808200"/>
            <a:chOff x="7310160" y="4365720"/>
            <a:chExt cx="464040" cy="808200"/>
          </a:xfrm>
        </p:grpSpPr>
        <p:sp>
          <p:nvSpPr>
            <p:cNvPr id="388" name=""/>
            <p:cNvSpPr/>
            <p:nvPr/>
          </p:nvSpPr>
          <p:spPr>
            <a:xfrm>
              <a:off x="7399080" y="43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99080" y="47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0160" y="4441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087600" y="299736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310160" y="2803680"/>
            <a:ext cx="464040" cy="808200"/>
            <a:chOff x="7310160" y="2803680"/>
            <a:chExt cx="464040" cy="808200"/>
          </a:xfrm>
        </p:grpSpPr>
        <p:sp>
          <p:nvSpPr>
            <p:cNvPr id="393" name=""/>
            <p:cNvSpPr/>
            <p:nvPr/>
          </p:nvSpPr>
          <p:spPr>
            <a:xfrm>
              <a:off x="7380000" y="2803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0000" y="3213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0160" y="2879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085800" y="3789360"/>
            <a:ext cx="1514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yellow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97440" y="3595680"/>
            <a:ext cx="464040" cy="808560"/>
            <a:chOff x="7597440" y="3595680"/>
            <a:chExt cx="464040" cy="808560"/>
          </a:xfrm>
        </p:grpSpPr>
        <p:sp>
          <p:nvSpPr>
            <p:cNvPr id="398" name=""/>
            <p:cNvSpPr/>
            <p:nvPr/>
          </p:nvSpPr>
          <p:spPr>
            <a:xfrm>
              <a:off x="7667640" y="359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67640" y="4005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97440" y="3672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219640" y="2946240"/>
            <a:ext cx="513000" cy="865080"/>
            <a:chOff x="5219640" y="2946240"/>
            <a:chExt cx="513000" cy="865080"/>
          </a:xfrm>
        </p:grpSpPr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5219640" y="2946240"/>
              <a:ext cx="513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364000" y="363528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720" y="3635280"/>
              <a:ext cx="14436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9800" y="35082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54560" y="35226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96040" y="3267000"/>
              <a:ext cx="144360" cy="1443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64160" y="350676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91080" y="3378240"/>
              <a:ext cx="144720" cy="1443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22960" y="3394080"/>
              <a:ext cx="144360" cy="1443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030160" y="379584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8354520" y="3573360"/>
            <a:ext cx="464040" cy="808560"/>
            <a:chOff x="8354520" y="3573360"/>
            <a:chExt cx="464040" cy="808560"/>
          </a:xfrm>
        </p:grpSpPr>
        <p:sp>
          <p:nvSpPr>
            <p:cNvPr id="413" name=""/>
            <p:cNvSpPr/>
            <p:nvPr/>
          </p:nvSpPr>
          <p:spPr>
            <a:xfrm>
              <a:off x="842472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24720" y="398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54520" y="3649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96880" y="5229360"/>
            <a:ext cx="1360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Generally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1800" y="5856120"/>
            <a:ext cx="1995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P(some color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42320" y="5734080"/>
            <a:ext cx="4606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4680" y="5672160"/>
            <a:ext cx="4244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the number of marbles of </a:t>
            </a: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tha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col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88640" y="6072120"/>
            <a:ext cx="326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total number of </a:t>
            </a:r>
            <a:r>
              <a:rPr b="1" lang="hr-HR" sz="1900" spc="-1" strike="noStrike">
                <a:solidFill>
                  <a:srgbClr val="febc02"/>
                </a:solidFill>
                <a:latin typeface="Arial"/>
              </a:rPr>
              <a:t>all 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marbl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91360" y="439884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889080" y="4192560"/>
            <a:ext cx="464040" cy="808200"/>
            <a:chOff x="3889080" y="4192560"/>
            <a:chExt cx="464040" cy="808200"/>
          </a:xfrm>
        </p:grpSpPr>
        <p:sp>
          <p:nvSpPr>
            <p:cNvPr id="423" name=""/>
            <p:cNvSpPr/>
            <p:nvPr/>
          </p:nvSpPr>
          <p:spPr>
            <a:xfrm>
              <a:off x="3958920" y="419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58920" y="4601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89080" y="42685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767240" y="2095560"/>
            <a:ext cx="2526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 P(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250880" y="1901880"/>
            <a:ext cx="464040" cy="808200"/>
            <a:chOff x="4250880" y="1901880"/>
            <a:chExt cx="464040" cy="808200"/>
          </a:xfrm>
        </p:grpSpPr>
        <p:sp>
          <p:nvSpPr>
            <p:cNvPr id="428" name=""/>
            <p:cNvSpPr/>
            <p:nvPr/>
          </p:nvSpPr>
          <p:spPr>
            <a:xfrm>
              <a:off x="4320360" y="1901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20360" y="231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0880" y="197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014160" y="210996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310160" y="1901880"/>
            <a:ext cx="464040" cy="808200"/>
            <a:chOff x="7310160" y="1901880"/>
            <a:chExt cx="464040" cy="808200"/>
          </a:xfrm>
        </p:grpSpPr>
        <p:sp>
          <p:nvSpPr>
            <p:cNvPr id="433" name=""/>
            <p:cNvSpPr/>
            <p:nvPr/>
          </p:nvSpPr>
          <p:spPr>
            <a:xfrm>
              <a:off x="7380000" y="1901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80000" y="231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0160" y="197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765440" y="2095560"/>
            <a:ext cx="134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060360" y="1901880"/>
            <a:ext cx="464040" cy="808200"/>
            <a:chOff x="3060360" y="1901880"/>
            <a:chExt cx="464040" cy="808200"/>
          </a:xfrm>
        </p:grpSpPr>
        <p:sp>
          <p:nvSpPr>
            <p:cNvPr id="438" name=""/>
            <p:cNvSpPr/>
            <p:nvPr/>
          </p:nvSpPr>
          <p:spPr>
            <a:xfrm>
              <a:off x="3129840" y="1901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29840" y="231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60360" y="197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766880" y="2744640"/>
            <a:ext cx="143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242880" y="2550960"/>
            <a:ext cx="464040" cy="808200"/>
            <a:chOff x="3242880" y="2550960"/>
            <a:chExt cx="464040" cy="808200"/>
          </a:xfrm>
        </p:grpSpPr>
        <p:sp>
          <p:nvSpPr>
            <p:cNvPr id="443" name=""/>
            <p:cNvSpPr/>
            <p:nvPr/>
          </p:nvSpPr>
          <p:spPr>
            <a:xfrm>
              <a:off x="3312360" y="2550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12360" y="296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2880" y="262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6243120" y="3135240"/>
            <a:ext cx="28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How many times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P(blue) greater than P(red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96360" y="2781360"/>
            <a:ext cx="0" cy="36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21136800">
            <a:off x="7162920" y="1052640"/>
            <a:ext cx="649080" cy="170820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49400" y="3135240"/>
            <a:ext cx="24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Have you expected it 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Look at the picture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86240" y="5661000"/>
            <a:ext cx="32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6093000"/>
            <a:ext cx="32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74280" y="447516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half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the mar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gree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618080" y="135000"/>
            <a:ext cx="2259000" cy="1422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18600" y="2602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5080" y="75888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here are many fishes in the aquari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720" y="119700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aughty cat Garfild tries to catch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360" y="162864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ll the fishes can swim equally f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5080" y="30891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red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404360" y="2894040"/>
            <a:ext cx="605880" cy="808200"/>
            <a:chOff x="1404360" y="2894040"/>
            <a:chExt cx="605880" cy="808200"/>
          </a:xfrm>
        </p:grpSpPr>
        <p:sp>
          <p:nvSpPr>
            <p:cNvPr id="460" name=""/>
            <p:cNvSpPr/>
            <p:nvPr/>
          </p:nvSpPr>
          <p:spPr>
            <a:xfrm>
              <a:off x="1545840" y="289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6000" y="330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4360" y="2970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980360" y="311004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304720" y="2894040"/>
            <a:ext cx="464040" cy="808560"/>
            <a:chOff x="2304720" y="2894040"/>
            <a:chExt cx="464040" cy="808560"/>
          </a:xfrm>
        </p:grpSpPr>
        <p:sp>
          <p:nvSpPr>
            <p:cNvPr id="465" name=""/>
            <p:cNvSpPr/>
            <p:nvPr/>
          </p:nvSpPr>
          <p:spPr>
            <a:xfrm>
              <a:off x="2374920" y="289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74920" y="330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4720" y="297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24000" y="4025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gold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477440" y="3830760"/>
            <a:ext cx="605880" cy="808200"/>
            <a:chOff x="1477440" y="3830760"/>
            <a:chExt cx="605880" cy="808200"/>
          </a:xfrm>
        </p:grpSpPr>
        <p:sp>
          <p:nvSpPr>
            <p:cNvPr id="470" name=""/>
            <p:cNvSpPr/>
            <p:nvPr/>
          </p:nvSpPr>
          <p:spPr>
            <a:xfrm>
              <a:off x="1618920" y="3830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49080" y="4240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77440" y="39067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3080" y="404640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377440" y="3830760"/>
            <a:ext cx="464040" cy="808560"/>
            <a:chOff x="2377440" y="3830760"/>
            <a:chExt cx="464040" cy="808560"/>
          </a:xfrm>
        </p:grpSpPr>
        <p:sp>
          <p:nvSpPr>
            <p:cNvPr id="475" name=""/>
            <p:cNvSpPr/>
            <p:nvPr/>
          </p:nvSpPr>
          <p:spPr>
            <a:xfrm>
              <a:off x="2447640" y="3830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47640" y="4240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77440" y="3907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25080" y="592920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barred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764720" y="5718240"/>
            <a:ext cx="605880" cy="808200"/>
            <a:chOff x="1764720" y="5718240"/>
            <a:chExt cx="605880" cy="808200"/>
          </a:xfrm>
        </p:grpSpPr>
        <p:sp>
          <p:nvSpPr>
            <p:cNvPr id="480" name=""/>
            <p:cNvSpPr/>
            <p:nvPr/>
          </p:nvSpPr>
          <p:spPr>
            <a:xfrm>
              <a:off x="1906200" y="5718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6360" y="6127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64720" y="5794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24360" y="49942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violet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93440" y="4782960"/>
            <a:ext cx="605880" cy="808200"/>
            <a:chOff x="1693440" y="4782960"/>
            <a:chExt cx="605880" cy="808200"/>
          </a:xfrm>
        </p:grpSpPr>
        <p:sp>
          <p:nvSpPr>
            <p:cNvPr id="485" name=""/>
            <p:cNvSpPr/>
            <p:nvPr/>
          </p:nvSpPr>
          <p:spPr>
            <a:xfrm>
              <a:off x="183492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65080" y="5192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93440" y="4858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21120" y="200808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Garfild wi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first cat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73080" y="2997360"/>
            <a:ext cx="40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s there another possib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xcept the one already mentio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36511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No, it isn'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1640" y="4135320"/>
            <a:ext cx="36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dd all calculated probabiliti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can you concl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3440" y="47894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The sum equals exactly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15000" y="5372280"/>
            <a:ext cx="34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When we add probabilitie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all possible 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which exclude each ot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we get </a:t>
            </a: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exactly number 1 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3280" y="5329080"/>
            <a:ext cx="3745080" cy="1339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219640" y="961920"/>
            <a:ext cx="3745080" cy="1438200"/>
            <a:chOff x="5219640" y="961920"/>
            <a:chExt cx="3745080" cy="1438200"/>
          </a:xfrm>
        </p:grpSpPr>
        <p:grpSp>
          <p:nvGrpSpPr>
            <p:cNvPr id="496" name=""/>
            <p:cNvGrpSpPr/>
            <p:nvPr/>
          </p:nvGrpSpPr>
          <p:grpSpPr>
            <a:xfrm>
              <a:off x="5219640" y="961920"/>
              <a:ext cx="3745080" cy="1438200"/>
              <a:chOff x="5219640" y="961920"/>
              <a:chExt cx="3745080" cy="1438200"/>
            </a:xfrm>
          </p:grpSpPr>
          <p:sp>
            <p:nvSpPr>
              <p:cNvPr id="497" name=""/>
              <p:cNvSpPr/>
              <p:nvPr/>
            </p:nvSpPr>
            <p:spPr>
              <a:xfrm>
                <a:off x="5219640" y="1068480"/>
                <a:ext cx="3745080" cy="1331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219640" y="961920"/>
                <a:ext cx="0" cy="10656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8964720" y="961920"/>
                <a:ext cx="0" cy="10656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5454720" y="1281240"/>
              <a:ext cx="46332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7039080" y="1441440"/>
              <a:ext cx="46332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4"/>
            <a:stretch/>
          </p:blipFill>
          <p:spPr>
            <a:xfrm>
              <a:off x="5979960" y="1373040"/>
              <a:ext cx="702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5"/>
            <a:stretch/>
          </p:blipFill>
          <p:spPr>
            <a:xfrm>
              <a:off x="8029440" y="1495440"/>
              <a:ext cx="75888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6"/>
            <a:stretch/>
          </p:blipFill>
          <p:spPr>
            <a:xfrm>
              <a:off x="7677000" y="1814400"/>
              <a:ext cx="4795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7"/>
            <a:stretch/>
          </p:blipFill>
          <p:spPr>
            <a:xfrm>
              <a:off x="5629320" y="1868400"/>
              <a:ext cx="65232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8"/>
            <a:stretch/>
          </p:blipFill>
          <p:spPr>
            <a:xfrm rot="688800">
              <a:off x="8326440" y="1920600"/>
              <a:ext cx="46188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9"/>
            <a:stretch/>
          </p:blipFill>
          <p:spPr>
            <a:xfrm>
              <a:off x="7596360" y="1268280"/>
              <a:ext cx="3412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10"/>
            <a:stretch/>
          </p:blipFill>
          <p:spPr>
            <a:xfrm rot="20034000">
              <a:off x="6768720" y="1922400"/>
              <a:ext cx="34128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6627960" y="1812960"/>
            <a:ext cx="576000" cy="576360"/>
          </a:xfrm>
          <a:prstGeom prst="ellipse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1181160"/>
            <a:ext cx="576360" cy="576360"/>
          </a:xfrm>
          <a:prstGeom prst="ellipse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2000" y="1268280"/>
            <a:ext cx="792000" cy="792360"/>
          </a:xfrm>
          <a:prstGeom prst="ellipse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96360" y="1700280"/>
            <a:ext cx="576000" cy="576360"/>
          </a:xfrm>
          <a:prstGeom prst="ellipse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028000" y="1341360"/>
            <a:ext cx="647640" cy="647640"/>
          </a:xfrm>
          <a:prstGeom prst="ellipse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8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8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8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8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195640" y="4724280"/>
            <a:ext cx="3600360" cy="8654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0800" y="2602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6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82520" y="95868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133440" y="765000"/>
            <a:ext cx="464040" cy="808200"/>
            <a:chOff x="3133440" y="765000"/>
            <a:chExt cx="464040" cy="808200"/>
          </a:xfrm>
        </p:grpSpPr>
        <p:sp>
          <p:nvSpPr>
            <p:cNvPr id="518" name=""/>
            <p:cNvSpPr/>
            <p:nvPr/>
          </p:nvSpPr>
          <p:spPr>
            <a:xfrm>
              <a:off x="3203280" y="765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03280" y="1174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33440" y="840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655240" y="88596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986160" y="692280"/>
            <a:ext cx="464040" cy="808200"/>
            <a:chOff x="6986160" y="692280"/>
            <a:chExt cx="464040" cy="808200"/>
          </a:xfrm>
        </p:grpSpPr>
        <p:sp>
          <p:nvSpPr>
            <p:cNvPr id="523" name=""/>
            <p:cNvSpPr/>
            <p:nvPr/>
          </p:nvSpPr>
          <p:spPr>
            <a:xfrm>
              <a:off x="7055640" y="6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55640" y="1101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86160" y="768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06520" y="2774880"/>
            <a:ext cx="143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44360" y="2565360"/>
            <a:ext cx="464040" cy="808560"/>
            <a:chOff x="4644360" y="2565360"/>
            <a:chExt cx="464040" cy="808560"/>
          </a:xfrm>
        </p:grpSpPr>
        <p:sp>
          <p:nvSpPr>
            <p:cNvPr id="528" name=""/>
            <p:cNvSpPr/>
            <p:nvPr/>
          </p:nvSpPr>
          <p:spPr>
            <a:xfrm>
              <a:off x="4714560" y="2565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4560" y="29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44360" y="2641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982160" y="1785960"/>
            <a:ext cx="15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636720" y="1592280"/>
            <a:ext cx="464040" cy="808200"/>
            <a:chOff x="3636720" y="1592280"/>
            <a:chExt cx="464040" cy="808200"/>
          </a:xfrm>
        </p:grpSpPr>
        <p:sp>
          <p:nvSpPr>
            <p:cNvPr id="533" name=""/>
            <p:cNvSpPr/>
            <p:nvPr/>
          </p:nvSpPr>
          <p:spPr>
            <a:xfrm>
              <a:off x="3706560" y="15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06560" y="2001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36720" y="1668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652560" y="1592280"/>
            <a:ext cx="5276880" cy="807120"/>
            <a:chOff x="3652560" y="1592280"/>
            <a:chExt cx="5276880" cy="807120"/>
          </a:xfrm>
        </p:grpSpPr>
        <p:sp>
          <p:nvSpPr>
            <p:cNvPr id="537" name=""/>
            <p:cNvSpPr/>
            <p:nvPr/>
          </p:nvSpPr>
          <p:spPr>
            <a:xfrm>
              <a:off x="3652560" y="1677960"/>
              <a:ext cx="5276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______________________________________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57760" y="1592280"/>
              <a:ext cx="4845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the number of marbles which are </a:t>
              </a:r>
              <a:r>
                <a:rPr b="1" lang="hr-HR" sz="1900" spc="-1" strike="noStrike">
                  <a:solidFill>
                    <a:srgbClr val="ffcc00"/>
                  </a:solidFill>
                  <a:latin typeface="Arial"/>
                </a:rPr>
                <a:t>not</a:t>
              </a: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 r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06800" y="2016000"/>
              <a:ext cx="3598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total number of </a:t>
              </a:r>
              <a:r>
                <a:rPr b="1" lang="hr-HR" sz="1900" spc="-1" strike="noStrike">
                  <a:solidFill>
                    <a:srgbClr val="febc02"/>
                  </a:solidFill>
                  <a:latin typeface="Arial"/>
                </a:rPr>
                <a:t>all </a:t>
              </a:r>
              <a:r>
                <a:rPr b="1" lang="hr-HR" sz="1900" spc="-1" strike="noStrike">
                  <a:solidFill>
                    <a:srgbClr val="ffffff"/>
                  </a:solidFill>
                  <a:latin typeface="Arial"/>
                </a:rPr>
                <a:t>marb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5654880" y="1751040"/>
            <a:ext cx="1716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419600" y="1557360"/>
            <a:ext cx="464040" cy="808200"/>
            <a:chOff x="7419600" y="1557360"/>
            <a:chExt cx="464040" cy="808200"/>
          </a:xfrm>
        </p:grpSpPr>
        <p:sp>
          <p:nvSpPr>
            <p:cNvPr id="542" name=""/>
            <p:cNvSpPr/>
            <p:nvPr/>
          </p:nvSpPr>
          <p:spPr>
            <a:xfrm>
              <a:off x="7489080" y="1557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9080" y="196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9600" y="1633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206520" y="3567240"/>
            <a:ext cx="1877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077800" y="3357720"/>
            <a:ext cx="464040" cy="808560"/>
            <a:chOff x="5077800" y="3357720"/>
            <a:chExt cx="464040" cy="808560"/>
          </a:xfrm>
        </p:grpSpPr>
        <p:sp>
          <p:nvSpPr>
            <p:cNvPr id="547" name=""/>
            <p:cNvSpPr/>
            <p:nvPr/>
          </p:nvSpPr>
          <p:spPr>
            <a:xfrm>
              <a:off x="5148000" y="335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48000" y="3767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77800" y="3434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93480" y="4221000"/>
            <a:ext cx="19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Let's perce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6520" y="4797360"/>
            <a:ext cx="256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+ P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10160" y="479736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82920" y="493092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P (A) + P(</a:t>
            </a:r>
            <a:r>
              <a:rPr b="1" lang="hr-HR" sz="2400" spc="-1" strike="noStrike" u="sng">
                <a:solidFill>
                  <a:srgbClr val="ffcc00"/>
                </a:solidFill>
                <a:uFillTx/>
                <a:latin typeface="Arial"/>
              </a:rPr>
              <a:t>not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 A)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50160" y="493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5440" y="5353200"/>
            <a:ext cx="280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+ P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26160" y="535320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047240" y="5856120"/>
            <a:ext cx="3129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green) + P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green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13440" y="58561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11280" y="907920"/>
            <a:ext cx="720720" cy="1152720"/>
            <a:chOff x="611280" y="907920"/>
            <a:chExt cx="720720" cy="1152720"/>
          </a:xfrm>
        </p:grpSpPr>
        <p:pic>
          <p:nvPicPr>
            <p:cNvPr id="560" name="" descr=""/>
            <p:cNvPicPr/>
            <p:nvPr/>
          </p:nvPicPr>
          <p:blipFill>
            <a:blip r:embed="rId1"/>
            <a:stretch/>
          </p:blipFill>
          <p:spPr>
            <a:xfrm>
              <a:off x="611280" y="907920"/>
              <a:ext cx="720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14320" y="1825560"/>
              <a:ext cx="203400" cy="192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17720" y="1825560"/>
              <a:ext cx="203040" cy="192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92080" y="1657440"/>
              <a:ext cx="203400" cy="191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6440" y="1692360"/>
              <a:ext cx="203040" cy="191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96920" y="1652760"/>
              <a:ext cx="203400" cy="191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87480" y="1484280"/>
              <a:ext cx="203040" cy="192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5640" y="1515960"/>
              <a:ext cx="203040" cy="192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3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4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4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07440" y="47628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6600"/>
                </a:solidFill>
                <a:uFillTx/>
                <a:latin typeface="Comic Sans MS"/>
              </a:rPr>
              <a:t>Let's repe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3440" y="1384200"/>
            <a:ext cx="883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P(A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37960" y="1262160"/>
            <a:ext cx="675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_________________________________________________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60640" y="115884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he number of elementary events which are </a:t>
            </a:r>
            <a:r>
              <a:rPr b="1" lang="hr-HR" sz="1800" spc="-1" strike="noStrike">
                <a:solidFill>
                  <a:srgbClr val="febc02"/>
                </a:solidFill>
                <a:latin typeface="Arial"/>
              </a:rPr>
              <a:t>propitious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for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36600" y="1589040"/>
            <a:ext cx="51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otal number of </a:t>
            </a:r>
            <a:r>
              <a:rPr b="1" lang="hr-HR" sz="1800" spc="-1" strike="noStrike">
                <a:solidFill>
                  <a:srgbClr val="febc02"/>
                </a:solidFill>
                <a:latin typeface="Arial"/>
              </a:rPr>
              <a:t>all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lementary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5080" y="38005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For each event A is vali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4320" y="414036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P (A) + P (</a:t>
            </a:r>
            <a:r>
              <a:rPr b="1" lang="hr-HR" sz="1800" spc="-1" strike="noStrike" u="sng">
                <a:solidFill>
                  <a:srgbClr val="ffcc00"/>
                </a:solidFill>
                <a:uFillTx/>
                <a:latin typeface="Arial"/>
              </a:rPr>
              <a:t>not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 A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78400" y="414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46720" y="2990880"/>
            <a:ext cx="4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78160" y="118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27400" y="158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02560" y="3284640"/>
            <a:ext cx="583920" cy="934920"/>
            <a:chOff x="6802560" y="3284640"/>
            <a:chExt cx="583920" cy="934920"/>
          </a:xfrm>
        </p:grpSpPr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6802560" y="3284640"/>
              <a:ext cx="583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967080" y="4028760"/>
              <a:ext cx="164520" cy="155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31600" y="4028760"/>
              <a:ext cx="164520" cy="155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30080" y="3892320"/>
              <a:ext cx="164520" cy="15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55120" y="3920760"/>
              <a:ext cx="164520" cy="155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96040" y="3888360"/>
              <a:ext cx="164520" cy="155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07120" y="3751920"/>
              <a:ext cx="164520" cy="155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19560" y="3777480"/>
              <a:ext cx="164520" cy="155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6069960" y="3132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85800" y="4518000"/>
            <a:ext cx="1514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yellow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62520" y="4292640"/>
            <a:ext cx="464040" cy="808200"/>
            <a:chOff x="7562520" y="4292640"/>
            <a:chExt cx="464040" cy="808200"/>
          </a:xfrm>
        </p:grpSpPr>
        <p:sp>
          <p:nvSpPr>
            <p:cNvPr id="591" name=""/>
            <p:cNvSpPr/>
            <p:nvPr/>
          </p:nvSpPr>
          <p:spPr>
            <a:xfrm>
              <a:off x="7632000" y="429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32000" y="4701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62520" y="4368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5438520" y="443700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587080" y="443700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51000" y="4459320"/>
            <a:ext cx="121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 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575920" y="44593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85440" y="4543560"/>
            <a:ext cx="127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ue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308360" y="4334040"/>
            <a:ext cx="464040" cy="808200"/>
            <a:chOff x="7308360" y="4334040"/>
            <a:chExt cx="464040" cy="808200"/>
          </a:xfrm>
        </p:grpSpPr>
        <p:sp>
          <p:nvSpPr>
            <p:cNvPr id="600" name=""/>
            <p:cNvSpPr/>
            <p:nvPr/>
          </p:nvSpPr>
          <p:spPr>
            <a:xfrm>
              <a:off x="7377840" y="433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7840" y="474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08360" y="4410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086160" y="4557600"/>
            <a:ext cx="115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237080" y="4348080"/>
            <a:ext cx="464040" cy="808200"/>
            <a:chOff x="7237080" y="4348080"/>
            <a:chExt cx="464040" cy="808200"/>
          </a:xfrm>
        </p:grpSpPr>
        <p:sp>
          <p:nvSpPr>
            <p:cNvPr id="605" name=""/>
            <p:cNvSpPr/>
            <p:nvPr/>
          </p:nvSpPr>
          <p:spPr>
            <a:xfrm>
              <a:off x="7306560" y="434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6560" y="4757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37080" y="4424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403280" y="3500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403280" y="3884760"/>
            <a:ext cx="3600360" cy="337320"/>
            <a:chOff x="1403280" y="3884760"/>
            <a:chExt cx="3600360" cy="337320"/>
          </a:xfrm>
        </p:grpSpPr>
        <p:sp>
          <p:nvSpPr>
            <p:cNvPr id="610" name=""/>
            <p:cNvSpPr/>
            <p:nvPr/>
          </p:nvSpPr>
          <p:spPr>
            <a:xfrm>
              <a:off x="1403280" y="3933720"/>
              <a:ext cx="360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94600" y="3884760"/>
              <a:ext cx="26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ffff"/>
                  </a:solidFill>
                  <a:latin typeface="Arial"/>
                </a:rPr>
                <a:t>In this example it means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44360" y="981000"/>
            <a:ext cx="8028000" cy="11527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2349360"/>
            <a:ext cx="5761080" cy="10796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79280" y="3716280"/>
            <a:ext cx="3529080" cy="865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518160" y="4437000"/>
            <a:ext cx="78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bl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03040" y="4437000"/>
            <a:ext cx="97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yell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314200" y="443700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77680" y="443700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645800" y="49989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Chec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589440" y="4782960"/>
            <a:ext cx="464040" cy="808200"/>
            <a:chOff x="6589440" y="4782960"/>
            <a:chExt cx="464040" cy="808200"/>
          </a:xfrm>
        </p:grpSpPr>
        <p:sp>
          <p:nvSpPr>
            <p:cNvPr id="621" name=""/>
            <p:cNvSpPr/>
            <p:nvPr/>
          </p:nvSpPr>
          <p:spPr>
            <a:xfrm>
              <a:off x="665928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59280" y="51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89440" y="4858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868360" y="4782960"/>
            <a:ext cx="464040" cy="808560"/>
            <a:chOff x="5868360" y="4782960"/>
            <a:chExt cx="464040" cy="808560"/>
          </a:xfrm>
        </p:grpSpPr>
        <p:sp>
          <p:nvSpPr>
            <p:cNvPr id="625" name=""/>
            <p:cNvSpPr/>
            <p:nvPr/>
          </p:nvSpPr>
          <p:spPr>
            <a:xfrm>
              <a:off x="593856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38560" y="519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8360" y="4859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381440" y="4782960"/>
            <a:ext cx="464040" cy="808200"/>
            <a:chOff x="7381440" y="4782960"/>
            <a:chExt cx="464040" cy="808200"/>
          </a:xfrm>
        </p:grpSpPr>
        <p:sp>
          <p:nvSpPr>
            <p:cNvPr id="629" name=""/>
            <p:cNvSpPr/>
            <p:nvPr/>
          </p:nvSpPr>
          <p:spPr>
            <a:xfrm>
              <a:off x="745092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0920" y="51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81440" y="4858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81416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0288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9524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102160" y="4768920"/>
            <a:ext cx="464040" cy="808200"/>
            <a:chOff x="8102160" y="4768920"/>
            <a:chExt cx="464040" cy="808200"/>
          </a:xfrm>
        </p:grpSpPr>
        <p:sp>
          <p:nvSpPr>
            <p:cNvPr id="636" name=""/>
            <p:cNvSpPr/>
            <p:nvPr/>
          </p:nvSpPr>
          <p:spPr>
            <a:xfrm>
              <a:off x="8171640" y="476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71640" y="5178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02160" y="484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849672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750520" y="497844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76440" y="4459320"/>
            <a:ext cx="15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P (</a:t>
            </a:r>
            <a:r>
              <a:rPr b="1" lang="hr-HR" sz="19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 red) 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4760" y="2411280"/>
            <a:ext cx="5674680" cy="946440"/>
            <a:chOff x="194760" y="2411280"/>
            <a:chExt cx="5674680" cy="946440"/>
          </a:xfrm>
        </p:grpSpPr>
        <p:sp>
          <p:nvSpPr>
            <p:cNvPr id="643" name=""/>
            <p:cNvSpPr/>
            <p:nvPr/>
          </p:nvSpPr>
          <p:spPr>
            <a:xfrm>
              <a:off x="194760" y="2411280"/>
              <a:ext cx="567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The sum of the probabilities of  all possible ev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which exclude each ot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58680" y="2989440"/>
              <a:ext cx="17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always equ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861440" y="4514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2720" y="1392120"/>
            <a:ext cx="381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9160" y="2400480"/>
            <a:ext cx="381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5800" y="3789360"/>
            <a:ext cx="381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61440" y="49989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Chec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057800" y="4782960"/>
            <a:ext cx="464040" cy="808200"/>
            <a:chOff x="7057800" y="4782960"/>
            <a:chExt cx="464040" cy="808200"/>
          </a:xfrm>
        </p:grpSpPr>
        <p:sp>
          <p:nvSpPr>
            <p:cNvPr id="651" name=""/>
            <p:cNvSpPr/>
            <p:nvPr/>
          </p:nvSpPr>
          <p:spPr>
            <a:xfrm>
              <a:off x="712764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27640" y="51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57800" y="4858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155640" y="4782960"/>
            <a:ext cx="464040" cy="808560"/>
            <a:chOff x="6155640" y="4782960"/>
            <a:chExt cx="464040" cy="808560"/>
          </a:xfrm>
        </p:grpSpPr>
        <p:sp>
          <p:nvSpPr>
            <p:cNvPr id="655" name=""/>
            <p:cNvSpPr/>
            <p:nvPr/>
          </p:nvSpPr>
          <p:spPr>
            <a:xfrm>
              <a:off x="622584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25840" y="519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55640" y="4859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666180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598520" y="50133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922880" y="4782960"/>
            <a:ext cx="464040" cy="808200"/>
            <a:chOff x="7922880" y="4782960"/>
            <a:chExt cx="464040" cy="808200"/>
          </a:xfrm>
        </p:grpSpPr>
        <p:sp>
          <p:nvSpPr>
            <p:cNvPr id="661" name=""/>
            <p:cNvSpPr/>
            <p:nvPr/>
          </p:nvSpPr>
          <p:spPr>
            <a:xfrm>
              <a:off x="7992360" y="47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992360" y="51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22880" y="4858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8425440" y="4998960"/>
            <a:ext cx="320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790480" y="499896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2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4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6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8" dur="1" fill="hold">
                                    <p:stCondLst>
                                      <p:cond evt="end">
                                        <p:tn val="1469"/>
                                      </p:cond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77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9" dur="770" fill="hold"/>
                                        <p:tgtEl>
                                          <p:spTgt spid="6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1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3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75" dur="1" fill="hold">
                                    <p:stCondLst>
                                      <p:cond evt="end">
                                        <p:tn val="1566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5" dur="1" fill="hold">
                                    <p:stCondLst>
                                      <p:cond evt="end">
                                        <p:tn val="1717"/>
                                      </p:cond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214000" y="241308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Let's check our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hrough the following task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0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26520" y="260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1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1840" y="758880"/>
            <a:ext cx="71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Mario knows that his grandma will come to visit him next week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but he can't guess which day it will 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8240" y="1414440"/>
            <a:ext cx="80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he will guess right away which day it will b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95600" y="19684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hit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765080" y="1758960"/>
            <a:ext cx="464040" cy="808200"/>
            <a:chOff x="1765080" y="1758960"/>
            <a:chExt cx="464040" cy="808200"/>
          </a:xfrm>
        </p:grpSpPr>
        <p:sp>
          <p:nvSpPr>
            <p:cNvPr id="672" name=""/>
            <p:cNvSpPr/>
            <p:nvPr/>
          </p:nvSpPr>
          <p:spPr>
            <a:xfrm>
              <a:off x="1834920" y="175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34920" y="216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65080" y="1834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7880" y="2495520"/>
            <a:ext cx="74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he will NOT guess which day it will b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96680" y="304956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miss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052360" y="2840040"/>
            <a:ext cx="464040" cy="808200"/>
            <a:chOff x="2052360" y="2840040"/>
            <a:chExt cx="464040" cy="808200"/>
          </a:xfrm>
        </p:grpSpPr>
        <p:sp>
          <p:nvSpPr>
            <p:cNvPr id="678" name=""/>
            <p:cNvSpPr/>
            <p:nvPr/>
          </p:nvSpPr>
          <p:spPr>
            <a:xfrm>
              <a:off x="2122200" y="2840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22200" y="324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52360" y="2916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347040" y="3645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2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6440" y="4143240"/>
            <a:ext cx="85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Zdenko goes in the 6th class. He has art once a wee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(between Monday and Friday)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" y="4581360"/>
            <a:ext cx="82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we will guess right away which day he has 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95600" y="51354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hit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802880" y="4925880"/>
            <a:ext cx="464040" cy="808200"/>
            <a:chOff x="1802880" y="4925880"/>
            <a:chExt cx="464040" cy="808200"/>
          </a:xfrm>
        </p:grpSpPr>
        <p:sp>
          <p:nvSpPr>
            <p:cNvPr id="686" name=""/>
            <p:cNvSpPr/>
            <p:nvPr/>
          </p:nvSpPr>
          <p:spPr>
            <a:xfrm>
              <a:off x="1872360" y="492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72360" y="5335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02880" y="5001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20400" y="5662440"/>
            <a:ext cx="54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we will not guess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96680" y="62164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miss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980720" y="6006960"/>
            <a:ext cx="464040" cy="808200"/>
            <a:chOff x="1980720" y="6006960"/>
            <a:chExt cx="464040" cy="808200"/>
          </a:xfrm>
        </p:grpSpPr>
        <p:sp>
          <p:nvSpPr>
            <p:cNvPr id="692" name=""/>
            <p:cNvSpPr/>
            <p:nvPr/>
          </p:nvSpPr>
          <p:spPr>
            <a:xfrm>
              <a:off x="2050200" y="6006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50200" y="64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0720" y="6082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135960" y="299736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How can we calculate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Can you explain it in two ways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0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7040" y="260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3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2560" y="758880"/>
            <a:ext cx="88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On Sunday there will be a football match between football teams </a:t>
            </a:r>
            <a:r>
              <a:rPr b="1" i="1" lang="hr-HR" sz="1800" spc="-1" strike="noStrike">
                <a:solidFill>
                  <a:srgbClr val="ffcc00"/>
                </a:solidFill>
                <a:latin typeface="Arial"/>
              </a:rPr>
              <a:t>Fast sneakers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hr-HR" sz="1800" spc="-1" strike="noStrike">
                <a:solidFill>
                  <a:srgbClr val="ffcc00"/>
                </a:solidFill>
                <a:latin typeface="Arial"/>
              </a:rPr>
              <a:t>Fiery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19680" y="1341360"/>
            <a:ext cx="85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he probability that </a:t>
            </a:r>
            <a:r>
              <a:rPr b="1" i="1" lang="hr-HR" sz="1800" spc="-1" strike="noStrike">
                <a:solidFill>
                  <a:srgbClr val="ffcc00"/>
                </a:solidFill>
                <a:latin typeface="Arial"/>
              </a:rPr>
              <a:t>Fast sneakers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ill win is 0.4. What is the probability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cc00"/>
                </a:solidFill>
                <a:latin typeface="Arial"/>
              </a:rPr>
              <a:t>Fiery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will w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6320" y="2076480"/>
            <a:ext cx="12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</a:t>
            </a:r>
            <a:r>
              <a:rPr b="1" i="1" lang="hr-HR" sz="1800" spc="-1" strike="noStrike">
                <a:solidFill>
                  <a:srgbClr val="ffcc00"/>
                </a:solidFill>
                <a:latin typeface="Arial"/>
              </a:rPr>
              <a:t>Fiery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7040" y="2708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4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1840" y="3206880"/>
            <a:ext cx="76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t a horse race the probability that the horse 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Storm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will win is 70 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he will not w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95240" y="3911760"/>
            <a:ext cx="18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</a:t>
            </a: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Storm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49040" y="2060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42600" y="38955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7040" y="46879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5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1120" y="5186520"/>
            <a:ext cx="75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he probability that Danijela will go to the seaside next week is 0.8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that she will not g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94880" y="60008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not go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25080" y="5985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0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74320" y="260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6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51280" y="75888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ikola shoots darts at such boar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3360" y="1341360"/>
            <a:ext cx="89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 that he will hit the yellow field? What about the red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" y="1932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yellow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221920" y="1916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788000" y="5475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756360" y="2328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red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36360" y="2313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200" y="317016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nd in the following c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25800" y="375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08320" y="48830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red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8720" y="55832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green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900360" cy="934920"/>
          </a:xfrm>
          <a:prstGeom prst="rect">
            <a:avLst/>
          </a:prstGeom>
          <a:ln w="0">
            <a:noFill/>
          </a:ln>
        </p:spPr>
      </p:pic>
      <p:grpSp>
        <p:nvGrpSpPr>
          <p:cNvPr id="722" name=""/>
          <p:cNvGrpSpPr/>
          <p:nvPr/>
        </p:nvGrpSpPr>
        <p:grpSpPr>
          <a:xfrm>
            <a:off x="1765800" y="4724280"/>
            <a:ext cx="433800" cy="690480"/>
            <a:chOff x="1765800" y="4724280"/>
            <a:chExt cx="433800" cy="690480"/>
          </a:xfrm>
        </p:grpSpPr>
        <p:sp>
          <p:nvSpPr>
            <p:cNvPr id="723" name=""/>
            <p:cNvSpPr/>
            <p:nvPr/>
          </p:nvSpPr>
          <p:spPr>
            <a:xfrm>
              <a:off x="1835280" y="47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35280" y="5046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65800" y="4779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910160" y="5405400"/>
            <a:ext cx="433800" cy="690480"/>
            <a:chOff x="1910160" y="5405400"/>
            <a:chExt cx="433800" cy="690480"/>
          </a:xfrm>
        </p:grpSpPr>
        <p:sp>
          <p:nvSpPr>
            <p:cNvPr id="727" name=""/>
            <p:cNvSpPr/>
            <p:nvPr/>
          </p:nvSpPr>
          <p:spPr>
            <a:xfrm>
              <a:off x="1979640" y="540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79640" y="57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0160" y="5460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68000" y="61578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yellow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975320" y="5979960"/>
            <a:ext cx="433800" cy="690480"/>
            <a:chOff x="1975320" y="5979960"/>
            <a:chExt cx="433800" cy="690480"/>
          </a:xfrm>
        </p:grpSpPr>
        <p:sp>
          <p:nvSpPr>
            <p:cNvPr id="732" name=""/>
            <p:cNvSpPr/>
            <p:nvPr/>
          </p:nvSpPr>
          <p:spPr>
            <a:xfrm>
              <a:off x="2044800" y="5979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44800" y="6302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75320" y="6035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3564000" y="3855960"/>
            <a:ext cx="936720" cy="86832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2984400" y="3789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66920" y="4919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pink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127320" y="56545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yellow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29800" y="4761000"/>
            <a:ext cx="433800" cy="690480"/>
            <a:chOff x="4429800" y="4761000"/>
            <a:chExt cx="433800" cy="690480"/>
          </a:xfrm>
        </p:grpSpPr>
        <p:sp>
          <p:nvSpPr>
            <p:cNvPr id="740" name=""/>
            <p:cNvSpPr/>
            <p:nvPr/>
          </p:nvSpPr>
          <p:spPr>
            <a:xfrm>
              <a:off x="4499280" y="476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99280" y="508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9800" y="4816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567680" y="5477040"/>
            <a:ext cx="433800" cy="690120"/>
            <a:chOff x="4567680" y="5477040"/>
            <a:chExt cx="433800" cy="690120"/>
          </a:xfrm>
        </p:grpSpPr>
        <p:sp>
          <p:nvSpPr>
            <p:cNvPr id="744" name=""/>
            <p:cNvSpPr/>
            <p:nvPr/>
          </p:nvSpPr>
          <p:spPr>
            <a:xfrm>
              <a:off x="4637160" y="547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37160" y="579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67680" y="553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6516720" y="3835440"/>
            <a:ext cx="863640" cy="85716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586908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814520" y="6053040"/>
            <a:ext cx="560160" cy="690480"/>
            <a:chOff x="7814520" y="6053040"/>
            <a:chExt cx="560160" cy="690480"/>
          </a:xfrm>
        </p:grpSpPr>
        <p:sp>
          <p:nvSpPr>
            <p:cNvPr id="750" name=""/>
            <p:cNvSpPr/>
            <p:nvPr/>
          </p:nvSpPr>
          <p:spPr>
            <a:xfrm>
              <a:off x="7937640" y="605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74640" y="6375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14520" y="61084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c00"/>
                  </a:solidFill>
                  <a:latin typeface="Arial"/>
                </a:rPr>
                <a:t>___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010560" y="4761000"/>
            <a:ext cx="2088000" cy="1801800"/>
            <a:chOff x="6010560" y="4761000"/>
            <a:chExt cx="2088000" cy="1801800"/>
          </a:xfrm>
        </p:grpSpPr>
        <p:sp>
          <p:nvSpPr>
            <p:cNvPr id="754" name=""/>
            <p:cNvSpPr/>
            <p:nvPr/>
          </p:nvSpPr>
          <p:spPr>
            <a:xfrm>
              <a:off x="6051240" y="4919760"/>
              <a:ext cx="157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yellow) 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12360" y="56196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red) 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7538400" y="4761000"/>
              <a:ext cx="560160" cy="690480"/>
              <a:chOff x="7538400" y="4761000"/>
              <a:chExt cx="560160" cy="690480"/>
            </a:xfrm>
          </p:grpSpPr>
          <p:sp>
            <p:nvSpPr>
              <p:cNvPr id="757" name=""/>
              <p:cNvSpPr/>
              <p:nvPr/>
            </p:nvSpPr>
            <p:spPr>
              <a:xfrm>
                <a:off x="7661520" y="4761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598520" y="50832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38400" y="4816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___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010560" y="619452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light blue) 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7166880" y="5445000"/>
              <a:ext cx="560160" cy="690480"/>
              <a:chOff x="7166880" y="5445000"/>
              <a:chExt cx="560160" cy="690480"/>
            </a:xfrm>
          </p:grpSpPr>
          <p:sp>
            <p:nvSpPr>
              <p:cNvPr id="762" name=""/>
              <p:cNvSpPr/>
              <p:nvPr/>
            </p:nvSpPr>
            <p:spPr>
              <a:xfrm>
                <a:off x="7290000" y="5445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27000" y="57672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66880" y="5500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ffff"/>
                    </a:solidFill>
                    <a:latin typeface="Arial"/>
                  </a:rPr>
                  <a:t>___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7848360" y="61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4" dur="indefinite" restart="never" nodeType="tmRoot">
          <p:childTnLst>
            <p:seq>
              <p:cTn id="1965" dur="indefinite" nodeType="mainSeq">
                <p:childTnLst>
                  <p:par>
                    <p:cTn id="1966" fill="hold">
                      <p:stCondLst>
                        <p:cond delay="0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5760" y="339840"/>
            <a:ext cx="71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In everyday life we often assess probabilities of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2920" y="80640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9760" y="1413000"/>
            <a:ext cx="89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Next week I'll probably go to the seaside, and my brother certainly won'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9760" y="2025720"/>
            <a:ext cx="839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Vladimir is a well-known liar! It's almost impossible to hear the tr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from h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0840" y="2962440"/>
            <a:ext cx="863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Tomorrow both Mirjana and Kristina have got the birthday party 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same time. I'm not sure at which party I'll go - probability is half-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280" y="3897360"/>
            <a:ext cx="830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I haven't studied anything, and we're doing a geography test to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There is no chance I'll get an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9400" y="4815000"/>
            <a:ext cx="83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The teacher asked me history last lesson, so it's almost certain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she won't ask me to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320" y="6111720"/>
            <a:ext cx="794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Say which expressions we used to describe probability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events abov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9560" y="1447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5280" y="1447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1440" y="206064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4520" y="328464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8280" y="4221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3640" y="48322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99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25440" y="3753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8476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6908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900000" y="3813120"/>
            <a:ext cx="828720" cy="83988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468000" y="4883040"/>
            <a:ext cx="1996200" cy="1722600"/>
            <a:chOff x="468000" y="4883040"/>
            <a:chExt cx="1996200" cy="1722600"/>
          </a:xfrm>
        </p:grpSpPr>
        <p:sp>
          <p:nvSpPr>
            <p:cNvPr id="771" name=""/>
            <p:cNvSpPr/>
            <p:nvPr/>
          </p:nvSpPr>
          <p:spPr>
            <a:xfrm>
              <a:off x="507960" y="488304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yellow)  =  0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8000" y="536580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pink)  =  0.1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8360" y="579924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green)  =  0.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8720" y="6237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orange) 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088720" y="6200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5236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3708360" y="3718080"/>
            <a:ext cx="934920" cy="9284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314520" y="48848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white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44000" y="4869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75280" y="52815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 (green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687200" y="5265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901800" cy="89388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6084720" y="4876920"/>
            <a:ext cx="2314800" cy="1361880"/>
            <a:chOff x="6084720" y="4876920"/>
            <a:chExt cx="2314800" cy="1361880"/>
          </a:xfrm>
        </p:grpSpPr>
        <p:sp>
          <p:nvSpPr>
            <p:cNvPr id="784" name=""/>
            <p:cNvSpPr/>
            <p:nvPr/>
          </p:nvSpPr>
          <p:spPr>
            <a:xfrm>
              <a:off x="6123240" y="4876920"/>
              <a:ext cx="22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light blue)  =  0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84720" y="53593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yellow)  =  0.25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84720" y="587052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P (pink) 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7417440" y="5834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381800" y="587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4320" y="260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Task 6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280" y="75888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ikola shoots darts at such boar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3360" y="1341360"/>
            <a:ext cx="89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What is the probability  that he will hit the yellow field? What about the red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81200" y="1932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yellow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21920" y="1916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4788000" y="5475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756360" y="2328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(red) 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836360" y="2313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0200" y="317016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nd in the following c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fill="hold">
                      <p:stCondLst>
                        <p:cond delay="0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500"/>
                            </p:stCondLst>
                            <p:childTnLst>
                              <p:par>
                                <p:cTn id="2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500"/>
                            </p:stCondLst>
                            <p:childTnLst>
                              <p:par>
                                <p:cTn id="2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92800" y="765000"/>
            <a:ext cx="75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ay the following sentences by using everyday expres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403360" y="4543560"/>
            <a:ext cx="463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he probability that we will now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riting into our note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quals exactly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709000" y="1484280"/>
            <a:ext cx="382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 hope that the probability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you like this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 higher than 0.5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15680" y="3087720"/>
            <a:ext cx="418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 hope that the probability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omebody didn't understand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 almost 0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62080" y="580248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o, let's gooooooooo....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5" dur="indefinite" restart="never" nodeType="tmRoot">
          <p:childTnLst>
            <p:seq>
              <p:cTn id="2176" dur="indefinite" nodeType="mainSeq">
                <p:childTnLst>
                  <p:par>
                    <p:cTn id="2177" fill="hold">
                      <p:stCondLst>
                        <p:cond delay="0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1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2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547640" y="1866960"/>
            <a:ext cx="6264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6600"/>
                </a:solidFill>
                <a:latin typeface="Monotype Corsiva"/>
              </a:rPr>
              <a:t>Author of presen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6600"/>
                </a:solidFill>
                <a:latin typeface="Monotype Corsiva"/>
              </a:rPr>
              <a:t>Antonija Horvate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Monotype Corsiva"/>
              </a:rPr>
              <a:t>January, 200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0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411280" y="1803240"/>
            <a:ext cx="4321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6600"/>
                </a:solidFill>
                <a:latin typeface="Monotype Corsiva"/>
              </a:rPr>
              <a:t>Thank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6600"/>
                </a:solidFill>
                <a:latin typeface="Monotype Corsiva"/>
              </a:rPr>
              <a:t>Irena Mand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Monotype Corsiva"/>
              </a:rPr>
              <a:t>for helping me with the translation into Engl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842040" y="1647720"/>
            <a:ext cx="7202160" cy="3693240"/>
            <a:chOff x="842040" y="1647720"/>
            <a:chExt cx="7202160" cy="3693240"/>
          </a:xfrm>
        </p:grpSpPr>
        <p:sp>
          <p:nvSpPr>
            <p:cNvPr id="806" name=""/>
            <p:cNvSpPr/>
            <p:nvPr/>
          </p:nvSpPr>
          <p:spPr>
            <a:xfrm>
              <a:off x="863640" y="1647720"/>
              <a:ext cx="70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If you want, you can use this presentation in your teaching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Also, if you want, you can change some parts of it in this purpos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42040" y="2727360"/>
              <a:ext cx="608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But, if you want to use it in public lectures, workshops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in writing books, articles, on CDs and similar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then it is nessesary to ask and to get permission of auth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46160" y="4149720"/>
              <a:ext cx="339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Antonija Horvat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1"/>
                </a:rPr>
                <a:t>http://</a:t>
              </a: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2"/>
                </a:rPr>
                <a:t>public</a:t>
              </a: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3"/>
                </a:rPr>
                <a:t>.</a:t>
              </a: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4"/>
                </a:rPr>
                <a:t>carnet</a:t>
              </a: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5"/>
                </a:rPr>
                <a:t>.hr/~</a:t>
              </a: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6"/>
                </a:rPr>
                <a:t>ahorv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 u="sng">
                  <a:solidFill>
                    <a:srgbClr val="ffcc00"/>
                  </a:solidFill>
                  <a:uFillTx/>
                  <a:latin typeface="Arial"/>
                  <a:hlinkClick r:id="rId7"/>
                </a:rPr>
                <a:t>ahorvatek@yahoo.com</a:t>
              </a:r>
              <a:r>
                <a:rPr b="0" lang="hr-HR" sz="1800" spc="-1" strike="noStrike">
                  <a:solidFill>
                    <a:srgbClr val="a886e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fill="hold">
                      <p:stCondLst>
                        <p:cond delay="0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6280" y="620640"/>
            <a:ext cx="81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hat is the difference between words "</a:t>
            </a:r>
            <a:r>
              <a:rPr b="1" lang="hr-HR" sz="2000" spc="-1" strike="noStrike">
                <a:solidFill>
                  <a:srgbClr val="ff9933"/>
                </a:solidFill>
                <a:latin typeface="Arial"/>
              </a:rPr>
              <a:t>certainly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" and "</a:t>
            </a:r>
            <a:r>
              <a:rPr b="1" lang="hr-HR" sz="2000" spc="-1" strike="noStrike">
                <a:solidFill>
                  <a:srgbClr val="ff9933"/>
                </a:solidFill>
                <a:latin typeface="Arial"/>
              </a:rPr>
              <a:t>probably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480" y="1303200"/>
            <a:ext cx="85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.g.   What would be the difference between the following senten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6520" y="1952640"/>
            <a:ext cx="59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) Tomorrow my grandma will </a:t>
            </a:r>
            <a:r>
              <a:rPr b="1" lang="hr-HR" sz="2000" spc="-1" strike="noStrike">
                <a:solidFill>
                  <a:srgbClr val="ff9933"/>
                </a:solidFill>
                <a:latin typeface="Arial"/>
              </a:rPr>
              <a:t>certainly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visit 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3933720"/>
            <a:ext cx="60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b) Tomorrow my grandma will </a:t>
            </a:r>
            <a:r>
              <a:rPr b="1" lang="hr-HR" sz="2000" spc="-1" strike="noStrike">
                <a:solidFill>
                  <a:srgbClr val="ff9933"/>
                </a:solidFill>
                <a:latin typeface="Arial"/>
              </a:rPr>
              <a:t>probably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visit 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64000" y="2349360"/>
            <a:ext cx="5040" cy="432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2960" y="2852640"/>
            <a:ext cx="48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It cannot happen that she won't com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Tomorrow she is certainly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365720"/>
            <a:ext cx="0" cy="431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000" y="4869000"/>
            <a:ext cx="55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It is high probability that she will com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but it isn't certai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There are some reasons for her not to 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74280" y="2268360"/>
            <a:ext cx="58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ow to describe probabilities of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by using numb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0280" y="4046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1880" y="903240"/>
            <a:ext cx="46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here are two red marbles in the b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00" y="130320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osip chooses randomly on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160" y="173520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) What is the probability of choosing the blue mar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3640" y="20937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No cha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160" y="209556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It can not happ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8920" y="209556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It is impossi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1080" y="2131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0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160" y="2565360"/>
            <a:ext cx="67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b) What is the probability of choosing the red mar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4360" y="29275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10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7920" y="35002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6600"/>
                </a:solidFill>
                <a:uFillTx/>
                <a:latin typeface="Comic Sans MS"/>
              </a:rPr>
              <a:t>Example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9360" y="3998880"/>
            <a:ext cx="61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here are one red and one blue marble in the b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440" y="4400640"/>
            <a:ext cx="71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 it more probable that Josip will choose the blue mar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r the red 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2200" y="512136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These probabilities are eq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9160" y="5553000"/>
            <a:ext cx="71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hich percentage between 0 % and 100 % would you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o describe each of these probabili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080" y="62722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5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3680" y="29289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It will certainly happ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67640" y="1052640"/>
            <a:ext cx="711000" cy="1201680"/>
            <a:chOff x="7667640" y="1052640"/>
            <a:chExt cx="711000" cy="12016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7667640" y="1052640"/>
              <a:ext cx="711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873920" y="206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8280" y="20606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67640" y="4027320"/>
            <a:ext cx="711000" cy="1201680"/>
            <a:chOff x="7667640" y="4027320"/>
            <a:chExt cx="711000" cy="12016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7667640" y="4027320"/>
              <a:ext cx="711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873920" y="5035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18280" y="50353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77640" y="476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080" y="13032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Certain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event has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2520" y="12556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10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320" y="1841400"/>
            <a:ext cx="44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Half-probable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vent has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50160" y="1832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760" y="2349360"/>
            <a:ext cx="41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event has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7800" y="2340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78240" y="1255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54600" y="1255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79960" y="18320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40320" y="18320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0.5 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7080" y="2336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1800" y="2336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0480" y="1616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50120" y="2048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80640" y="16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Arial"/>
              </a:rPr>
              <a:t>__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95280" y="2997360"/>
            <a:ext cx="8424720" cy="3456000"/>
            <a:chOff x="395280" y="2997360"/>
            <a:chExt cx="8424720" cy="3456000"/>
          </a:xfrm>
        </p:grpSpPr>
        <p:sp>
          <p:nvSpPr>
            <p:cNvPr id="166" name=""/>
            <p:cNvSpPr/>
            <p:nvPr/>
          </p:nvSpPr>
          <p:spPr>
            <a:xfrm>
              <a:off x="395280" y="2997360"/>
              <a:ext cx="8424720" cy="345600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  <a:effectLst>
              <a:outerShdw dist="17819" dir="2700000" blurRad="0" rotWithShape="0">
                <a:srgbClr val="febc0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880" y="3209040"/>
              <a:ext cx="70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n math, probability of event is number between </a:t>
              </a:r>
              <a:r>
                <a:rPr b="1" lang="hr-HR" sz="2400" spc="-1" strike="noStrike">
                  <a:solidFill>
                    <a:srgbClr val="ff6600"/>
                  </a:solidFill>
                  <a:latin typeface="Arial"/>
                </a:rPr>
                <a:t>0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1" lang="hr-HR" sz="2400" spc="-1" strike="noStrike">
                  <a:solidFill>
                    <a:srgbClr val="ff6600"/>
                  </a:solidFill>
                  <a:latin typeface="Arial"/>
                </a:rPr>
                <a:t>1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38200" y="3841920"/>
            <a:ext cx="30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bability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desc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8200" y="4346640"/>
            <a:ext cx="29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bability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esc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7840" y="4869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bability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esc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1720" y="5391000"/>
            <a:ext cx="744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Other numbers between 0 and 1 describe other less or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possible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8960" y="3836880"/>
            <a:ext cx="18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certain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8920" y="4340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impossible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3480" y="486900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half-probable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2560" y="333360"/>
            <a:ext cx="67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ut the following expressions onto appropriate heigh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000" y="19526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000" y="2779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360" y="3176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560" y="36082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half - ha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4920" y="400536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lmost 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4200" y="443556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lmost 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000" y="48322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724360" y="1197000"/>
            <a:ext cx="1582560" cy="5150160"/>
            <a:chOff x="5724360" y="1197000"/>
            <a:chExt cx="1582560" cy="5150160"/>
          </a:xfrm>
        </p:grpSpPr>
        <p:sp>
          <p:nvSpPr>
            <p:cNvPr id="184" name=""/>
            <p:cNvSpPr/>
            <p:nvPr/>
          </p:nvSpPr>
          <p:spPr>
            <a:xfrm>
              <a:off x="5892840" y="1413000"/>
              <a:ext cx="0" cy="23763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72240" y="3789360"/>
              <a:ext cx="233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2840" y="3787920"/>
              <a:ext cx="0" cy="23763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32640" y="6164280"/>
              <a:ext cx="3204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24360" y="1413000"/>
              <a:ext cx="32076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6160" y="119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6160" y="594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5800" y="360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0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70680" y="1916280"/>
              <a:ext cx="3362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005440" y="119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5440" y="5950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5440" y="36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5440" y="1773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5440" y="2421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3032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5440" y="4400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5440" y="519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3842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77520" y="2038320"/>
            <a:ext cx="144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First, cho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which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expres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go to the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cc00"/>
                </a:solidFill>
                <a:latin typeface="Arial"/>
              </a:rPr>
              <a:t>3 plac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0040" y="333360"/>
            <a:ext cx="77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Let's make relationships between other everyday expres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nd numbers that describe probab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0.45104 -0.1706 E">
                                      <p:cBhvr>
                                        <p:cTn id="41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40087 0.58541 E">
                                      <p:cBhvr>
                                        <p:cTn id="4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40885 -0.00254 E">
                                      <p:cBhvr>
                                        <p:cTn id="4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48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4 0 E">
                                      <p:cBhvr>
                                        <p:cTn id="49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55 L 0.09271 -4.81481E-006 E">
                                      <p:cBhvr>
                                        <p:cTn id="49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4.44444E-006 L 0.35347 -0.38564 E">
                                      <p:cBhvr>
                                        <p:cTn id="50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3.7037E-007 L 0.42465 -0.11806 E">
                                      <p:cBhvr>
                                        <p:cTn id="51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12 -4.81481E-006 L 0.46736 -0.26504 E">
                                      <p:cBhvr>
                                        <p:cTn id="52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7.40741E-007 L 0.42656 0.2338 E">
                                      <p:cBhvr>
                                        <p:cTn id="5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30208 0.1706 E">
                                      <p:cBhvr>
                                        <p:cTn id="57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2760" y="404640"/>
            <a:ext cx="38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or probability we use mark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0600" y="1071720"/>
            <a:ext cx="38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obabilitias (lat.) -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4560" y="186372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P(A)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- probability of eve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7360" y="272880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hen we choose a marble from the bag, the result of </a:t>
            </a:r>
            <a:r>
              <a:rPr b="1" lang="hr-HR" sz="2000" spc="-1" strike="noStrike">
                <a:solidFill>
                  <a:srgbClr val="ffcc00"/>
                </a:solidFill>
                <a:latin typeface="Arial"/>
              </a:rPr>
              <a:t>on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choo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 called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elementary event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4120" y="3735360"/>
            <a:ext cx="87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We will consider often, not only probabilities of the elementary ev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but of other events as well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7320" y="4437000"/>
            <a:ext cx="50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- probability of choosing the red marb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6880" y="4830840"/>
            <a:ext cx="58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- probability of not choosing the green marb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9400" y="5192640"/>
            <a:ext cx="85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- probabilty that we take a card of given color from the pack of card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4880" y="59119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20" y="5589720"/>
            <a:ext cx="75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- probability that we get odd number when we throw the d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87920" y="1773360"/>
            <a:ext cx="501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Let's consider other prob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when we choose marbl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ot only  0 %, 50 %  and  100 %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1320" y="3759120"/>
            <a:ext cx="55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... and let's find out how to figur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obabilities of events in genera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8:34:04Z</dcterms:created>
  <dc:creator>Antonija</dc:creator>
  <dc:description/>
  <dc:language>en-US</dc:language>
  <cp:lastModifiedBy>Antonija</cp:lastModifiedBy>
  <dcterms:modified xsi:type="dcterms:W3CDTF">2007-10-12T19:27:38Z</dcterms:modified>
  <cp:revision>368</cp:revision>
  <dc:subject/>
  <dc:title>Uvod u vjerojatnost</dc:title>
</cp:coreProperties>
</file>