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5EB-8956-4C73-8CAB-F6E4DBEE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BCF-EC69-4A86-AA13-1E8D430D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C7A-EF86-4ABE-BC00-7A645E19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559-2071-40C9-8128-9B2BC022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106D-71E6-45C6-A8A3-81B28F0F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E6B1-35A4-47BA-BB55-0BFFD05A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D841-424B-4A71-8BA0-51D61919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B201-60E0-4984-BC8B-FBEF8AB0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C2E6-18BA-485E-8F14-55646843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1CB4-7386-4D40-B091-14B7B379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3DD5-7171-42AF-8C1E-DA980E1F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3D0-F1D6-4BDA-8E69-D5312634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F7EE-D883-4AB5-8D66-6EB61842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10BF-6723-4731-992B-150C8149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D3ED-0213-44F1-92AA-D220E7B7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66C8-9AD8-4E8E-9602-F2D73EFC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8C4A-4CCC-46B3-BA36-198524F4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0AA-5316-4F18-8DF8-E208C0B2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2C8-A3F4-4032-BCD2-1F443267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D73-0711-4465-8CD2-4694EDD0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E9D-FC9A-4072-8139-DB047BF4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A24-8097-4280-920C-9012A33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E77-9B04-4E1C-A46B-63A29545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EE6-F6CE-4294-B73A-801CE3F1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AA13-0603-46AD-8C02-0A44BB59C1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ED34-51A2-4B7A-A149-A411A3E58D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package" Target="../embeddings/oleObject3.xlsx"/><Relationship Id="rId36" Type="http://schemas.openxmlformats.org/officeDocument/2006/relationships/image" Target="../media/image7.wmf"/><Relationship Id="rId3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package" Target="../embeddings/oleObject3.xlsx"/><Relationship Id="rId36" Type="http://schemas.openxmlformats.org/officeDocument/2006/relationships/image" Target="../media/image7.wmf"/><Relationship Id="rId3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package" Target="../embeddings/oleObject3.xlsx"/><Relationship Id="rId36" Type="http://schemas.openxmlformats.org/officeDocument/2006/relationships/image" Target="../media/image7.wmf"/><Relationship Id="rId3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public.carnet.hr/~ahorvat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package" Target="../embeddings/oleObject1.xlsx"/><Relationship Id="rId32" Type="http://schemas.openxmlformats.org/officeDocument/2006/relationships/image" Target="../media/image5.wmf"/><Relationship Id="rId33" Type="http://schemas.openxmlformats.org/officeDocument/2006/relationships/package" Target="../embeddings/oleObject2.xlsx"/><Relationship Id="rId34" Type="http://schemas.openxmlformats.org/officeDocument/2006/relationships/image" Target="../media/image6.wmf"/><Relationship Id="rId35" Type="http://schemas.openxmlformats.org/officeDocument/2006/relationships/package" Target="../embeddings/oleObject3.xlsx"/><Relationship Id="rId36" Type="http://schemas.openxmlformats.org/officeDocument/2006/relationships/image" Target="../media/image7.wmf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package" Target="../embeddings/oleObject3.xlsx"/><Relationship Id="rId36" Type="http://schemas.openxmlformats.org/officeDocument/2006/relationships/image" Target="../media/image7.wmf"/><Relationship Id="rId3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package" Target="../embeddings/oleObject3.xlsx"/><Relationship Id="rId36" Type="http://schemas.openxmlformats.org/officeDocument/2006/relationships/image" Target="../media/image7.wmf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package" Target="../embeddings/oleObject3.xlsx"/><Relationship Id="rId36" Type="http://schemas.openxmlformats.org/officeDocument/2006/relationships/image" Target="../media/image7.wmf"/><Relationship Id="rId3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package" Target="../embeddings/oleObject3.xlsx"/><Relationship Id="rId36" Type="http://schemas.openxmlformats.org/officeDocument/2006/relationships/image" Target="../media/image7.wmf"/><Relationship Id="rId3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package" Target="../embeddings/oleObject3.xlsx"/><Relationship Id="rId36" Type="http://schemas.openxmlformats.org/officeDocument/2006/relationships/image" Target="../media/image7.wmf"/><Relationship Id="rId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19120" y="1960560"/>
            <a:ext cx="82296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ff66"/>
                </a:solidFill>
                <a:latin typeface="Arial"/>
              </a:rPr>
              <a:t>Collecting, organizing and analyzing da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7" name=""/>
          <p:cNvGraphicFramePr/>
          <p:nvPr/>
        </p:nvGraphicFramePr>
        <p:xfrm>
          <a:off x="250920" y="4437000"/>
          <a:ext cx="4392360" cy="23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437000"/>
                    <a:ext cx="43923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4859280" y="4508640"/>
          <a:ext cx="4133880" cy="2235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508640"/>
                    <a:ext cx="413388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34920" y="26028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What day did till day selling reach 50% from total number of sold tre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920" y="61272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Which chart can we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read it the most faster fro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667640" y="25416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66"/>
                </a:solidFill>
                <a:latin typeface="Arial"/>
              </a:rPr>
              <a:t>Fifth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364000" y="612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66"/>
                </a:solidFill>
                <a:latin typeface="Arial"/>
              </a:rPr>
              <a:t>From the pie cha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700360" y="1606680"/>
            <a:ext cx="3313080" cy="2376360"/>
            <a:chOff x="2700360" y="1606680"/>
            <a:chExt cx="3313080" cy="2376360"/>
          </a:xfrm>
        </p:grpSpPr>
        <p:sp>
          <p:nvSpPr>
            <p:cNvPr id="516" name=""/>
            <p:cNvSpPr/>
            <p:nvPr/>
          </p:nvSpPr>
          <p:spPr>
            <a:xfrm>
              <a:off x="2700360" y="1606680"/>
              <a:ext cx="3313080" cy="23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7" name="" descr=""/>
            <p:cNvPicPr/>
            <p:nvPr/>
          </p:nvPicPr>
          <p:blipFill>
            <a:blip r:embed="rId5"/>
            <a:stretch/>
          </p:blipFill>
          <p:spPr>
            <a:xfrm>
              <a:off x="3419640" y="26305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6"/>
            <a:stretch/>
          </p:blipFill>
          <p:spPr>
            <a:xfrm>
              <a:off x="3419640" y="285264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7"/>
            <a:stretch/>
          </p:blipFill>
          <p:spPr>
            <a:xfrm>
              <a:off x="3419640" y="30877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320436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9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1" name="" descr=""/>
            <p:cNvPicPr/>
            <p:nvPr/>
          </p:nvPicPr>
          <p:blipFill>
            <a:blip r:embed="rId8"/>
            <a:stretch/>
          </p:blipFill>
          <p:spPr>
            <a:xfrm>
              <a:off x="383868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9"/>
            <a:stretch/>
          </p:blipFill>
          <p:spPr>
            <a:xfrm>
              <a:off x="383868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10"/>
            <a:stretch/>
          </p:blipFill>
          <p:spPr>
            <a:xfrm>
              <a:off x="383868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363636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0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11"/>
            <a:stretch/>
          </p:blipFill>
          <p:spPr>
            <a:xfrm>
              <a:off x="428616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2"/>
            <a:stretch/>
          </p:blipFill>
          <p:spPr>
            <a:xfrm>
              <a:off x="428616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13"/>
            <a:stretch/>
          </p:blipFill>
          <p:spPr>
            <a:xfrm>
              <a:off x="428616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411084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1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14"/>
            <a:stretch/>
          </p:blipFill>
          <p:spPr>
            <a:xfrm>
              <a:off x="4721400" y="2390760"/>
              <a:ext cx="1285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15"/>
            <a:stretch/>
          </p:blipFill>
          <p:spPr>
            <a:xfrm>
              <a:off x="4721400" y="26290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16"/>
            <a:stretch/>
          </p:blipFill>
          <p:spPr>
            <a:xfrm>
              <a:off x="4721400" y="2849400"/>
              <a:ext cx="1285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17"/>
            <a:stretch/>
          </p:blipFill>
          <p:spPr>
            <a:xfrm>
              <a:off x="4721400" y="30862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454428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2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4" name="" descr=""/>
            <p:cNvPicPr/>
            <p:nvPr/>
          </p:nvPicPr>
          <p:blipFill>
            <a:blip r:embed="rId18"/>
            <a:stretch/>
          </p:blipFill>
          <p:spPr>
            <a:xfrm>
              <a:off x="514656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9"/>
            <a:stretch/>
          </p:blipFill>
          <p:spPr>
            <a:xfrm>
              <a:off x="514656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20"/>
            <a:stretch/>
          </p:blipFill>
          <p:spPr>
            <a:xfrm>
              <a:off x="514656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21"/>
            <a:stretch/>
          </p:blipFill>
          <p:spPr>
            <a:xfrm>
              <a:off x="514656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497628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3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9" name="" descr=""/>
            <p:cNvPicPr/>
            <p:nvPr/>
          </p:nvPicPr>
          <p:blipFill>
            <a:blip r:embed="rId22"/>
            <a:stretch/>
          </p:blipFill>
          <p:spPr>
            <a:xfrm>
              <a:off x="557208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23"/>
            <a:stretch/>
          </p:blipFill>
          <p:spPr>
            <a:xfrm>
              <a:off x="557208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24"/>
            <a:stretch/>
          </p:blipFill>
          <p:spPr>
            <a:xfrm>
              <a:off x="557208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25"/>
            <a:stretch/>
          </p:blipFill>
          <p:spPr>
            <a:xfrm>
              <a:off x="557208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540792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4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4" name="" descr=""/>
            <p:cNvPicPr/>
            <p:nvPr/>
          </p:nvPicPr>
          <p:blipFill>
            <a:blip r:embed="rId26"/>
            <a:stretch/>
          </p:blipFill>
          <p:spPr>
            <a:xfrm>
              <a:off x="2987640" y="2849400"/>
              <a:ext cx="1303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27"/>
            <a:stretch/>
          </p:blipFill>
          <p:spPr>
            <a:xfrm>
              <a:off x="2987640" y="3086280"/>
              <a:ext cx="1303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277272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8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7" name="" descr=""/>
            <p:cNvPicPr/>
            <p:nvPr/>
          </p:nvPicPr>
          <p:blipFill>
            <a:blip r:embed="rId28"/>
            <a:stretch/>
          </p:blipFill>
          <p:spPr>
            <a:xfrm>
              <a:off x="3579840" y="368136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3786120" y="3666960"/>
              <a:ext cx="14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= 10 christmas tre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9" name="" descr=""/>
            <p:cNvPicPr/>
            <p:nvPr/>
          </p:nvPicPr>
          <p:blipFill>
            <a:blip r:embed="rId29"/>
            <a:stretch/>
          </p:blipFill>
          <p:spPr>
            <a:xfrm>
              <a:off x="5564160" y="192420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" descr=""/>
            <p:cNvPicPr/>
            <p:nvPr/>
          </p:nvPicPr>
          <p:blipFill>
            <a:blip r:embed="rId30"/>
            <a:stretch/>
          </p:blipFill>
          <p:spPr>
            <a:xfrm>
              <a:off x="556416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" descr=""/>
            <p:cNvPicPr/>
            <p:nvPr/>
          </p:nvPicPr>
          <p:blipFill>
            <a:blip r:embed="rId31"/>
            <a:srcRect l="0" t="0" r="43413" b="-6783"/>
            <a:stretch/>
          </p:blipFill>
          <p:spPr>
            <a:xfrm>
              <a:off x="5138640" y="1924200"/>
              <a:ext cx="730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32"/>
            <a:stretch/>
          </p:blipFill>
          <p:spPr>
            <a:xfrm>
              <a:off x="513864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33"/>
            <a:stretch/>
          </p:blipFill>
          <p:spPr>
            <a:xfrm>
              <a:off x="4729320" y="2158920"/>
              <a:ext cx="1299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34"/>
            <a:srcRect l="0" t="0" r="43413" b="-6783"/>
            <a:stretch/>
          </p:blipFill>
          <p:spPr>
            <a:xfrm>
              <a:off x="3849840" y="2368440"/>
              <a:ext cx="74520" cy="2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3490920" y="3645000"/>
              <a:ext cx="1708200" cy="28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56" name=""/>
          <p:cNvGraphicFramePr/>
          <p:nvPr/>
        </p:nvGraphicFramePr>
        <p:xfrm>
          <a:off x="395280" y="1579680"/>
          <a:ext cx="1800360" cy="2577960"/>
        </p:xfrm>
        <a:graphic>
          <a:graphicData uri="http://schemas.openxmlformats.org/drawingml/2006/table">
            <a:tbl>
              <a:tblPr/>
              <a:tblGrid>
                <a:gridCol w="876240"/>
                <a:gridCol w="924120"/>
              </a:tblGrid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sold tre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8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9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1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2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3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4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557" name=""/>
          <p:cNvSpPr/>
          <p:nvPr/>
        </p:nvSpPr>
        <p:spPr>
          <a:xfrm>
            <a:off x="474840" y="11955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TAB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403440" y="120168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PICTUR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997680" y="12016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PI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37120" y="41083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COLUMN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142680" y="41418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LIN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6156360" y="1557360"/>
          <a:ext cx="2879640" cy="22478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56360" y="1557360"/>
                    <a:ext cx="28796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250920" y="4437000"/>
          <a:ext cx="4392360" cy="23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437000"/>
                    <a:ext cx="43923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859280" y="4506840"/>
          <a:ext cx="4133880" cy="2235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506840"/>
                    <a:ext cx="413388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"/>
          <p:cNvSpPr/>
          <p:nvPr/>
        </p:nvSpPr>
        <p:spPr>
          <a:xfrm>
            <a:off x="34920" y="26028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re there any two days with equal successfull sell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4920" y="61272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Which chart can we read it the most faster fro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24360" y="2541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66"/>
                </a:solidFill>
                <a:latin typeface="Arial"/>
              </a:rPr>
              <a:t>Yes, 19.12. and 21.12.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64000" y="612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66"/>
                </a:solidFill>
                <a:latin typeface="Arial"/>
              </a:rPr>
              <a:t>From several of them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2700360" y="1606680"/>
            <a:ext cx="3313080" cy="2376360"/>
            <a:chOff x="2700360" y="1606680"/>
            <a:chExt cx="3313080" cy="2376360"/>
          </a:xfrm>
        </p:grpSpPr>
        <p:sp>
          <p:nvSpPr>
            <p:cNvPr id="573" name=""/>
            <p:cNvSpPr/>
            <p:nvPr/>
          </p:nvSpPr>
          <p:spPr>
            <a:xfrm>
              <a:off x="2700360" y="1606680"/>
              <a:ext cx="3313080" cy="23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4" name="" descr=""/>
            <p:cNvPicPr/>
            <p:nvPr/>
          </p:nvPicPr>
          <p:blipFill>
            <a:blip r:embed="rId5"/>
            <a:stretch/>
          </p:blipFill>
          <p:spPr>
            <a:xfrm>
              <a:off x="3419640" y="26305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6"/>
            <a:stretch/>
          </p:blipFill>
          <p:spPr>
            <a:xfrm>
              <a:off x="3419640" y="285264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7"/>
            <a:stretch/>
          </p:blipFill>
          <p:spPr>
            <a:xfrm>
              <a:off x="3419640" y="30877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320436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9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8"/>
            <a:stretch/>
          </p:blipFill>
          <p:spPr>
            <a:xfrm>
              <a:off x="383868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9"/>
            <a:stretch/>
          </p:blipFill>
          <p:spPr>
            <a:xfrm>
              <a:off x="383868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10"/>
            <a:stretch/>
          </p:blipFill>
          <p:spPr>
            <a:xfrm>
              <a:off x="383868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363636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0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11"/>
            <a:stretch/>
          </p:blipFill>
          <p:spPr>
            <a:xfrm>
              <a:off x="428616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" descr=""/>
            <p:cNvPicPr/>
            <p:nvPr/>
          </p:nvPicPr>
          <p:blipFill>
            <a:blip r:embed="rId12"/>
            <a:stretch/>
          </p:blipFill>
          <p:spPr>
            <a:xfrm>
              <a:off x="428616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" descr=""/>
            <p:cNvPicPr/>
            <p:nvPr/>
          </p:nvPicPr>
          <p:blipFill>
            <a:blip r:embed="rId13"/>
            <a:stretch/>
          </p:blipFill>
          <p:spPr>
            <a:xfrm>
              <a:off x="428616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411084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1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4"/>
            <a:stretch/>
          </p:blipFill>
          <p:spPr>
            <a:xfrm>
              <a:off x="4721400" y="2390760"/>
              <a:ext cx="1285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" descr=""/>
            <p:cNvPicPr/>
            <p:nvPr/>
          </p:nvPicPr>
          <p:blipFill>
            <a:blip r:embed="rId15"/>
            <a:stretch/>
          </p:blipFill>
          <p:spPr>
            <a:xfrm>
              <a:off x="4721400" y="26290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16"/>
            <a:stretch/>
          </p:blipFill>
          <p:spPr>
            <a:xfrm>
              <a:off x="4721400" y="2849400"/>
              <a:ext cx="1285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17"/>
            <a:stretch/>
          </p:blipFill>
          <p:spPr>
            <a:xfrm>
              <a:off x="4721400" y="30862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454428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2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18"/>
            <a:stretch/>
          </p:blipFill>
          <p:spPr>
            <a:xfrm>
              <a:off x="514656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9"/>
            <a:stretch/>
          </p:blipFill>
          <p:spPr>
            <a:xfrm>
              <a:off x="514656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20"/>
            <a:stretch/>
          </p:blipFill>
          <p:spPr>
            <a:xfrm>
              <a:off x="514656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21"/>
            <a:stretch/>
          </p:blipFill>
          <p:spPr>
            <a:xfrm>
              <a:off x="514656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497628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3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22"/>
            <a:stretch/>
          </p:blipFill>
          <p:spPr>
            <a:xfrm>
              <a:off x="557208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" descr=""/>
            <p:cNvPicPr/>
            <p:nvPr/>
          </p:nvPicPr>
          <p:blipFill>
            <a:blip r:embed="rId23"/>
            <a:stretch/>
          </p:blipFill>
          <p:spPr>
            <a:xfrm>
              <a:off x="557208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" descr=""/>
            <p:cNvPicPr/>
            <p:nvPr/>
          </p:nvPicPr>
          <p:blipFill>
            <a:blip r:embed="rId24"/>
            <a:stretch/>
          </p:blipFill>
          <p:spPr>
            <a:xfrm>
              <a:off x="557208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25"/>
            <a:stretch/>
          </p:blipFill>
          <p:spPr>
            <a:xfrm>
              <a:off x="557208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540792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4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26"/>
            <a:stretch/>
          </p:blipFill>
          <p:spPr>
            <a:xfrm>
              <a:off x="2987640" y="2849400"/>
              <a:ext cx="1303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27"/>
            <a:stretch/>
          </p:blipFill>
          <p:spPr>
            <a:xfrm>
              <a:off x="2987640" y="3086280"/>
              <a:ext cx="1303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277272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8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4" name="" descr=""/>
            <p:cNvPicPr/>
            <p:nvPr/>
          </p:nvPicPr>
          <p:blipFill>
            <a:blip r:embed="rId28"/>
            <a:stretch/>
          </p:blipFill>
          <p:spPr>
            <a:xfrm>
              <a:off x="3579840" y="368136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3786120" y="3666960"/>
              <a:ext cx="14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= 10 christmas tre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6" name="" descr=""/>
            <p:cNvPicPr/>
            <p:nvPr/>
          </p:nvPicPr>
          <p:blipFill>
            <a:blip r:embed="rId29"/>
            <a:stretch/>
          </p:blipFill>
          <p:spPr>
            <a:xfrm>
              <a:off x="5564160" y="192420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30"/>
            <a:stretch/>
          </p:blipFill>
          <p:spPr>
            <a:xfrm>
              <a:off x="556416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31"/>
            <a:srcRect l="0" t="0" r="43413" b="-6783"/>
            <a:stretch/>
          </p:blipFill>
          <p:spPr>
            <a:xfrm>
              <a:off x="5138640" y="1924200"/>
              <a:ext cx="730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" descr=""/>
            <p:cNvPicPr/>
            <p:nvPr/>
          </p:nvPicPr>
          <p:blipFill>
            <a:blip r:embed="rId32"/>
            <a:stretch/>
          </p:blipFill>
          <p:spPr>
            <a:xfrm>
              <a:off x="513864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" descr=""/>
            <p:cNvPicPr/>
            <p:nvPr/>
          </p:nvPicPr>
          <p:blipFill>
            <a:blip r:embed="rId33"/>
            <a:stretch/>
          </p:blipFill>
          <p:spPr>
            <a:xfrm>
              <a:off x="4729320" y="2158920"/>
              <a:ext cx="1299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" descr=""/>
            <p:cNvPicPr/>
            <p:nvPr/>
          </p:nvPicPr>
          <p:blipFill>
            <a:blip r:embed="rId34"/>
            <a:srcRect l="0" t="0" r="43413" b="-6783"/>
            <a:stretch/>
          </p:blipFill>
          <p:spPr>
            <a:xfrm>
              <a:off x="3849840" y="2368440"/>
              <a:ext cx="74520" cy="2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3490920" y="3645000"/>
              <a:ext cx="1708200" cy="28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13" name=""/>
          <p:cNvGraphicFramePr/>
          <p:nvPr/>
        </p:nvGraphicFramePr>
        <p:xfrm>
          <a:off x="395280" y="1579680"/>
          <a:ext cx="1800360" cy="2577960"/>
        </p:xfrm>
        <a:graphic>
          <a:graphicData uri="http://schemas.openxmlformats.org/drawingml/2006/table">
            <a:tbl>
              <a:tblPr/>
              <a:tblGrid>
                <a:gridCol w="876240"/>
                <a:gridCol w="924120"/>
              </a:tblGrid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sold tre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8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9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1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2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3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4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474840" y="11955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TAB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03440" y="120168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PICTUR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97680" y="12016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PI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37120" y="41083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COLUMN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142680" y="41418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LIN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6156360" y="1557360"/>
          <a:ext cx="2879640" cy="22478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56360" y="1557360"/>
                    <a:ext cx="28796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1" name=""/>
          <p:cNvGraphicFramePr/>
          <p:nvPr/>
        </p:nvGraphicFramePr>
        <p:xfrm>
          <a:off x="250920" y="4437000"/>
          <a:ext cx="4392360" cy="23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437000"/>
                    <a:ext cx="43923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4859280" y="4508640"/>
          <a:ext cx="4133880" cy="2235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508640"/>
                    <a:ext cx="413388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250920" y="1159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What can you conclude - which chart is the most useful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50920" y="468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66"/>
                </a:solidFill>
                <a:latin typeface="Arial"/>
              </a:rPr>
              <a:t>Each chart is usefull in its own way. Which is the most usefull depends on our requests - what we want to read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2700360" y="1606680"/>
            <a:ext cx="3313080" cy="2376360"/>
            <a:chOff x="2700360" y="1606680"/>
            <a:chExt cx="3313080" cy="2376360"/>
          </a:xfrm>
        </p:grpSpPr>
        <p:sp>
          <p:nvSpPr>
            <p:cNvPr id="628" name=""/>
            <p:cNvSpPr/>
            <p:nvPr/>
          </p:nvSpPr>
          <p:spPr>
            <a:xfrm>
              <a:off x="2700360" y="1606680"/>
              <a:ext cx="3313080" cy="23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9" name="" descr=""/>
            <p:cNvPicPr/>
            <p:nvPr/>
          </p:nvPicPr>
          <p:blipFill>
            <a:blip r:embed="rId5"/>
            <a:stretch/>
          </p:blipFill>
          <p:spPr>
            <a:xfrm>
              <a:off x="3419640" y="26305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6"/>
            <a:stretch/>
          </p:blipFill>
          <p:spPr>
            <a:xfrm>
              <a:off x="3419640" y="285264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7"/>
            <a:stretch/>
          </p:blipFill>
          <p:spPr>
            <a:xfrm>
              <a:off x="3419640" y="30877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20436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9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3" name="" descr=""/>
            <p:cNvPicPr/>
            <p:nvPr/>
          </p:nvPicPr>
          <p:blipFill>
            <a:blip r:embed="rId8"/>
            <a:stretch/>
          </p:blipFill>
          <p:spPr>
            <a:xfrm>
              <a:off x="383868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9"/>
            <a:stretch/>
          </p:blipFill>
          <p:spPr>
            <a:xfrm>
              <a:off x="383868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10"/>
            <a:stretch/>
          </p:blipFill>
          <p:spPr>
            <a:xfrm>
              <a:off x="383868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363636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0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7" name="" descr=""/>
            <p:cNvPicPr/>
            <p:nvPr/>
          </p:nvPicPr>
          <p:blipFill>
            <a:blip r:embed="rId11"/>
            <a:stretch/>
          </p:blipFill>
          <p:spPr>
            <a:xfrm>
              <a:off x="428616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12"/>
            <a:stretch/>
          </p:blipFill>
          <p:spPr>
            <a:xfrm>
              <a:off x="428616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13"/>
            <a:stretch/>
          </p:blipFill>
          <p:spPr>
            <a:xfrm>
              <a:off x="428616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411084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1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4"/>
            <a:stretch/>
          </p:blipFill>
          <p:spPr>
            <a:xfrm>
              <a:off x="4721400" y="2390760"/>
              <a:ext cx="1285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15"/>
            <a:stretch/>
          </p:blipFill>
          <p:spPr>
            <a:xfrm>
              <a:off x="4721400" y="26290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" descr=""/>
            <p:cNvPicPr/>
            <p:nvPr/>
          </p:nvPicPr>
          <p:blipFill>
            <a:blip r:embed="rId16"/>
            <a:stretch/>
          </p:blipFill>
          <p:spPr>
            <a:xfrm>
              <a:off x="4721400" y="2849400"/>
              <a:ext cx="1285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17"/>
            <a:stretch/>
          </p:blipFill>
          <p:spPr>
            <a:xfrm>
              <a:off x="4721400" y="30862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454428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2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46" name="" descr=""/>
            <p:cNvPicPr/>
            <p:nvPr/>
          </p:nvPicPr>
          <p:blipFill>
            <a:blip r:embed="rId18"/>
            <a:stretch/>
          </p:blipFill>
          <p:spPr>
            <a:xfrm>
              <a:off x="514656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19"/>
            <a:stretch/>
          </p:blipFill>
          <p:spPr>
            <a:xfrm>
              <a:off x="514656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20"/>
            <a:stretch/>
          </p:blipFill>
          <p:spPr>
            <a:xfrm>
              <a:off x="514656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" descr=""/>
            <p:cNvPicPr/>
            <p:nvPr/>
          </p:nvPicPr>
          <p:blipFill>
            <a:blip r:embed="rId21"/>
            <a:stretch/>
          </p:blipFill>
          <p:spPr>
            <a:xfrm>
              <a:off x="514656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497628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3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1" name="" descr=""/>
            <p:cNvPicPr/>
            <p:nvPr/>
          </p:nvPicPr>
          <p:blipFill>
            <a:blip r:embed="rId22"/>
            <a:stretch/>
          </p:blipFill>
          <p:spPr>
            <a:xfrm>
              <a:off x="557208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23"/>
            <a:stretch/>
          </p:blipFill>
          <p:spPr>
            <a:xfrm>
              <a:off x="557208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24"/>
            <a:stretch/>
          </p:blipFill>
          <p:spPr>
            <a:xfrm>
              <a:off x="557208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25"/>
            <a:stretch/>
          </p:blipFill>
          <p:spPr>
            <a:xfrm>
              <a:off x="557208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40792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4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" descr=""/>
            <p:cNvPicPr/>
            <p:nvPr/>
          </p:nvPicPr>
          <p:blipFill>
            <a:blip r:embed="rId26"/>
            <a:stretch/>
          </p:blipFill>
          <p:spPr>
            <a:xfrm>
              <a:off x="2987640" y="2849400"/>
              <a:ext cx="1303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27"/>
            <a:stretch/>
          </p:blipFill>
          <p:spPr>
            <a:xfrm>
              <a:off x="2987640" y="3086280"/>
              <a:ext cx="1303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277272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8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9" name="" descr=""/>
            <p:cNvPicPr/>
            <p:nvPr/>
          </p:nvPicPr>
          <p:blipFill>
            <a:blip r:embed="rId28"/>
            <a:stretch/>
          </p:blipFill>
          <p:spPr>
            <a:xfrm>
              <a:off x="3579840" y="368136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3786120" y="3666960"/>
              <a:ext cx="14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= 10 christmas tre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29"/>
            <a:stretch/>
          </p:blipFill>
          <p:spPr>
            <a:xfrm>
              <a:off x="5564160" y="192420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30"/>
            <a:stretch/>
          </p:blipFill>
          <p:spPr>
            <a:xfrm>
              <a:off x="556416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" descr=""/>
            <p:cNvPicPr/>
            <p:nvPr/>
          </p:nvPicPr>
          <p:blipFill>
            <a:blip r:embed="rId31"/>
            <a:srcRect l="0" t="0" r="43413" b="-6783"/>
            <a:stretch/>
          </p:blipFill>
          <p:spPr>
            <a:xfrm>
              <a:off x="5138640" y="1924200"/>
              <a:ext cx="730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32"/>
            <a:stretch/>
          </p:blipFill>
          <p:spPr>
            <a:xfrm>
              <a:off x="513864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" descr=""/>
            <p:cNvPicPr/>
            <p:nvPr/>
          </p:nvPicPr>
          <p:blipFill>
            <a:blip r:embed="rId33"/>
            <a:stretch/>
          </p:blipFill>
          <p:spPr>
            <a:xfrm>
              <a:off x="4729320" y="2158920"/>
              <a:ext cx="1299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"/>
            <p:cNvPicPr/>
            <p:nvPr/>
          </p:nvPicPr>
          <p:blipFill>
            <a:blip r:embed="rId34"/>
            <a:srcRect l="0" t="0" r="43413" b="-6783"/>
            <a:stretch/>
          </p:blipFill>
          <p:spPr>
            <a:xfrm>
              <a:off x="3849840" y="2368440"/>
              <a:ext cx="74520" cy="2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3490920" y="3645000"/>
              <a:ext cx="1708200" cy="28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68" name=""/>
          <p:cNvGraphicFramePr/>
          <p:nvPr/>
        </p:nvGraphicFramePr>
        <p:xfrm>
          <a:off x="395280" y="1579680"/>
          <a:ext cx="1800360" cy="2577960"/>
        </p:xfrm>
        <a:graphic>
          <a:graphicData uri="http://schemas.openxmlformats.org/drawingml/2006/table">
            <a:tbl>
              <a:tblPr/>
              <a:tblGrid>
                <a:gridCol w="876240"/>
                <a:gridCol w="924120"/>
              </a:tblGrid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sold tre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8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9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1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2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3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4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669" name=""/>
          <p:cNvSpPr/>
          <p:nvPr/>
        </p:nvSpPr>
        <p:spPr>
          <a:xfrm>
            <a:off x="474840" y="11955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TAB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403440" y="120168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PICTUR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997680" y="12016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PI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437120" y="41083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COLUMN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142680" y="41418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LIN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6156360" y="1557360"/>
          <a:ext cx="2879640" cy="22478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56360" y="1557360"/>
                    <a:ext cx="28796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2556000" y="21747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ow let's learn some new terms in statistic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"/>
          <p:cNvGraphicFramePr/>
          <p:nvPr/>
        </p:nvGraphicFramePr>
        <p:xfrm>
          <a:off x="466560" y="1125360"/>
          <a:ext cx="1944720" cy="2416320"/>
        </p:xfrm>
        <a:graphic>
          <a:graphicData uri="http://schemas.openxmlformats.org/drawingml/2006/table">
            <a:tbl>
              <a:tblPr/>
              <a:tblGrid>
                <a:gridCol w="946440"/>
                <a:gridCol w="9982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sold tre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8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9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1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2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3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4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678" name=""/>
          <p:cNvSpPr/>
          <p:nvPr/>
        </p:nvSpPr>
        <p:spPr>
          <a:xfrm>
            <a:off x="324000" y="26028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 our example, students presented success of selling of christmas trees in period from 18.12. to 24.1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987640" y="14922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ften is useful to know what is total number of counted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11280" y="3645000"/>
            <a:ext cx="172872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8000"/>
                </a:solidFill>
                <a:latin typeface="Comic Sans MS"/>
              </a:rPr>
              <a:t>Total: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987640" y="220500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6600"/>
                </a:solidFill>
                <a:uFillTx/>
                <a:latin typeface="Arial"/>
              </a:rPr>
              <a:t>Categories</a:t>
            </a: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for partition are always written in the first column. In this example categories are dates - we counted how much trees was sold each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5280" y="1341360"/>
            <a:ext cx="1008000" cy="2303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44360" y="465300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CATEG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987640" y="335772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Numbers of sold trees are placed in the second column. These numbers are called  </a:t>
            </a:r>
            <a:r>
              <a:rPr b="1" lang="hr-HR" sz="1800" spc="-1" strike="noStrike" u="sng">
                <a:solidFill>
                  <a:srgbClr val="ff6600"/>
                </a:solidFill>
                <a:uFillTx/>
                <a:latin typeface="Arial"/>
              </a:rPr>
              <a:t>frequencies (absolute frequencies)</a:t>
            </a: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f categor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03280" y="1341360"/>
            <a:ext cx="935280" cy="2303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655640" y="465300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7" name=""/>
          <p:cNvCxnSpPr>
            <a:stCxn id="682" idx="2"/>
          </p:cNvCxnSpPr>
          <p:nvPr/>
        </p:nvCxnSpPr>
        <p:spPr>
          <a:xfrm flipV="1" rot="10800000">
            <a:off x="178560" y="2493720"/>
            <a:ext cx="202320" cy="2086560"/>
          </a:xfrm>
          <a:prstGeom prst="bentConnector2">
            <a:avLst/>
          </a:prstGeom>
          <a:ln w="28440">
            <a:solidFill>
              <a:srgbClr val="ff6600"/>
            </a:solidFill>
            <a:miter/>
          </a:ln>
        </p:spPr>
      </p:cxnSp>
      <p:cxnSp>
        <p:nvCxnSpPr>
          <p:cNvPr id="688" name=""/>
          <p:cNvCxnSpPr/>
          <p:nvPr/>
        </p:nvCxnSpPr>
        <p:spPr>
          <a:xfrm flipH="1" rot="16200000">
            <a:off x="1691280" y="3573360"/>
            <a:ext cx="1512000" cy="359640"/>
          </a:xfrm>
          <a:prstGeom prst="bentConnector3">
            <a:avLst>
              <a:gd name="adj1" fmla="val -404"/>
            </a:avLst>
          </a:prstGeom>
          <a:ln w="28440">
            <a:solidFill>
              <a:srgbClr val="ff6600"/>
            </a:solidFill>
            <a:miter/>
          </a:ln>
        </p:spPr>
      </p:cxnSp>
      <p:sp>
        <p:nvSpPr>
          <p:cNvPr id="689" name=""/>
          <p:cNvSpPr/>
          <p:nvPr/>
        </p:nvSpPr>
        <p:spPr>
          <a:xfrm>
            <a:off x="3851280" y="436572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ften is useful to know, not only how much trees were sold each day, but what parts are these numbers from the total number. These numbers are called </a:t>
            </a:r>
            <a:r>
              <a:rPr b="1" lang="hr-HR" sz="1800" spc="-1" strike="noStrike" u="sng">
                <a:solidFill>
                  <a:srgbClr val="ff6600"/>
                </a:solidFill>
                <a:uFillTx/>
                <a:latin typeface="Arial"/>
              </a:rPr>
              <a:t>relative frequencies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851280" y="5734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Relative frequencies can be expressed as fractions, decimal numbers or perc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619280" y="36450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8000"/>
                </a:solidFill>
                <a:latin typeface="Comic Sans MS"/>
              </a:rPr>
              <a:t>28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2" name=""/>
          <p:cNvGraphicFramePr/>
          <p:nvPr/>
        </p:nvGraphicFramePr>
        <p:xfrm>
          <a:off x="539640" y="1125360"/>
          <a:ext cx="3816360" cy="359892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1944720"/>
              </a:tblGrid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frequenc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relative frequenc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8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9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1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2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3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4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693" name=""/>
          <p:cNvSpPr/>
          <p:nvPr/>
        </p:nvSpPr>
        <p:spPr>
          <a:xfrm>
            <a:off x="682560" y="5013360"/>
            <a:ext cx="172872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8000"/>
                </a:solidFill>
                <a:latin typeface="Comic Sans MS"/>
              </a:rPr>
              <a:t>Total:   28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90920" y="208440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20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571840" y="246060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30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571840" y="285264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35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571840" y="32529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30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571840" y="36291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50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571840" y="39895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55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571840" y="43657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60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28920" y="20829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7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309840" y="24591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11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309840" y="285120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13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309840" y="32511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11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309840" y="36273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18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309840" y="39877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2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09840" y="43639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21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48360" y="4005360"/>
            <a:ext cx="36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6600"/>
                </a:solidFill>
                <a:latin typeface="Arial"/>
              </a:rPr>
              <a:t>When we figure out relative frequencies, then we can draw a pie cha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6600"/>
                </a:solidFill>
                <a:latin typeface="Arial"/>
              </a:rPr>
              <a:t>And inversely, if we have got a pie chart, we can read relative frequencies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266920" y="1773360"/>
            <a:ext cx="2160720" cy="33130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427640" y="2708280"/>
            <a:ext cx="792000" cy="712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203640" y="2076480"/>
            <a:ext cx="3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328920" y="20923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?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24000" y="26028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 our example, students presented success of selling of christmas trees in period from 18.12. to 24.1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5219640" y="1125360"/>
          <a:ext cx="3600360" cy="28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25360"/>
                    <a:ext cx="3600360" cy="28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6" name=""/>
          <p:cNvGraphicFramePr/>
          <p:nvPr/>
        </p:nvGraphicFramePr>
        <p:xfrm>
          <a:off x="539640" y="1125360"/>
          <a:ext cx="3816360" cy="359892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1944720"/>
              </a:tblGrid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frequenc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relative frequenc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8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9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1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2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3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4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>
            <a:off x="2590920" y="208440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20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71840" y="246060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30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571840" y="285264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35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571840" y="32529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30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71840" y="36291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50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71840" y="39895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55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571840" y="43657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60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328920" y="20829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7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309840" y="24591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11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309840" y="285120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13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309840" y="32511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11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309840" y="36273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18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309840" y="39877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2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309840" y="43639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21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4643280" y="4332240"/>
          <a:ext cx="4321440" cy="23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4332240"/>
                    <a:ext cx="432144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324000" y="54450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6600"/>
                </a:solidFill>
                <a:latin typeface="Arial"/>
              </a:rPr>
              <a:t>If we know the frequencies, we can use them to draw the column char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6600"/>
                </a:solidFill>
                <a:latin typeface="Arial"/>
              </a:rPr>
              <a:t>And inversely, we can read the frequencies from the column cha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547640" y="1989000"/>
            <a:ext cx="720720" cy="28083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050920" y="4723920"/>
            <a:ext cx="720720" cy="576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71640" y="5300640"/>
            <a:ext cx="187164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24000" y="26028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 our example, students presented success of selling of christmas trees in period from 18.12. to 24.1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8" name=""/>
          <p:cNvGraphicFramePr/>
          <p:nvPr/>
        </p:nvGraphicFramePr>
        <p:xfrm>
          <a:off x="539640" y="1125360"/>
          <a:ext cx="3816360" cy="359892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1944720"/>
              </a:tblGrid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frequenc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relative frequenc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8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9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1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2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3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4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739" name=""/>
          <p:cNvSpPr/>
          <p:nvPr/>
        </p:nvSpPr>
        <p:spPr>
          <a:xfrm>
            <a:off x="2590920" y="208440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20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571840" y="246060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30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571840" y="285264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35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571840" y="32529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30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571840" y="36291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50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571840" y="39895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55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571840" y="43657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60/2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328920" y="20829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7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309840" y="24591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11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309840" y="285120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13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309840" y="32511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11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309840" y="36273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18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309840" y="39877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2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309840" y="43639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21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627280" y="55245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6600"/>
                </a:solidFill>
                <a:latin typeface="Arial"/>
              </a:rPr>
              <a:t>The same is with the line chart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547640" y="1989000"/>
            <a:ext cx="720720" cy="28083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 flipV="1">
            <a:off x="2050920" y="4723920"/>
            <a:ext cx="720720" cy="576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71640" y="5300640"/>
            <a:ext cx="187164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4830840" y="4437000"/>
          <a:ext cx="4133880" cy="22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0840" y="4437000"/>
                    <a:ext cx="413388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"/>
          <p:cNvSpPr/>
          <p:nvPr/>
        </p:nvSpPr>
        <p:spPr>
          <a:xfrm>
            <a:off x="324000" y="26028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 our example, students presented success of selling of christmas trees in period from 18.12. to 24.1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330480" y="26028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Column and line charts are useful if we want to compare some datas,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1" name=""/>
          <p:cNvGraphicFramePr/>
          <p:nvPr/>
        </p:nvGraphicFramePr>
        <p:xfrm>
          <a:off x="395280" y="981000"/>
          <a:ext cx="4667400" cy="25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466740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"/>
          <p:cNvGraphicFramePr/>
          <p:nvPr/>
        </p:nvGraphicFramePr>
        <p:xfrm>
          <a:off x="3348000" y="3933720"/>
          <a:ext cx="4896000" cy="2543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933720"/>
                    <a:ext cx="489600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30480" y="26028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Column and line charts are useful if we want to compare some datas,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3492360" y="3789360"/>
          <a:ext cx="540072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789360"/>
                    <a:ext cx="54007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539640" y="1052640"/>
          <a:ext cx="5040360" cy="2525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052640"/>
                    <a:ext cx="5040360" cy="25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00000" y="1052640"/>
            <a:ext cx="664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n the newspaper, on the TV, on the Internet, in the school etc. we can find a lot of infor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2062080"/>
            <a:ext cx="69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t's useful to write them in easy and clear wa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o that would be easy to find what we are interested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nd present to others what is impor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3429000"/>
            <a:ext cx="69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lso, it's very important to know to read from many notations what we are interested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4632480"/>
            <a:ext cx="5832360" cy="1191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he part of mathematics that collects, organizes and analyses datas is called </a:t>
            </a:r>
            <a:r>
              <a:rPr b="1" lang="hr-HR" sz="2400" spc="-1" strike="noStrike" u="sng">
                <a:solidFill>
                  <a:srgbClr val="ff6600"/>
                </a:solidFill>
                <a:uFillTx/>
                <a:latin typeface="Arial"/>
              </a:rPr>
              <a:t>statistics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526680" y="333360"/>
            <a:ext cx="73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What is presented in the following chart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Can you see what is difference between previous chartes and this on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13760" y="4724280"/>
            <a:ext cx="90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Each of these rectangles </a:t>
            </a:r>
            <a:r>
              <a:rPr b="0" lang="hr-HR" sz="1800" spc="-1" strike="noStrike" u="sng">
                <a:solidFill>
                  <a:srgbClr val="ffffff"/>
                </a:solidFill>
                <a:uFillTx/>
                <a:latin typeface="Arial"/>
              </a:rPr>
              <a:t>doesn't present single amount of money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, but </a:t>
            </a:r>
            <a:r>
              <a:rPr b="0" lang="hr-HR" sz="1800" spc="-1" strike="noStrike" u="sng">
                <a:solidFill>
                  <a:srgbClr val="ffffff"/>
                </a:solidFill>
                <a:uFillTx/>
                <a:latin typeface="Arial"/>
              </a:rPr>
              <a:t>interval "from-to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760" y="517860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uch chart is called </a:t>
            </a:r>
            <a:r>
              <a:rPr b="1" lang="hr-HR" sz="2000" spc="-1" strike="noStrike" u="sng">
                <a:solidFill>
                  <a:srgbClr val="ff6600"/>
                </a:solidFill>
                <a:uFillTx/>
                <a:latin typeface="Arial"/>
              </a:rPr>
              <a:t>histogram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11960" y="5680080"/>
            <a:ext cx="41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 histogram, rectangles are connec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1403280" y="1330200"/>
          <a:ext cx="6264360" cy="306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330200"/>
                    <a:ext cx="6264360" cy="30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1979640" y="246204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Let's perceive new terms in the following 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7" name=""/>
          <p:cNvGraphicFramePr/>
          <p:nvPr/>
        </p:nvGraphicFramePr>
        <p:xfrm>
          <a:off x="2411280" y="1125360"/>
          <a:ext cx="1944720" cy="225108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relative frequenc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778" name=""/>
          <p:cNvGraphicFramePr/>
          <p:nvPr/>
        </p:nvGraphicFramePr>
        <p:xfrm>
          <a:off x="539640" y="1125360"/>
          <a:ext cx="1871640" cy="2260800"/>
        </p:xfrm>
        <a:graphic>
          <a:graphicData uri="http://schemas.openxmlformats.org/drawingml/2006/table">
            <a:tbl>
              <a:tblPr/>
              <a:tblGrid>
                <a:gridCol w="1008000"/>
                <a:gridCol w="86364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candida-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umber of vo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v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Mar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Per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rag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779" name=""/>
          <p:cNvSpPr/>
          <p:nvPr/>
        </p:nvSpPr>
        <p:spPr>
          <a:xfrm>
            <a:off x="108000" y="4698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Vote for president of the 8.c cla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646360" y="188424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5/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627280" y="226044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8/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627280" y="265284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9/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627280" y="305280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3/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203640" y="188280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2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01840" y="2259000"/>
            <a:ext cx="10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32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1840" y="2651040"/>
            <a:ext cx="10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36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201840" y="3051000"/>
            <a:ext cx="10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12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97640" y="500688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 this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91880" y="5423040"/>
            <a:ext cx="66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Categories are _________________________________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20160" y="5430960"/>
            <a:ext cx="46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cc66"/>
                </a:solidFill>
                <a:latin typeface="Arial"/>
              </a:rPr>
              <a:t>candidates </a:t>
            </a:r>
            <a:r>
              <a:rPr b="0" lang="hr-HR" sz="1400" spc="-1" strike="noStrike">
                <a:solidFill>
                  <a:srgbClr val="ffcc66"/>
                </a:solidFill>
                <a:latin typeface="Arial"/>
              </a:rPr>
              <a:t>(we count who voted for which candidat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95840" y="5854680"/>
            <a:ext cx="86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Frequencies are ________________________________________________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948680" y="5862600"/>
            <a:ext cx="65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cc66"/>
                </a:solidFill>
                <a:latin typeface="Arial"/>
              </a:rPr>
              <a:t>numbers that tell to us how many votes did which candidate 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95840" y="6300720"/>
            <a:ext cx="89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Relative frequencies are ____________________________________________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705040" y="6332400"/>
            <a:ext cx="62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cc66"/>
                </a:solidFill>
                <a:latin typeface="Arial"/>
              </a:rPr>
              <a:t>numbers that tell to us what part of all votes did which candidate 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66560" y="1773360"/>
            <a:ext cx="1081080" cy="17269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64500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categ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criterias for part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1st colum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"/>
          <p:cNvCxnSpPr>
            <a:stCxn id="795" idx="2"/>
          </p:cNvCxnSpPr>
          <p:nvPr/>
        </p:nvCxnSpPr>
        <p:spPr>
          <a:xfrm flipV="1" rot="10800000">
            <a:off x="250200" y="2636640"/>
            <a:ext cx="202320" cy="864000"/>
          </a:xfrm>
          <a:prstGeom prst="bentConnector2">
            <a:avLst/>
          </a:prstGeom>
          <a:ln w="28440">
            <a:solidFill>
              <a:srgbClr val="ff66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1547640" y="1773360"/>
            <a:ext cx="863640" cy="17287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517840" y="3645000"/>
            <a:ext cx="443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frequenc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numbers of objects in each categor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2nd colum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122560" y="3429000"/>
            <a:ext cx="288720" cy="216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89280" y="381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cc66"/>
                </a:solidFill>
                <a:uFillTx/>
                <a:latin typeface="Arial"/>
              </a:rPr>
              <a:t>Example 1.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184560" y="190008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3" name=""/>
          <p:cNvGraphicFramePr/>
          <p:nvPr/>
        </p:nvGraphicFramePr>
        <p:xfrm>
          <a:off x="179280" y="4344840"/>
          <a:ext cx="4545000" cy="24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44840"/>
                    <a:ext cx="4545000" cy="24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900000" y="5950080"/>
            <a:ext cx="3743280" cy="647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4643280" y="5892480"/>
            <a:ext cx="649440" cy="360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292720" y="566244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categor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criterias for part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x-ax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24000" y="4365720"/>
            <a:ext cx="792000" cy="19429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934920" y="4510080"/>
            <a:ext cx="5329440" cy="216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443640" y="436572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how many objects are in each categor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y-ax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2411280" y="1131840"/>
          <a:ext cx="1944720" cy="225108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relative frequenc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812" name=""/>
          <p:cNvGraphicFramePr/>
          <p:nvPr/>
        </p:nvGraphicFramePr>
        <p:xfrm>
          <a:off x="539640" y="1131840"/>
          <a:ext cx="1871640" cy="2260800"/>
        </p:xfrm>
        <a:graphic>
          <a:graphicData uri="http://schemas.openxmlformats.org/drawingml/2006/table">
            <a:tbl>
              <a:tblPr/>
              <a:tblGrid>
                <a:gridCol w="1008000"/>
                <a:gridCol w="86364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candida-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umber of vo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v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Mar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Per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rag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813" name=""/>
          <p:cNvSpPr/>
          <p:nvPr/>
        </p:nvSpPr>
        <p:spPr>
          <a:xfrm>
            <a:off x="108000" y="476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Vote for president of the 8.c cla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646360" y="18907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5/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27280" y="22669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8/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627280" y="26589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9/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27280" y="305928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3/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203640" y="188928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2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201840" y="2265480"/>
            <a:ext cx="10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32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201840" y="2657520"/>
            <a:ext cx="10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36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201840" y="3057480"/>
            <a:ext cx="10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12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66560" y="1779480"/>
            <a:ext cx="1081080" cy="1727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365112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categ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criterias for part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4" name=""/>
          <p:cNvCxnSpPr>
            <a:stCxn id="822" idx="2"/>
          </p:cNvCxnSpPr>
          <p:nvPr/>
        </p:nvCxnSpPr>
        <p:spPr>
          <a:xfrm flipV="1" rot="10800000">
            <a:off x="250200" y="2642040"/>
            <a:ext cx="202320" cy="864360"/>
          </a:xfrm>
          <a:prstGeom prst="bentConnector2">
            <a:avLst/>
          </a:prstGeom>
          <a:ln w="28440">
            <a:solidFill>
              <a:srgbClr val="ff6600"/>
            </a:solidFill>
            <a:miter/>
          </a:ln>
        </p:spPr>
      </p:cxnSp>
      <p:sp>
        <p:nvSpPr>
          <p:cNvPr id="825" name=""/>
          <p:cNvSpPr/>
          <p:nvPr/>
        </p:nvSpPr>
        <p:spPr>
          <a:xfrm>
            <a:off x="1547640" y="1779480"/>
            <a:ext cx="863640" cy="17287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517840" y="3651120"/>
            <a:ext cx="44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frequenc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numbers of objects in each categor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122560" y="3435480"/>
            <a:ext cx="288720" cy="215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9280" y="44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cc66"/>
                </a:solidFill>
                <a:uFillTx/>
                <a:latin typeface="Arial"/>
              </a:rPr>
              <a:t>Example 1.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9" name=""/>
          <p:cNvGraphicFramePr/>
          <p:nvPr/>
        </p:nvGraphicFramePr>
        <p:xfrm>
          <a:off x="611280" y="4483080"/>
          <a:ext cx="4248000" cy="23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483080"/>
                    <a:ext cx="42480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>
            <a:off x="3637080" y="5157720"/>
            <a:ext cx="934920" cy="1295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72000" y="6021360"/>
            <a:ext cx="720720" cy="144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292720" y="5950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categor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criterias for part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763640" y="4797360"/>
            <a:ext cx="43200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268360" y="4581000"/>
            <a:ext cx="4104000" cy="360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372360" y="436572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relative 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what part of all objects is in each categor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43280" y="4869000"/>
            <a:ext cx="431640" cy="431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6205680"/>
            <a:ext cx="431640" cy="431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16160" y="5918040"/>
            <a:ext cx="43164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3276720" y="4652640"/>
            <a:ext cx="3024000" cy="360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1692360" y="4723920"/>
            <a:ext cx="4608360" cy="12970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3348000" y="4797360"/>
            <a:ext cx="2952720" cy="1511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2411280" y="1131840"/>
          <a:ext cx="1944720" cy="225108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relative frequenc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844" name=""/>
          <p:cNvGraphicFramePr/>
          <p:nvPr/>
        </p:nvGraphicFramePr>
        <p:xfrm>
          <a:off x="539640" y="1131840"/>
          <a:ext cx="1871640" cy="2260800"/>
        </p:xfrm>
        <a:graphic>
          <a:graphicData uri="http://schemas.openxmlformats.org/drawingml/2006/table">
            <a:tbl>
              <a:tblPr/>
              <a:tblGrid>
                <a:gridCol w="1008000"/>
                <a:gridCol w="86364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candida-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umber of vo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v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Mar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Per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rag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845" name=""/>
          <p:cNvSpPr/>
          <p:nvPr/>
        </p:nvSpPr>
        <p:spPr>
          <a:xfrm>
            <a:off x="108000" y="476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Vote for president of the 8.c cla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646360" y="18907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5/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7280" y="22669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8/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627280" y="26589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9/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627280" y="305928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3/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203640" y="188928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2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01840" y="2265480"/>
            <a:ext cx="10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32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201840" y="2657520"/>
            <a:ext cx="10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36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201840" y="3057480"/>
            <a:ext cx="10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12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66560" y="1779480"/>
            <a:ext cx="1081080" cy="1727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365112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categ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criterias for part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6" name=""/>
          <p:cNvCxnSpPr>
            <a:stCxn id="854" idx="2"/>
          </p:cNvCxnSpPr>
          <p:nvPr/>
        </p:nvCxnSpPr>
        <p:spPr>
          <a:xfrm flipV="1" rot="10800000">
            <a:off x="250200" y="2642040"/>
            <a:ext cx="202320" cy="864360"/>
          </a:xfrm>
          <a:prstGeom prst="bentConnector2">
            <a:avLst/>
          </a:prstGeom>
          <a:ln w="28440">
            <a:solidFill>
              <a:srgbClr val="ff6600"/>
            </a:solidFill>
            <a:miter/>
          </a:ln>
        </p:spPr>
      </p:cxnSp>
      <p:sp>
        <p:nvSpPr>
          <p:cNvPr id="857" name=""/>
          <p:cNvSpPr/>
          <p:nvPr/>
        </p:nvSpPr>
        <p:spPr>
          <a:xfrm>
            <a:off x="1547640" y="1779480"/>
            <a:ext cx="863640" cy="17287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517840" y="3651120"/>
            <a:ext cx="44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frequenc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numbers of objects in each categor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122560" y="3435480"/>
            <a:ext cx="288720" cy="215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7840" y="44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cc66"/>
                </a:solidFill>
                <a:uFillTx/>
                <a:latin typeface="Arial"/>
              </a:rPr>
              <a:t>Example 1.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6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1" name=""/>
          <p:cNvGraphicFramePr/>
          <p:nvPr/>
        </p:nvGraphicFramePr>
        <p:xfrm>
          <a:off x="2411280" y="1125360"/>
          <a:ext cx="1944720" cy="186876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relative frequenc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862" name=""/>
          <p:cNvGraphicFramePr/>
          <p:nvPr/>
        </p:nvGraphicFramePr>
        <p:xfrm>
          <a:off x="395280" y="1125360"/>
          <a:ext cx="2016000" cy="1868760"/>
        </p:xfrm>
        <a:graphic>
          <a:graphicData uri="http://schemas.openxmlformats.org/drawingml/2006/table">
            <a:tbl>
              <a:tblPr/>
              <a:tblGrid>
                <a:gridCol w="1081080"/>
                <a:gridCol w="93492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soccer clu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umber of fa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inam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Hajdu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863" name=""/>
          <p:cNvSpPr/>
          <p:nvPr/>
        </p:nvSpPr>
        <p:spPr>
          <a:xfrm>
            <a:off x="108000" y="404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What soccer club do students of 7.a class suppor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646360" y="188424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11/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627280" y="226044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7/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627280" y="265284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3/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203640" y="188280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53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201840" y="2259000"/>
            <a:ext cx="10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33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201840" y="2651040"/>
            <a:ext cx="10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14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18320" y="45752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 this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06800" y="5084640"/>
            <a:ext cx="62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Categories are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______________________________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2640" y="509256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cc66"/>
                </a:solidFill>
                <a:latin typeface="Arial"/>
              </a:rPr>
              <a:t>soccer clubs </a:t>
            </a:r>
            <a:r>
              <a:rPr b="0" lang="hr-HR" sz="1400" spc="-1" strike="noStrike">
                <a:solidFill>
                  <a:srgbClr val="ffcc66"/>
                </a:solidFill>
                <a:latin typeface="Arial"/>
              </a:rPr>
              <a:t>(we count who supports which clu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10760" y="5516640"/>
            <a:ext cx="82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Frequencies are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_____________________________________________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129040" y="5524560"/>
            <a:ext cx="64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cc66"/>
                </a:solidFill>
                <a:latin typeface="Arial"/>
              </a:rPr>
              <a:t>numbers that tell to us how many students support which cl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11120" y="596268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Relative frequencies are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__________________________________________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942640" y="5994360"/>
            <a:ext cx="61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cc66"/>
                </a:solidFill>
                <a:latin typeface="Arial"/>
              </a:rPr>
              <a:t>numbers that tell to us what part of whole class support which clu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95280" y="1773360"/>
            <a:ext cx="1081080" cy="129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335772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categ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criterias for part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1st colum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9" name=""/>
          <p:cNvCxnSpPr>
            <a:stCxn id="877" idx="2"/>
          </p:cNvCxnSpPr>
          <p:nvPr/>
        </p:nvCxnSpPr>
        <p:spPr>
          <a:xfrm flipV="1" rot="10800000">
            <a:off x="178560" y="2419920"/>
            <a:ext cx="202320" cy="864360"/>
          </a:xfrm>
          <a:prstGeom prst="bentConnector2">
            <a:avLst/>
          </a:prstGeom>
          <a:ln w="28440">
            <a:solidFill>
              <a:srgbClr val="ff6600"/>
            </a:solidFill>
            <a:miter/>
          </a:ln>
        </p:spPr>
      </p:cxnSp>
      <p:sp>
        <p:nvSpPr>
          <p:cNvPr id="880" name=""/>
          <p:cNvSpPr/>
          <p:nvPr/>
        </p:nvSpPr>
        <p:spPr>
          <a:xfrm>
            <a:off x="1547640" y="1844640"/>
            <a:ext cx="863640" cy="1224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517840" y="3357720"/>
            <a:ext cx="443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frequenc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numbers of objects in each categor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2nd colum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122560" y="3068640"/>
            <a:ext cx="288720" cy="216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9280" y="381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cc66"/>
                </a:solidFill>
                <a:uFillTx/>
                <a:latin typeface="Arial"/>
              </a:rPr>
              <a:t>Example 2.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395280" y="4276800"/>
          <a:ext cx="4608360" cy="246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276800"/>
                    <a:ext cx="460836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"/>
          <p:cNvSpPr/>
          <p:nvPr/>
        </p:nvSpPr>
        <p:spPr>
          <a:xfrm>
            <a:off x="1152360" y="5950080"/>
            <a:ext cx="3743640" cy="647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4932360" y="6092640"/>
            <a:ext cx="647640" cy="144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545080" y="5826240"/>
            <a:ext cx="27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categor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criterias for part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x-ax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39640" y="4365720"/>
            <a:ext cx="792360" cy="19429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258920" y="4581360"/>
            <a:ext cx="5113440" cy="216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516720" y="4365720"/>
            <a:ext cx="24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how many objects are in each categor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y-ax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2" name=""/>
          <p:cNvGraphicFramePr/>
          <p:nvPr/>
        </p:nvGraphicFramePr>
        <p:xfrm>
          <a:off x="2446200" y="1131840"/>
          <a:ext cx="1944720" cy="186840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relative frequenc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893" name=""/>
          <p:cNvGraphicFramePr/>
          <p:nvPr/>
        </p:nvGraphicFramePr>
        <p:xfrm>
          <a:off x="430200" y="1131840"/>
          <a:ext cx="2016000" cy="1868400"/>
        </p:xfrm>
        <a:graphic>
          <a:graphicData uri="http://schemas.openxmlformats.org/drawingml/2006/table">
            <a:tbl>
              <a:tblPr/>
              <a:tblGrid>
                <a:gridCol w="1081080"/>
                <a:gridCol w="93492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soccer clu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umber of fa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inam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Hajdu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894" name=""/>
          <p:cNvSpPr/>
          <p:nvPr/>
        </p:nvSpPr>
        <p:spPr>
          <a:xfrm>
            <a:off x="142920" y="4111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What soccer club do students of 7.a class support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681280" y="18907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11/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662200" y="226692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7/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662200" y="265896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3/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238560" y="188928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53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236760" y="2265480"/>
            <a:ext cx="10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33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236760" y="2657520"/>
            <a:ext cx="10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14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30200" y="1779480"/>
            <a:ext cx="1081080" cy="1295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4920" y="33638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categ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criterias for part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1st colum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3" name=""/>
          <p:cNvCxnSpPr>
            <a:stCxn id="901" idx="2"/>
          </p:cNvCxnSpPr>
          <p:nvPr/>
        </p:nvCxnSpPr>
        <p:spPr>
          <a:xfrm flipV="1" rot="10800000">
            <a:off x="213480" y="2426040"/>
            <a:ext cx="202320" cy="864360"/>
          </a:xfrm>
          <a:prstGeom prst="bentConnector2">
            <a:avLst/>
          </a:prstGeom>
          <a:ln w="28440">
            <a:solidFill>
              <a:srgbClr val="ff66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1582560" y="1851120"/>
            <a:ext cx="863640" cy="1224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552760" y="3363840"/>
            <a:ext cx="443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frequenc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numbers of objects in each categor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2nd colum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157480" y="3075120"/>
            <a:ext cx="288720" cy="215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24200" y="44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cc66"/>
                </a:solidFill>
                <a:uFillTx/>
                <a:latin typeface="Arial"/>
              </a:rPr>
              <a:t>Example 2.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8" name=""/>
          <p:cNvGraphicFramePr/>
          <p:nvPr/>
        </p:nvGraphicFramePr>
        <p:xfrm>
          <a:off x="611280" y="4324320"/>
          <a:ext cx="4176720" cy="24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324320"/>
                    <a:ext cx="4176720" cy="24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"/>
          <p:cNvGraphicFramePr/>
          <p:nvPr/>
        </p:nvGraphicFramePr>
        <p:xfrm>
          <a:off x="2411280" y="1125360"/>
          <a:ext cx="1944720" cy="186876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relativna frekvenci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911" name=""/>
          <p:cNvGraphicFramePr/>
          <p:nvPr/>
        </p:nvGraphicFramePr>
        <p:xfrm>
          <a:off x="395280" y="1125360"/>
          <a:ext cx="2016000" cy="1868760"/>
        </p:xfrm>
        <a:graphic>
          <a:graphicData uri="http://schemas.openxmlformats.org/drawingml/2006/table">
            <a:tbl>
              <a:tblPr/>
              <a:tblGrid>
                <a:gridCol w="1081080"/>
                <a:gridCol w="93492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ogometni klu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broj navijač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inam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Hajdu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ostal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912" name=""/>
          <p:cNvSpPr/>
          <p:nvPr/>
        </p:nvSpPr>
        <p:spPr>
          <a:xfrm>
            <a:off x="108000" y="404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Za koje nogometne klubove navijaju učenici 7.a razred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646360" y="188424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11/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627280" y="226044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7/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627280" y="265284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3/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203640" y="1882800"/>
            <a:ext cx="10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53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201840" y="2259000"/>
            <a:ext cx="10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33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201840" y="2651040"/>
            <a:ext cx="102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8000"/>
                </a:solidFill>
                <a:latin typeface="Comic Sans MS"/>
              </a:rPr>
              <a:t>=  14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95280" y="1773360"/>
            <a:ext cx="1081080" cy="129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335772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obilježj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kriteriji za podjel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1. stup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1" name=""/>
          <p:cNvCxnSpPr>
            <a:stCxn id="919" idx="2"/>
          </p:cNvCxnSpPr>
          <p:nvPr/>
        </p:nvCxnSpPr>
        <p:spPr>
          <a:xfrm flipV="1" rot="10800000">
            <a:off x="178560" y="2419920"/>
            <a:ext cx="202320" cy="864360"/>
          </a:xfrm>
          <a:prstGeom prst="bentConnector2">
            <a:avLst/>
          </a:prstGeom>
          <a:ln w="28440">
            <a:solidFill>
              <a:srgbClr val="ff6600"/>
            </a:solidFill>
            <a:miter/>
          </a:ln>
        </p:spPr>
      </p:cxnSp>
      <p:sp>
        <p:nvSpPr>
          <p:cNvPr id="922" name=""/>
          <p:cNvSpPr/>
          <p:nvPr/>
        </p:nvSpPr>
        <p:spPr>
          <a:xfrm>
            <a:off x="1547640" y="1844640"/>
            <a:ext cx="863640" cy="1224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228760" y="3357720"/>
            <a:ext cx="443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frekvencij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brojevi objekata u pojedinim skupina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2. stup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122560" y="3068640"/>
            <a:ext cx="288720" cy="216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89280" y="38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cc66"/>
                </a:solidFill>
                <a:uFillTx/>
                <a:latin typeface="Arial"/>
              </a:rPr>
              <a:t>Primjer 2.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564000" y="5156280"/>
            <a:ext cx="934920" cy="115236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425840" y="5948280"/>
            <a:ext cx="649440" cy="1447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075280" y="5877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categor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criterias for parti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763640" y="4869000"/>
            <a:ext cx="432000" cy="43164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195640" y="4508640"/>
            <a:ext cx="3671640" cy="57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938920" y="42926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5c984"/>
                </a:solidFill>
                <a:latin typeface="Arial"/>
              </a:rPr>
              <a:t>relative 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what part of all objects is in each categor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987640" y="5589720"/>
            <a:ext cx="432000" cy="43164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476360" y="5773680"/>
            <a:ext cx="431640" cy="43200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419640" y="4653000"/>
            <a:ext cx="2520720" cy="1008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1908000" y="4581000"/>
            <a:ext cx="4032360" cy="12956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6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709440" y="172548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hat's all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427480" y="2733840"/>
            <a:ext cx="45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 hope it was interesting for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nd hope you understood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hat we will meet in this chap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76560" y="4335480"/>
            <a:ext cx="858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We will learn much more about colecting and organizing da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ow let's start to write into your notebooks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0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1547640" y="1866960"/>
            <a:ext cx="626436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Monotype Corsiva"/>
              </a:rPr>
              <a:t>Author of presen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6600"/>
                </a:solidFill>
                <a:latin typeface="Monotype Corsiva"/>
              </a:rPr>
              <a:t>Antonija  Horvate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Monotype Corsiva"/>
              </a:rPr>
              <a:t>Croati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6600"/>
                </a:solidFill>
                <a:latin typeface="Monotype Corsiva"/>
              </a:rPr>
              <a:t>December 200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87280" y="1197000"/>
            <a:ext cx="66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What are the ways for presenting a lot of informa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20588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Let's see it through several exam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042920" y="1197000"/>
            <a:ext cx="684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9933"/>
                </a:solidFill>
                <a:latin typeface="Arial"/>
              </a:rPr>
              <a:t>Litera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9933"/>
                </a:solidFill>
                <a:latin typeface="Arial"/>
              </a:rPr>
              <a:t>L. Kralj, D. Glasnovic Graci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9933"/>
                </a:solidFill>
                <a:latin typeface="Arial"/>
              </a:rPr>
              <a:t>"Nastava statistike u osnovnoj skoli"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9933"/>
                </a:solidFill>
                <a:latin typeface="Arial"/>
              </a:rPr>
              <a:t>article in magazine "Matematika i skola" No. 31, 200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9933"/>
                </a:solidFill>
                <a:latin typeface="Arial"/>
              </a:rPr>
              <a:t>Z. Sikić, I. Golac-Jakopovic, M. Vukovcć, L. Krnic: "Matematika 7", math textbook for 7th clas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9933"/>
                </a:solidFill>
                <a:latin typeface="Arial"/>
              </a:rPr>
              <a:t>publisher: Profil, 200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287280" y="186372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f you want, you can use this presentation in your teach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lso, if you want, you can change some parts of it in this purp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50920" y="2936880"/>
            <a:ext cx="656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ut, if you want to use it in public lectures, workshop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n writing books, articles, on CDs and simil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then is nessesary to ask and to get permission of auth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819960" y="4406760"/>
            <a:ext cx="376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ntonija Horvat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http://public.carnet.hr/~ahorv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horvatek@yahoo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4000" y="50760"/>
            <a:ext cx="78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 Christmas time, in one market they were selling christmas tre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0040" y="11905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6600"/>
                </a:solidFill>
                <a:uFillTx/>
                <a:latin typeface="Arial"/>
              </a:rPr>
              <a:t>1st grou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11240" y="1197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6600"/>
                </a:solidFill>
                <a:uFillTx/>
                <a:latin typeface="Arial"/>
              </a:rPr>
              <a:t>2nd grou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700360" y="1606680"/>
            <a:ext cx="3313080" cy="2376360"/>
            <a:chOff x="2700360" y="1606680"/>
            <a:chExt cx="3313080" cy="2376360"/>
          </a:xfrm>
        </p:grpSpPr>
        <p:sp>
          <p:nvSpPr>
            <p:cNvPr id="173" name=""/>
            <p:cNvSpPr/>
            <p:nvPr/>
          </p:nvSpPr>
          <p:spPr>
            <a:xfrm>
              <a:off x="2700360" y="1606680"/>
              <a:ext cx="3313080" cy="23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3419640" y="26305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3419640" y="285264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3419640" y="30877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20436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9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383868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5"/>
            <a:stretch/>
          </p:blipFill>
          <p:spPr>
            <a:xfrm>
              <a:off x="383868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6"/>
            <a:stretch/>
          </p:blipFill>
          <p:spPr>
            <a:xfrm>
              <a:off x="383868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63636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0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7"/>
            <a:stretch/>
          </p:blipFill>
          <p:spPr>
            <a:xfrm>
              <a:off x="428616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8"/>
            <a:stretch/>
          </p:blipFill>
          <p:spPr>
            <a:xfrm>
              <a:off x="428616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9"/>
            <a:stretch/>
          </p:blipFill>
          <p:spPr>
            <a:xfrm>
              <a:off x="428616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11084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1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0"/>
            <a:stretch/>
          </p:blipFill>
          <p:spPr>
            <a:xfrm>
              <a:off x="4721400" y="2390760"/>
              <a:ext cx="1285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11"/>
            <a:stretch/>
          </p:blipFill>
          <p:spPr>
            <a:xfrm>
              <a:off x="4721400" y="26290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2"/>
            <a:stretch/>
          </p:blipFill>
          <p:spPr>
            <a:xfrm>
              <a:off x="4721400" y="2849400"/>
              <a:ext cx="1285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3"/>
            <a:stretch/>
          </p:blipFill>
          <p:spPr>
            <a:xfrm>
              <a:off x="4721400" y="30862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54428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2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14"/>
            <a:stretch/>
          </p:blipFill>
          <p:spPr>
            <a:xfrm>
              <a:off x="514656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15"/>
            <a:stretch/>
          </p:blipFill>
          <p:spPr>
            <a:xfrm>
              <a:off x="514656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16"/>
            <a:stretch/>
          </p:blipFill>
          <p:spPr>
            <a:xfrm>
              <a:off x="514656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7"/>
            <a:stretch/>
          </p:blipFill>
          <p:spPr>
            <a:xfrm>
              <a:off x="514656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97628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3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18"/>
            <a:stretch/>
          </p:blipFill>
          <p:spPr>
            <a:xfrm>
              <a:off x="557208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9"/>
            <a:stretch/>
          </p:blipFill>
          <p:spPr>
            <a:xfrm>
              <a:off x="557208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0"/>
            <a:stretch/>
          </p:blipFill>
          <p:spPr>
            <a:xfrm>
              <a:off x="557208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1"/>
            <a:stretch/>
          </p:blipFill>
          <p:spPr>
            <a:xfrm>
              <a:off x="557208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40792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4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22"/>
            <a:stretch/>
          </p:blipFill>
          <p:spPr>
            <a:xfrm>
              <a:off x="2987640" y="2849400"/>
              <a:ext cx="1303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3"/>
            <a:stretch/>
          </p:blipFill>
          <p:spPr>
            <a:xfrm>
              <a:off x="2987640" y="3086280"/>
              <a:ext cx="1303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77272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8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24"/>
            <a:stretch/>
          </p:blipFill>
          <p:spPr>
            <a:xfrm>
              <a:off x="3579840" y="368136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786120" y="3666960"/>
              <a:ext cx="14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= 10 christmas tre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5"/>
            <a:stretch/>
          </p:blipFill>
          <p:spPr>
            <a:xfrm>
              <a:off x="5564160" y="192420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26"/>
            <a:stretch/>
          </p:blipFill>
          <p:spPr>
            <a:xfrm>
              <a:off x="556416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7"/>
            <a:srcRect l="0" t="0" r="43413" b="-6783"/>
            <a:stretch/>
          </p:blipFill>
          <p:spPr>
            <a:xfrm>
              <a:off x="5138640" y="1924200"/>
              <a:ext cx="730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28"/>
            <a:stretch/>
          </p:blipFill>
          <p:spPr>
            <a:xfrm>
              <a:off x="513864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9"/>
            <a:stretch/>
          </p:blipFill>
          <p:spPr>
            <a:xfrm>
              <a:off x="4729320" y="2158920"/>
              <a:ext cx="1299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30"/>
            <a:srcRect l="0" t="0" r="43413" b="-6783"/>
            <a:stretch/>
          </p:blipFill>
          <p:spPr>
            <a:xfrm>
              <a:off x="3849840" y="2368440"/>
              <a:ext cx="74520" cy="2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490920" y="3645000"/>
              <a:ext cx="1708200" cy="28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3" name=""/>
          <p:cNvGraphicFramePr/>
          <p:nvPr/>
        </p:nvGraphicFramePr>
        <p:xfrm>
          <a:off x="250920" y="4437000"/>
          <a:ext cx="4392360" cy="237492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0920" y="4437000"/>
                    <a:ext cx="43923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2198160" y="4076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6600"/>
                </a:solidFill>
                <a:uFillTx/>
                <a:latin typeface="Arial"/>
              </a:rPr>
              <a:t>3th grou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41480" y="4076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6600"/>
                </a:solidFill>
                <a:uFillTx/>
                <a:latin typeface="Arial"/>
              </a:rPr>
              <a:t>4th grou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89120" y="1197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6600"/>
                </a:solidFill>
                <a:uFillTx/>
                <a:latin typeface="Arial"/>
              </a:rPr>
              <a:t>5th grou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859280" y="4508640"/>
          <a:ext cx="4133880" cy="22352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859280" y="4508640"/>
                    <a:ext cx="413388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95280" y="1579680"/>
          <a:ext cx="1800360" cy="2577960"/>
        </p:xfrm>
        <a:graphic>
          <a:graphicData uri="http://schemas.openxmlformats.org/drawingml/2006/table">
            <a:tbl>
              <a:tblPr/>
              <a:tblGrid>
                <a:gridCol w="876240"/>
                <a:gridCol w="924120"/>
              </a:tblGrid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sold tre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8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9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1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2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3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4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324000" y="3589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Students from one seventh class wanted to present how succesfull was selling during the last week. They participated into several groups, so they presented their results in several way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44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ffff"/>
                </a:solidFill>
                <a:uFillTx/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56360" y="1557360"/>
          <a:ext cx="2879640" cy="22478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56360" y="1557360"/>
                    <a:ext cx="28796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4000" y="33336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Compare these presentations! Do they present the sa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0920" y="4437000"/>
          <a:ext cx="4392360" cy="23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437000"/>
                    <a:ext cx="43923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4859280" y="4508640"/>
          <a:ext cx="4133880" cy="2235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508640"/>
                    <a:ext cx="413388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324000" y="6858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Yes, all they present the sam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0040" y="11905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6600"/>
                </a:solidFill>
                <a:uFillTx/>
                <a:latin typeface="Arial"/>
              </a:rPr>
              <a:t>1st grou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11240" y="1197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6600"/>
                </a:solidFill>
                <a:uFillTx/>
                <a:latin typeface="Arial"/>
              </a:rPr>
              <a:t>2nd grou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41480" y="4076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6600"/>
                </a:solidFill>
                <a:uFillTx/>
                <a:latin typeface="Arial"/>
              </a:rPr>
              <a:t>4th grou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89120" y="1197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6600"/>
                </a:solidFill>
                <a:uFillTx/>
                <a:latin typeface="Arial"/>
              </a:rPr>
              <a:t>5th grou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700360" y="1606680"/>
            <a:ext cx="3313080" cy="2376360"/>
            <a:chOff x="2700360" y="1606680"/>
            <a:chExt cx="3313080" cy="2376360"/>
          </a:xfrm>
        </p:grpSpPr>
        <p:sp>
          <p:nvSpPr>
            <p:cNvPr id="236" name=""/>
            <p:cNvSpPr/>
            <p:nvPr/>
          </p:nvSpPr>
          <p:spPr>
            <a:xfrm>
              <a:off x="2700360" y="1606680"/>
              <a:ext cx="3313080" cy="23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5"/>
            <a:stretch/>
          </p:blipFill>
          <p:spPr>
            <a:xfrm>
              <a:off x="3419640" y="26305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6"/>
            <a:stretch/>
          </p:blipFill>
          <p:spPr>
            <a:xfrm>
              <a:off x="3419640" y="285264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7"/>
            <a:stretch/>
          </p:blipFill>
          <p:spPr>
            <a:xfrm>
              <a:off x="3419640" y="30877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20436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9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8"/>
            <a:stretch/>
          </p:blipFill>
          <p:spPr>
            <a:xfrm>
              <a:off x="383868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9"/>
            <a:stretch/>
          </p:blipFill>
          <p:spPr>
            <a:xfrm>
              <a:off x="383868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10"/>
            <a:stretch/>
          </p:blipFill>
          <p:spPr>
            <a:xfrm>
              <a:off x="383868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63636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0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11"/>
            <a:stretch/>
          </p:blipFill>
          <p:spPr>
            <a:xfrm>
              <a:off x="428616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12"/>
            <a:stretch/>
          </p:blipFill>
          <p:spPr>
            <a:xfrm>
              <a:off x="428616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13"/>
            <a:stretch/>
          </p:blipFill>
          <p:spPr>
            <a:xfrm>
              <a:off x="428616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11084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1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14"/>
            <a:stretch/>
          </p:blipFill>
          <p:spPr>
            <a:xfrm>
              <a:off x="4721400" y="2390760"/>
              <a:ext cx="1285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15"/>
            <a:stretch/>
          </p:blipFill>
          <p:spPr>
            <a:xfrm>
              <a:off x="4721400" y="26290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16"/>
            <a:stretch/>
          </p:blipFill>
          <p:spPr>
            <a:xfrm>
              <a:off x="4721400" y="2849400"/>
              <a:ext cx="1285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17"/>
            <a:stretch/>
          </p:blipFill>
          <p:spPr>
            <a:xfrm>
              <a:off x="4721400" y="30862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4428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2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18"/>
            <a:stretch/>
          </p:blipFill>
          <p:spPr>
            <a:xfrm>
              <a:off x="514656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9"/>
            <a:stretch/>
          </p:blipFill>
          <p:spPr>
            <a:xfrm>
              <a:off x="514656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0"/>
            <a:stretch/>
          </p:blipFill>
          <p:spPr>
            <a:xfrm>
              <a:off x="514656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1"/>
            <a:stretch/>
          </p:blipFill>
          <p:spPr>
            <a:xfrm>
              <a:off x="514656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97628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3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22"/>
            <a:stretch/>
          </p:blipFill>
          <p:spPr>
            <a:xfrm>
              <a:off x="557208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23"/>
            <a:stretch/>
          </p:blipFill>
          <p:spPr>
            <a:xfrm>
              <a:off x="557208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24"/>
            <a:stretch/>
          </p:blipFill>
          <p:spPr>
            <a:xfrm>
              <a:off x="557208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25"/>
            <a:stretch/>
          </p:blipFill>
          <p:spPr>
            <a:xfrm>
              <a:off x="557208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40792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4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26"/>
            <a:stretch/>
          </p:blipFill>
          <p:spPr>
            <a:xfrm>
              <a:off x="2987640" y="2849400"/>
              <a:ext cx="1303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7"/>
            <a:stretch/>
          </p:blipFill>
          <p:spPr>
            <a:xfrm>
              <a:off x="2987640" y="3086280"/>
              <a:ext cx="1303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77272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8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28"/>
            <a:stretch/>
          </p:blipFill>
          <p:spPr>
            <a:xfrm>
              <a:off x="3579840" y="368136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786120" y="3666960"/>
              <a:ext cx="14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= 10 christmas tre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29"/>
            <a:stretch/>
          </p:blipFill>
          <p:spPr>
            <a:xfrm>
              <a:off x="5564160" y="192420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30"/>
            <a:stretch/>
          </p:blipFill>
          <p:spPr>
            <a:xfrm>
              <a:off x="556416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1"/>
            <a:srcRect l="0" t="0" r="43413" b="-6783"/>
            <a:stretch/>
          </p:blipFill>
          <p:spPr>
            <a:xfrm>
              <a:off x="5138640" y="1924200"/>
              <a:ext cx="730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32"/>
            <a:stretch/>
          </p:blipFill>
          <p:spPr>
            <a:xfrm>
              <a:off x="513864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33"/>
            <a:stretch/>
          </p:blipFill>
          <p:spPr>
            <a:xfrm>
              <a:off x="4729320" y="2158920"/>
              <a:ext cx="1299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34"/>
            <a:srcRect l="0" t="0" r="43413" b="-6783"/>
            <a:stretch/>
          </p:blipFill>
          <p:spPr>
            <a:xfrm>
              <a:off x="3849840" y="2368440"/>
              <a:ext cx="74520" cy="2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490920" y="3645000"/>
              <a:ext cx="1708200" cy="28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395280" y="1579680"/>
          <a:ext cx="1800360" cy="2577960"/>
        </p:xfrm>
        <a:graphic>
          <a:graphicData uri="http://schemas.openxmlformats.org/drawingml/2006/table">
            <a:tbl>
              <a:tblPr/>
              <a:tblGrid>
                <a:gridCol w="876240"/>
                <a:gridCol w="924120"/>
              </a:tblGrid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sold tre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8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9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1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2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3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4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2198160" y="4076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6600"/>
                </a:solidFill>
                <a:uFillTx/>
                <a:latin typeface="Arial"/>
              </a:rPr>
              <a:t>3th grou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156360" y="1557360"/>
          <a:ext cx="2879640" cy="22478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56360" y="1557360"/>
                    <a:ext cx="28796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4000" y="3333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Each of these presentations has got its na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4840" y="11955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TAB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03440" y="120168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PICTUR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50920" y="4437000"/>
          <a:ext cx="4392360" cy="23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437000"/>
                    <a:ext cx="43923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4859280" y="4508640"/>
          <a:ext cx="4133880" cy="2235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508640"/>
                    <a:ext cx="413388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6997680" y="12016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PI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37120" y="41083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COLUMN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42680" y="41418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LIN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700360" y="1606680"/>
            <a:ext cx="3313080" cy="2376360"/>
            <a:chOff x="2700360" y="1606680"/>
            <a:chExt cx="3313080" cy="2376360"/>
          </a:xfrm>
        </p:grpSpPr>
        <p:sp>
          <p:nvSpPr>
            <p:cNvPr id="291" name=""/>
            <p:cNvSpPr/>
            <p:nvPr/>
          </p:nvSpPr>
          <p:spPr>
            <a:xfrm>
              <a:off x="2700360" y="1606680"/>
              <a:ext cx="3313080" cy="23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5"/>
            <a:stretch/>
          </p:blipFill>
          <p:spPr>
            <a:xfrm>
              <a:off x="3419640" y="26305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6"/>
            <a:stretch/>
          </p:blipFill>
          <p:spPr>
            <a:xfrm>
              <a:off x="3419640" y="285264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7"/>
            <a:stretch/>
          </p:blipFill>
          <p:spPr>
            <a:xfrm>
              <a:off x="3419640" y="30877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20436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9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8"/>
            <a:stretch/>
          </p:blipFill>
          <p:spPr>
            <a:xfrm>
              <a:off x="383868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9"/>
            <a:stretch/>
          </p:blipFill>
          <p:spPr>
            <a:xfrm>
              <a:off x="383868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10"/>
            <a:stretch/>
          </p:blipFill>
          <p:spPr>
            <a:xfrm>
              <a:off x="383868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63636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0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11"/>
            <a:stretch/>
          </p:blipFill>
          <p:spPr>
            <a:xfrm>
              <a:off x="428616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12"/>
            <a:stretch/>
          </p:blipFill>
          <p:spPr>
            <a:xfrm>
              <a:off x="428616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13"/>
            <a:stretch/>
          </p:blipFill>
          <p:spPr>
            <a:xfrm>
              <a:off x="428616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11084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1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14"/>
            <a:stretch/>
          </p:blipFill>
          <p:spPr>
            <a:xfrm>
              <a:off x="4721400" y="2390760"/>
              <a:ext cx="1285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15"/>
            <a:stretch/>
          </p:blipFill>
          <p:spPr>
            <a:xfrm>
              <a:off x="4721400" y="26290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16"/>
            <a:stretch/>
          </p:blipFill>
          <p:spPr>
            <a:xfrm>
              <a:off x="4721400" y="2849400"/>
              <a:ext cx="1285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17"/>
            <a:stretch/>
          </p:blipFill>
          <p:spPr>
            <a:xfrm>
              <a:off x="4721400" y="30862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54428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2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18"/>
            <a:stretch/>
          </p:blipFill>
          <p:spPr>
            <a:xfrm>
              <a:off x="514656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19"/>
            <a:stretch/>
          </p:blipFill>
          <p:spPr>
            <a:xfrm>
              <a:off x="514656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20"/>
            <a:stretch/>
          </p:blipFill>
          <p:spPr>
            <a:xfrm>
              <a:off x="514656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21"/>
            <a:stretch/>
          </p:blipFill>
          <p:spPr>
            <a:xfrm>
              <a:off x="514656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97628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3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22"/>
            <a:stretch/>
          </p:blipFill>
          <p:spPr>
            <a:xfrm>
              <a:off x="557208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23"/>
            <a:stretch/>
          </p:blipFill>
          <p:spPr>
            <a:xfrm>
              <a:off x="557208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24"/>
            <a:stretch/>
          </p:blipFill>
          <p:spPr>
            <a:xfrm>
              <a:off x="557208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5"/>
            <a:stretch/>
          </p:blipFill>
          <p:spPr>
            <a:xfrm>
              <a:off x="557208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40792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4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26"/>
            <a:stretch/>
          </p:blipFill>
          <p:spPr>
            <a:xfrm>
              <a:off x="2987640" y="2849400"/>
              <a:ext cx="1303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27"/>
            <a:stretch/>
          </p:blipFill>
          <p:spPr>
            <a:xfrm>
              <a:off x="2987640" y="3086280"/>
              <a:ext cx="1303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277272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8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2" name="" descr=""/>
            <p:cNvPicPr/>
            <p:nvPr/>
          </p:nvPicPr>
          <p:blipFill>
            <a:blip r:embed="rId28"/>
            <a:stretch/>
          </p:blipFill>
          <p:spPr>
            <a:xfrm>
              <a:off x="3579840" y="368136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786120" y="3666960"/>
              <a:ext cx="14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= 10 christmas tre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29"/>
            <a:stretch/>
          </p:blipFill>
          <p:spPr>
            <a:xfrm>
              <a:off x="5564160" y="192420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30"/>
            <a:stretch/>
          </p:blipFill>
          <p:spPr>
            <a:xfrm>
              <a:off x="556416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31"/>
            <a:srcRect l="0" t="0" r="43413" b="-6783"/>
            <a:stretch/>
          </p:blipFill>
          <p:spPr>
            <a:xfrm>
              <a:off x="5138640" y="1924200"/>
              <a:ext cx="730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32"/>
            <a:stretch/>
          </p:blipFill>
          <p:spPr>
            <a:xfrm>
              <a:off x="513864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3"/>
            <a:stretch/>
          </p:blipFill>
          <p:spPr>
            <a:xfrm>
              <a:off x="4729320" y="2158920"/>
              <a:ext cx="1299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34"/>
            <a:srcRect l="0" t="0" r="43413" b="-6783"/>
            <a:stretch/>
          </p:blipFill>
          <p:spPr>
            <a:xfrm>
              <a:off x="3849840" y="2368440"/>
              <a:ext cx="74520" cy="2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490920" y="3645000"/>
              <a:ext cx="1708200" cy="28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1" name=""/>
          <p:cNvGraphicFramePr/>
          <p:nvPr/>
        </p:nvGraphicFramePr>
        <p:xfrm>
          <a:off x="395280" y="1579680"/>
          <a:ext cx="1800360" cy="2577960"/>
        </p:xfrm>
        <a:graphic>
          <a:graphicData uri="http://schemas.openxmlformats.org/drawingml/2006/table">
            <a:tbl>
              <a:tblPr/>
              <a:tblGrid>
                <a:gridCol w="876240"/>
                <a:gridCol w="924120"/>
              </a:tblGrid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sold tre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8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9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1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2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3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4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6156360" y="1557360"/>
          <a:ext cx="2879640" cy="22478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56360" y="1557360"/>
                    <a:ext cx="28796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250920" y="4437000"/>
          <a:ext cx="4392360" cy="23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437000"/>
                    <a:ext cx="43923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859280" y="4508640"/>
          <a:ext cx="4133880" cy="2235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508640"/>
                    <a:ext cx="413388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324000" y="3333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How many christmas trees was sold on 20.12.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4000" y="68580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Which chart can we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read it the most faster fro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65480" y="1159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By using these charts, try to answer the following ques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24360" y="333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66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80000" y="6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66"/>
                </a:solidFill>
                <a:latin typeface="Arial"/>
              </a:rPr>
              <a:t>From the tabul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87280" y="325440"/>
            <a:ext cx="64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stead of  "</a:t>
            </a:r>
            <a:r>
              <a:rPr b="1" lang="hr-HR" sz="1800" spc="-1" strike="noStrike">
                <a:solidFill>
                  <a:srgbClr val="ffcc66"/>
                </a:solidFill>
                <a:latin typeface="Comic Sans MS"/>
              </a:rPr>
              <a:t>CHART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" we can say  "</a:t>
            </a:r>
            <a:r>
              <a:rPr b="1" lang="hr-HR" sz="1800" spc="-1" strike="noStrike">
                <a:solidFill>
                  <a:srgbClr val="ffcc66"/>
                </a:solidFill>
                <a:latin typeface="Comic Sans MS"/>
              </a:rPr>
              <a:t>DIAGRAM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", to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700360" y="1606680"/>
            <a:ext cx="3313080" cy="2376360"/>
            <a:chOff x="2700360" y="1606680"/>
            <a:chExt cx="3313080" cy="2376360"/>
          </a:xfrm>
        </p:grpSpPr>
        <p:sp>
          <p:nvSpPr>
            <p:cNvPr id="345" name=""/>
            <p:cNvSpPr/>
            <p:nvPr/>
          </p:nvSpPr>
          <p:spPr>
            <a:xfrm>
              <a:off x="2700360" y="1606680"/>
              <a:ext cx="3313080" cy="23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5"/>
            <a:stretch/>
          </p:blipFill>
          <p:spPr>
            <a:xfrm>
              <a:off x="3419640" y="26305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6"/>
            <a:stretch/>
          </p:blipFill>
          <p:spPr>
            <a:xfrm>
              <a:off x="3419640" y="285264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7"/>
            <a:stretch/>
          </p:blipFill>
          <p:spPr>
            <a:xfrm>
              <a:off x="3419640" y="30877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20436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9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0" name="" descr=""/>
            <p:cNvPicPr/>
            <p:nvPr/>
          </p:nvPicPr>
          <p:blipFill>
            <a:blip r:embed="rId8"/>
            <a:stretch/>
          </p:blipFill>
          <p:spPr>
            <a:xfrm>
              <a:off x="383868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9"/>
            <a:stretch/>
          </p:blipFill>
          <p:spPr>
            <a:xfrm>
              <a:off x="383868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0"/>
            <a:stretch/>
          </p:blipFill>
          <p:spPr>
            <a:xfrm>
              <a:off x="383868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63636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0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4" name="" descr=""/>
            <p:cNvPicPr/>
            <p:nvPr/>
          </p:nvPicPr>
          <p:blipFill>
            <a:blip r:embed="rId11"/>
            <a:stretch/>
          </p:blipFill>
          <p:spPr>
            <a:xfrm>
              <a:off x="428616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12"/>
            <a:stretch/>
          </p:blipFill>
          <p:spPr>
            <a:xfrm>
              <a:off x="428616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13"/>
            <a:stretch/>
          </p:blipFill>
          <p:spPr>
            <a:xfrm>
              <a:off x="428616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411084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1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14"/>
            <a:stretch/>
          </p:blipFill>
          <p:spPr>
            <a:xfrm>
              <a:off x="4721400" y="2390760"/>
              <a:ext cx="1285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15"/>
            <a:stretch/>
          </p:blipFill>
          <p:spPr>
            <a:xfrm>
              <a:off x="4721400" y="26290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16"/>
            <a:stretch/>
          </p:blipFill>
          <p:spPr>
            <a:xfrm>
              <a:off x="4721400" y="2849400"/>
              <a:ext cx="1285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17"/>
            <a:stretch/>
          </p:blipFill>
          <p:spPr>
            <a:xfrm>
              <a:off x="4721400" y="30862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454428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2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3" name="" descr=""/>
            <p:cNvPicPr/>
            <p:nvPr/>
          </p:nvPicPr>
          <p:blipFill>
            <a:blip r:embed="rId18"/>
            <a:stretch/>
          </p:blipFill>
          <p:spPr>
            <a:xfrm>
              <a:off x="514656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19"/>
            <a:stretch/>
          </p:blipFill>
          <p:spPr>
            <a:xfrm>
              <a:off x="514656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20"/>
            <a:stretch/>
          </p:blipFill>
          <p:spPr>
            <a:xfrm>
              <a:off x="514656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21"/>
            <a:stretch/>
          </p:blipFill>
          <p:spPr>
            <a:xfrm>
              <a:off x="514656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97628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3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22"/>
            <a:stretch/>
          </p:blipFill>
          <p:spPr>
            <a:xfrm>
              <a:off x="557208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23"/>
            <a:stretch/>
          </p:blipFill>
          <p:spPr>
            <a:xfrm>
              <a:off x="557208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24"/>
            <a:stretch/>
          </p:blipFill>
          <p:spPr>
            <a:xfrm>
              <a:off x="557208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25"/>
            <a:stretch/>
          </p:blipFill>
          <p:spPr>
            <a:xfrm>
              <a:off x="557208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40792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4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26"/>
            <a:stretch/>
          </p:blipFill>
          <p:spPr>
            <a:xfrm>
              <a:off x="2987640" y="2849400"/>
              <a:ext cx="1303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27"/>
            <a:stretch/>
          </p:blipFill>
          <p:spPr>
            <a:xfrm>
              <a:off x="2987640" y="3086280"/>
              <a:ext cx="1303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277272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8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28"/>
            <a:stretch/>
          </p:blipFill>
          <p:spPr>
            <a:xfrm>
              <a:off x="3579840" y="368136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786120" y="3666960"/>
              <a:ext cx="14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= 10 christmas tre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29"/>
            <a:stretch/>
          </p:blipFill>
          <p:spPr>
            <a:xfrm>
              <a:off x="5564160" y="192420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0"/>
            <a:stretch/>
          </p:blipFill>
          <p:spPr>
            <a:xfrm>
              <a:off x="556416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31"/>
            <a:srcRect l="0" t="0" r="43413" b="-6783"/>
            <a:stretch/>
          </p:blipFill>
          <p:spPr>
            <a:xfrm>
              <a:off x="5138640" y="1924200"/>
              <a:ext cx="730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32"/>
            <a:stretch/>
          </p:blipFill>
          <p:spPr>
            <a:xfrm>
              <a:off x="513864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33"/>
            <a:stretch/>
          </p:blipFill>
          <p:spPr>
            <a:xfrm>
              <a:off x="4729320" y="2158920"/>
              <a:ext cx="1299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34"/>
            <a:srcRect l="0" t="0" r="43413" b="-6783"/>
            <a:stretch/>
          </p:blipFill>
          <p:spPr>
            <a:xfrm>
              <a:off x="3849840" y="2368440"/>
              <a:ext cx="74520" cy="2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3490920" y="3645000"/>
              <a:ext cx="1708200" cy="28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85" name=""/>
          <p:cNvGraphicFramePr/>
          <p:nvPr/>
        </p:nvGraphicFramePr>
        <p:xfrm>
          <a:off x="395280" y="1579680"/>
          <a:ext cx="1800360" cy="2577960"/>
        </p:xfrm>
        <a:graphic>
          <a:graphicData uri="http://schemas.openxmlformats.org/drawingml/2006/table">
            <a:tbl>
              <a:tblPr/>
              <a:tblGrid>
                <a:gridCol w="876240"/>
                <a:gridCol w="924120"/>
              </a:tblGrid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sold tre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8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9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1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2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3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4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474840" y="11955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TAB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03440" y="120168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PICTUR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97680" y="12016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PI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37120" y="41083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COLUMN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42680" y="41418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LIN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6156360" y="1557360"/>
          <a:ext cx="2879640" cy="22478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56360" y="1557360"/>
                    <a:ext cx="28796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50920" y="4437000"/>
          <a:ext cx="4392360" cy="23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437000"/>
                    <a:ext cx="43923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4859280" y="4508640"/>
          <a:ext cx="4133880" cy="2235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508640"/>
                    <a:ext cx="413388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324000" y="26028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From which to which day did selling grow mos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4000" y="61272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Which chart can we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read it the most faster fro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26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66"/>
                </a:solidFill>
                <a:latin typeface="Arial"/>
              </a:rPr>
              <a:t>From 21.12. to 22.1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80000" y="612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66"/>
                </a:solidFill>
                <a:latin typeface="Arial"/>
              </a:rPr>
              <a:t>From the line cha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700360" y="1606680"/>
            <a:ext cx="3313080" cy="2376360"/>
            <a:chOff x="2700360" y="1606680"/>
            <a:chExt cx="3313080" cy="2376360"/>
          </a:xfrm>
        </p:grpSpPr>
        <p:sp>
          <p:nvSpPr>
            <p:cNvPr id="402" name=""/>
            <p:cNvSpPr/>
            <p:nvPr/>
          </p:nvSpPr>
          <p:spPr>
            <a:xfrm>
              <a:off x="2700360" y="1606680"/>
              <a:ext cx="3313080" cy="23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3" name="" descr=""/>
            <p:cNvPicPr/>
            <p:nvPr/>
          </p:nvPicPr>
          <p:blipFill>
            <a:blip r:embed="rId5"/>
            <a:stretch/>
          </p:blipFill>
          <p:spPr>
            <a:xfrm>
              <a:off x="3419640" y="26305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6"/>
            <a:stretch/>
          </p:blipFill>
          <p:spPr>
            <a:xfrm>
              <a:off x="3419640" y="285264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7"/>
            <a:stretch/>
          </p:blipFill>
          <p:spPr>
            <a:xfrm>
              <a:off x="3419640" y="30877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320436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9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8"/>
            <a:stretch/>
          </p:blipFill>
          <p:spPr>
            <a:xfrm>
              <a:off x="383868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9"/>
            <a:stretch/>
          </p:blipFill>
          <p:spPr>
            <a:xfrm>
              <a:off x="383868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10"/>
            <a:stretch/>
          </p:blipFill>
          <p:spPr>
            <a:xfrm>
              <a:off x="383868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363636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0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1" name="" descr=""/>
            <p:cNvPicPr/>
            <p:nvPr/>
          </p:nvPicPr>
          <p:blipFill>
            <a:blip r:embed="rId11"/>
            <a:stretch/>
          </p:blipFill>
          <p:spPr>
            <a:xfrm>
              <a:off x="428616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12"/>
            <a:stretch/>
          </p:blipFill>
          <p:spPr>
            <a:xfrm>
              <a:off x="428616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13"/>
            <a:stretch/>
          </p:blipFill>
          <p:spPr>
            <a:xfrm>
              <a:off x="428616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411084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1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14"/>
            <a:stretch/>
          </p:blipFill>
          <p:spPr>
            <a:xfrm>
              <a:off x="4721400" y="2390760"/>
              <a:ext cx="1285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15"/>
            <a:stretch/>
          </p:blipFill>
          <p:spPr>
            <a:xfrm>
              <a:off x="4721400" y="26290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16"/>
            <a:stretch/>
          </p:blipFill>
          <p:spPr>
            <a:xfrm>
              <a:off x="4721400" y="2849400"/>
              <a:ext cx="1285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17"/>
            <a:stretch/>
          </p:blipFill>
          <p:spPr>
            <a:xfrm>
              <a:off x="4721400" y="30862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454428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2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20" name="" descr=""/>
            <p:cNvPicPr/>
            <p:nvPr/>
          </p:nvPicPr>
          <p:blipFill>
            <a:blip r:embed="rId18"/>
            <a:stretch/>
          </p:blipFill>
          <p:spPr>
            <a:xfrm>
              <a:off x="514656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19"/>
            <a:stretch/>
          </p:blipFill>
          <p:spPr>
            <a:xfrm>
              <a:off x="514656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20"/>
            <a:stretch/>
          </p:blipFill>
          <p:spPr>
            <a:xfrm>
              <a:off x="514656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21"/>
            <a:stretch/>
          </p:blipFill>
          <p:spPr>
            <a:xfrm>
              <a:off x="514656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497628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3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25" name="" descr=""/>
            <p:cNvPicPr/>
            <p:nvPr/>
          </p:nvPicPr>
          <p:blipFill>
            <a:blip r:embed="rId22"/>
            <a:stretch/>
          </p:blipFill>
          <p:spPr>
            <a:xfrm>
              <a:off x="557208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23"/>
            <a:stretch/>
          </p:blipFill>
          <p:spPr>
            <a:xfrm>
              <a:off x="557208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24"/>
            <a:stretch/>
          </p:blipFill>
          <p:spPr>
            <a:xfrm>
              <a:off x="557208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25"/>
            <a:stretch/>
          </p:blipFill>
          <p:spPr>
            <a:xfrm>
              <a:off x="557208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40792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4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0" name="" descr=""/>
            <p:cNvPicPr/>
            <p:nvPr/>
          </p:nvPicPr>
          <p:blipFill>
            <a:blip r:embed="rId26"/>
            <a:stretch/>
          </p:blipFill>
          <p:spPr>
            <a:xfrm>
              <a:off x="2987640" y="2849400"/>
              <a:ext cx="1303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27"/>
            <a:stretch/>
          </p:blipFill>
          <p:spPr>
            <a:xfrm>
              <a:off x="2987640" y="3086280"/>
              <a:ext cx="1303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277272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8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28"/>
            <a:stretch/>
          </p:blipFill>
          <p:spPr>
            <a:xfrm>
              <a:off x="3579840" y="368136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3786120" y="3666960"/>
              <a:ext cx="14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= 10 christmas tre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5" name="" descr=""/>
            <p:cNvPicPr/>
            <p:nvPr/>
          </p:nvPicPr>
          <p:blipFill>
            <a:blip r:embed="rId29"/>
            <a:stretch/>
          </p:blipFill>
          <p:spPr>
            <a:xfrm>
              <a:off x="5564160" y="192420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30"/>
            <a:stretch/>
          </p:blipFill>
          <p:spPr>
            <a:xfrm>
              <a:off x="556416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31"/>
            <a:srcRect l="0" t="0" r="43413" b="-6783"/>
            <a:stretch/>
          </p:blipFill>
          <p:spPr>
            <a:xfrm>
              <a:off x="5138640" y="1924200"/>
              <a:ext cx="730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32"/>
            <a:stretch/>
          </p:blipFill>
          <p:spPr>
            <a:xfrm>
              <a:off x="513864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33"/>
            <a:stretch/>
          </p:blipFill>
          <p:spPr>
            <a:xfrm>
              <a:off x="4729320" y="2158920"/>
              <a:ext cx="1299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34"/>
            <a:srcRect l="0" t="0" r="43413" b="-6783"/>
            <a:stretch/>
          </p:blipFill>
          <p:spPr>
            <a:xfrm>
              <a:off x="3849840" y="2368440"/>
              <a:ext cx="74520" cy="2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3490920" y="3645000"/>
              <a:ext cx="1708200" cy="28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42" name=""/>
          <p:cNvGraphicFramePr/>
          <p:nvPr/>
        </p:nvGraphicFramePr>
        <p:xfrm>
          <a:off x="395280" y="1579680"/>
          <a:ext cx="1800360" cy="2577960"/>
        </p:xfrm>
        <a:graphic>
          <a:graphicData uri="http://schemas.openxmlformats.org/drawingml/2006/table">
            <a:tbl>
              <a:tblPr/>
              <a:tblGrid>
                <a:gridCol w="876240"/>
                <a:gridCol w="924120"/>
              </a:tblGrid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sold tre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8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9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1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2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3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4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443" name=""/>
          <p:cNvSpPr/>
          <p:nvPr/>
        </p:nvSpPr>
        <p:spPr>
          <a:xfrm>
            <a:off x="474840" y="11955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TAB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403440" y="120168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PICTUR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97680" y="12016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PI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37120" y="41083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COLUMN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42680" y="41418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LIN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6156360" y="1557360"/>
          <a:ext cx="2879640" cy="22478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56360" y="1557360"/>
                    <a:ext cx="28796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250920" y="4437000"/>
          <a:ext cx="4392360" cy="23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437000"/>
                    <a:ext cx="439236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4859280" y="4508640"/>
          <a:ext cx="4133880" cy="2235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508640"/>
                    <a:ext cx="413388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324000" y="26028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What part of the total number was sold on 20.12.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4000" y="61272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Which chart can we read it the most faster fro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867280" y="2602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66"/>
                </a:solidFill>
                <a:latin typeface="Arial"/>
              </a:rPr>
              <a:t>1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580000" y="612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66"/>
                </a:solidFill>
                <a:latin typeface="Arial"/>
              </a:rPr>
              <a:t>From the pie cha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700360" y="1606680"/>
            <a:ext cx="3313080" cy="2376360"/>
            <a:chOff x="2700360" y="1606680"/>
            <a:chExt cx="3313080" cy="2376360"/>
          </a:xfrm>
        </p:grpSpPr>
        <p:sp>
          <p:nvSpPr>
            <p:cNvPr id="459" name=""/>
            <p:cNvSpPr/>
            <p:nvPr/>
          </p:nvSpPr>
          <p:spPr>
            <a:xfrm>
              <a:off x="2700360" y="1606680"/>
              <a:ext cx="3313080" cy="23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0" name="" descr=""/>
            <p:cNvPicPr/>
            <p:nvPr/>
          </p:nvPicPr>
          <p:blipFill>
            <a:blip r:embed="rId5"/>
            <a:stretch/>
          </p:blipFill>
          <p:spPr>
            <a:xfrm>
              <a:off x="3419640" y="26305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6"/>
            <a:stretch/>
          </p:blipFill>
          <p:spPr>
            <a:xfrm>
              <a:off x="3419640" y="285264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7"/>
            <a:stretch/>
          </p:blipFill>
          <p:spPr>
            <a:xfrm>
              <a:off x="3419640" y="30877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320436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9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4" name="" descr=""/>
            <p:cNvPicPr/>
            <p:nvPr/>
          </p:nvPicPr>
          <p:blipFill>
            <a:blip r:embed="rId8"/>
            <a:stretch/>
          </p:blipFill>
          <p:spPr>
            <a:xfrm>
              <a:off x="383868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9"/>
            <a:stretch/>
          </p:blipFill>
          <p:spPr>
            <a:xfrm>
              <a:off x="383868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10"/>
            <a:stretch/>
          </p:blipFill>
          <p:spPr>
            <a:xfrm>
              <a:off x="383868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363636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0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8" name="" descr=""/>
            <p:cNvPicPr/>
            <p:nvPr/>
          </p:nvPicPr>
          <p:blipFill>
            <a:blip r:embed="rId11"/>
            <a:stretch/>
          </p:blipFill>
          <p:spPr>
            <a:xfrm>
              <a:off x="4286160" y="26290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12"/>
            <a:stretch/>
          </p:blipFill>
          <p:spPr>
            <a:xfrm>
              <a:off x="4286160" y="2849400"/>
              <a:ext cx="1317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13"/>
            <a:stretch/>
          </p:blipFill>
          <p:spPr>
            <a:xfrm>
              <a:off x="4286160" y="308628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411084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1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72" name="" descr=""/>
            <p:cNvPicPr/>
            <p:nvPr/>
          </p:nvPicPr>
          <p:blipFill>
            <a:blip r:embed="rId14"/>
            <a:stretch/>
          </p:blipFill>
          <p:spPr>
            <a:xfrm>
              <a:off x="4721400" y="2390760"/>
              <a:ext cx="1285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15"/>
            <a:stretch/>
          </p:blipFill>
          <p:spPr>
            <a:xfrm>
              <a:off x="4721400" y="26290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16"/>
            <a:stretch/>
          </p:blipFill>
          <p:spPr>
            <a:xfrm>
              <a:off x="4721400" y="2849400"/>
              <a:ext cx="1285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17"/>
            <a:stretch/>
          </p:blipFill>
          <p:spPr>
            <a:xfrm>
              <a:off x="4721400" y="3086280"/>
              <a:ext cx="128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454428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2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77" name="" descr=""/>
            <p:cNvPicPr/>
            <p:nvPr/>
          </p:nvPicPr>
          <p:blipFill>
            <a:blip r:embed="rId18"/>
            <a:stretch/>
          </p:blipFill>
          <p:spPr>
            <a:xfrm>
              <a:off x="514656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19"/>
            <a:stretch/>
          </p:blipFill>
          <p:spPr>
            <a:xfrm>
              <a:off x="514656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20"/>
            <a:stretch/>
          </p:blipFill>
          <p:spPr>
            <a:xfrm>
              <a:off x="514656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21"/>
            <a:stretch/>
          </p:blipFill>
          <p:spPr>
            <a:xfrm>
              <a:off x="514656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497628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3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2" name="" descr=""/>
            <p:cNvPicPr/>
            <p:nvPr/>
          </p:nvPicPr>
          <p:blipFill>
            <a:blip r:embed="rId22"/>
            <a:stretch/>
          </p:blipFill>
          <p:spPr>
            <a:xfrm>
              <a:off x="5572080" y="238752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23"/>
            <a:stretch/>
          </p:blipFill>
          <p:spPr>
            <a:xfrm>
              <a:off x="5572080" y="26240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24"/>
            <a:stretch/>
          </p:blipFill>
          <p:spPr>
            <a:xfrm>
              <a:off x="5572080" y="2847960"/>
              <a:ext cx="1303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25"/>
            <a:stretch/>
          </p:blipFill>
          <p:spPr>
            <a:xfrm>
              <a:off x="5572080" y="3081240"/>
              <a:ext cx="130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5407920" y="33717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24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7" name="" descr=""/>
            <p:cNvPicPr/>
            <p:nvPr/>
          </p:nvPicPr>
          <p:blipFill>
            <a:blip r:embed="rId26"/>
            <a:stretch/>
          </p:blipFill>
          <p:spPr>
            <a:xfrm>
              <a:off x="2987640" y="2849400"/>
              <a:ext cx="13032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" descr=""/>
            <p:cNvPicPr/>
            <p:nvPr/>
          </p:nvPicPr>
          <p:blipFill>
            <a:blip r:embed="rId27"/>
            <a:stretch/>
          </p:blipFill>
          <p:spPr>
            <a:xfrm>
              <a:off x="2987640" y="3086280"/>
              <a:ext cx="1303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2772720" y="337500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18.12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0" name="" descr=""/>
            <p:cNvPicPr/>
            <p:nvPr/>
          </p:nvPicPr>
          <p:blipFill>
            <a:blip r:embed="rId28"/>
            <a:stretch/>
          </p:blipFill>
          <p:spPr>
            <a:xfrm>
              <a:off x="3579840" y="368136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3786120" y="3666960"/>
              <a:ext cx="14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9900"/>
                  </a:solidFill>
                  <a:latin typeface="Arial"/>
                </a:rPr>
                <a:t>= 10 christmas tre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2" name="" descr=""/>
            <p:cNvPicPr/>
            <p:nvPr/>
          </p:nvPicPr>
          <p:blipFill>
            <a:blip r:embed="rId29"/>
            <a:stretch/>
          </p:blipFill>
          <p:spPr>
            <a:xfrm>
              <a:off x="5564160" y="1924200"/>
              <a:ext cx="1317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30"/>
            <a:stretch/>
          </p:blipFill>
          <p:spPr>
            <a:xfrm>
              <a:off x="556416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1"/>
            <a:srcRect l="0" t="0" r="43413" b="-6783"/>
            <a:stretch/>
          </p:blipFill>
          <p:spPr>
            <a:xfrm>
              <a:off x="5138640" y="1924200"/>
              <a:ext cx="730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32"/>
            <a:stretch/>
          </p:blipFill>
          <p:spPr>
            <a:xfrm>
              <a:off x="5138640" y="2158920"/>
              <a:ext cx="1317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33"/>
            <a:stretch/>
          </p:blipFill>
          <p:spPr>
            <a:xfrm>
              <a:off x="4729320" y="2158920"/>
              <a:ext cx="12996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34"/>
            <a:srcRect l="0" t="0" r="43413" b="-6783"/>
            <a:stretch/>
          </p:blipFill>
          <p:spPr>
            <a:xfrm>
              <a:off x="3849840" y="2368440"/>
              <a:ext cx="74520" cy="2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3490920" y="3645000"/>
              <a:ext cx="1708200" cy="28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9" name=""/>
          <p:cNvGraphicFramePr/>
          <p:nvPr/>
        </p:nvGraphicFramePr>
        <p:xfrm>
          <a:off x="395280" y="1579680"/>
          <a:ext cx="1800360" cy="2577960"/>
        </p:xfrm>
        <a:graphic>
          <a:graphicData uri="http://schemas.openxmlformats.org/drawingml/2006/table">
            <a:tbl>
              <a:tblPr/>
              <a:tblGrid>
                <a:gridCol w="876240"/>
                <a:gridCol w="924120"/>
              </a:tblGrid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sold tre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8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9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0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1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2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3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4.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500" name=""/>
          <p:cNvSpPr/>
          <p:nvPr/>
        </p:nvSpPr>
        <p:spPr>
          <a:xfrm>
            <a:off x="474840" y="11955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TAB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03440" y="120168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PICTUR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997680" y="12016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PI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437120" y="41083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COLUMN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142680" y="41418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cc66"/>
                </a:solidFill>
                <a:uFillTx/>
                <a:latin typeface="Comic Sans MS"/>
              </a:rPr>
              <a:t>LINE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156360" y="1557360"/>
          <a:ext cx="2879640" cy="22478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56360" y="1557360"/>
                    <a:ext cx="28796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9:07:28Z</dcterms:created>
  <dc:creator>Antonija</dc:creator>
  <dc:description/>
  <dc:language>en-US</dc:language>
  <cp:lastModifiedBy>Antonija</cp:lastModifiedBy>
  <dcterms:modified xsi:type="dcterms:W3CDTF">2007-06-13T20:01:32Z</dcterms:modified>
  <cp:revision>324</cp:revision>
  <dc:subject/>
  <dc:title>Prikazivanje i analiza podataka</dc:title>
</cp:coreProperties>
</file>