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BD90-BD42-4E9D-A81F-91B05CFE4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18A3-BD39-4CD4-8E09-E216F8B2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46B7-6E59-4B54-9516-E7CBB60B2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FD42-4DA1-435F-B1B2-FEF8755F8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D218-E338-4E46-B483-7BF15830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FC1F-934C-4A15-9B78-C2BB374A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342B-08E3-4161-988F-1CE194AC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0504-550B-4F6B-98AD-E62E577A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6607-F276-4D25-A58F-FF76BDD8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3D4E-012C-4D46-9469-C23A9FD8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312D-7939-4F0E-930C-727E7BAB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57A8-DC0D-461E-8C56-954940CE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29D3-6E8D-4FDB-BD83-A833AC70A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public.carnet.hr/~ahorvate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-groups.dcs.st-and.ac.uk/~history/Biographies/Cajori.html" TargetMode="External"/><Relationship Id="rId2" Type="http://schemas.openxmlformats.org/officeDocument/2006/relationships/hyperlink" Target="http://members.aol.com/jeff570/mathsym.html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Radni_materijal.doc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427640" y="260280"/>
            <a:ext cx="4443480" cy="6264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5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Papyrus"/>
              </a:rPr>
              <a:t>M A T E M A T I K A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Papyrus"/>
              </a:rPr>
              <a:t>u  doba   renesan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43280" y="549360"/>
            <a:ext cx="4232520" cy="59688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I za znak minus postoji pretpostavka da je nastao uslijed brzog  pisanja početnog slova  </a:t>
            </a:r>
            <a:r>
              <a:rPr b="1" lang="sr-Latn-CS" sz="3200" spc="-1" strike="noStrike">
                <a:solidFill>
                  <a:srgbClr val="ff0000"/>
                </a:solidFill>
                <a:latin typeface="Comic Sans MS"/>
              </a:rPr>
              <a:t>m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, kod </a:t>
            </a:r>
            <a:r>
              <a:rPr b="0" lang="sr-Latn-CS" sz="3200" spc="-1" strike="noStrike" u="sng">
                <a:solidFill>
                  <a:srgbClr val="a50021"/>
                </a:solidFill>
                <a:uFillTx/>
                <a:latin typeface="Comic Sans MS"/>
                <a:hlinkClick r:id="rId2" action="ppaction://hlinksldjump"/>
              </a:rPr>
              <a:t>većine </a:t>
            </a:r>
            <a:r>
              <a:rPr b="0" lang="sr-Latn-CS" sz="3200" spc="-1" strike="noStrike" u="sng">
                <a:solidFill>
                  <a:srgbClr val="a50021"/>
                </a:solidFill>
                <a:uFillTx/>
                <a:latin typeface="Comic Sans MS"/>
                <a:hlinkClick r:id="rId3" action="ppaction://hlinksldjump"/>
              </a:rPr>
              <a:t>riječi</a:t>
            </a:r>
            <a:r>
              <a:rPr b="0" lang="sr-Latn-CS" sz="3200" spc="-1" strike="noStrike" u="sng">
                <a:solidFill>
                  <a:srgbClr val="a50021"/>
                </a:solidFill>
                <a:uFillTx/>
                <a:latin typeface="Comic Sans MS"/>
                <a:hlinkClick r:id="rId4" action="ppaction://hlinksldjump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koje opisuju ovu operaci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Kratice za oduzimanje bile s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908000" y="4653000"/>
            <a:ext cx="560520" cy="792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3203640" y="4581360"/>
            <a:ext cx="650880" cy="792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4572000" y="4724280"/>
            <a:ext cx="1152360" cy="449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6443640" y="4724280"/>
            <a:ext cx="1224000" cy="447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995280" y="404280"/>
            <a:ext cx="469116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U knjizi Nijemca </a:t>
            </a:r>
            <a:r>
              <a:rPr b="0" i="1" lang="sr-Latn-CS" sz="3200" spc="-1" strike="noStrike">
                <a:solidFill>
                  <a:srgbClr val="000000"/>
                </a:solidFill>
                <a:latin typeface="Comic Sans MS"/>
              </a:rPr>
              <a:t>Johannesa Widmana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(1462.-1500.)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, prvi su put  1489.  godine upotrebljene oznake </a:t>
            </a:r>
            <a:r>
              <a:rPr b="1" lang="sr-Latn-CS" sz="3200" spc="-1" strike="noStrike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i  </a:t>
            </a:r>
            <a:r>
              <a:rPr b="1" lang="sr-Latn-CS" sz="32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. U knjizi se govori 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aritmetici za trgovce, te je pomoću tih simbola prikazan višak odnosno manjak u poslovnim problem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268128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716360" y="404640"/>
            <a:ext cx="4187880" cy="5904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600" spc="-1" strike="noStrike">
                <a:solidFill>
                  <a:srgbClr val="000000"/>
                </a:solidFill>
                <a:latin typeface="Comic Sans MS"/>
              </a:rPr>
              <a:t>Giel Vander Hoecke, Belgijan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je vjerojatno prva osoba koja je simbole  </a:t>
            </a:r>
            <a:r>
              <a:rPr b="1" lang="sr-Latn-CS" sz="3600" spc="-1" strike="noStrike">
                <a:solidFill>
                  <a:srgbClr val="ff0000"/>
                </a:solidFill>
                <a:latin typeface="Comic Sans MS"/>
              </a:rPr>
              <a:t>+ 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 i  </a:t>
            </a:r>
            <a:r>
              <a:rPr b="1" lang="sr-Latn-CS" sz="3600" spc="-1" strike="noStrike">
                <a:solidFill>
                  <a:srgbClr val="ff0000"/>
                </a:solidFill>
                <a:latin typeface="Comic Sans MS"/>
              </a:rPr>
              <a:t>– 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 koristila u </a:t>
            </a:r>
            <a:r>
              <a:rPr b="0" lang="sr-Latn-CS" sz="3600" spc="-1" strike="noStrike" u="sng">
                <a:solidFill>
                  <a:srgbClr val="000000"/>
                </a:solidFill>
                <a:uFillTx/>
                <a:latin typeface="Comic Sans MS"/>
              </a:rPr>
              <a:t>algebarskim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 izrazima, što se vidi u njegovoj knjizi objavljenoj 1514. godine u Antverpen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3429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Englez </a:t>
            </a:r>
            <a:r>
              <a:rPr b="0" i="1" lang="sr-Latn-CS" sz="3200" spc="-1" strike="noStrike">
                <a:solidFill>
                  <a:srgbClr val="000000"/>
                </a:solidFill>
                <a:latin typeface="Comic Sans MS"/>
              </a:rPr>
              <a:t>Robert Recorde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(1510.-1558.)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u matematiku je uveo simbol   </a:t>
            </a:r>
            <a:r>
              <a:rPr b="1" lang="sr-Latn-CS" sz="3200" spc="-1" strike="noStrike">
                <a:solidFill>
                  <a:srgbClr val="ff0000"/>
                </a:solidFill>
                <a:latin typeface="Comic Sans MS"/>
              </a:rPr>
              <a:t>=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, koji se do tada označavao kao  </a:t>
            </a:r>
            <a:r>
              <a:rPr b="1" lang="sr-Latn-CS" sz="3200" spc="-1" strike="noStrike">
                <a:solidFill>
                  <a:srgbClr val="0000ff"/>
                </a:solidFill>
                <a:latin typeface="Monotype Corsiva"/>
              </a:rPr>
              <a:t>ae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Rage Italic"/>
              </a:rPr>
              <a:t> </a:t>
            </a:r>
            <a:r>
              <a:rPr b="1" lang="sr-Latn-CS" sz="3200" spc="-1" strike="noStrike">
                <a:solidFill>
                  <a:srgbClr val="0000ff"/>
                </a:solidFill>
                <a:latin typeface="Monotype Corsiva"/>
              </a:rPr>
              <a:t>oe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sr-Latn-CS" sz="3200" spc="-1" strike="noStrike">
                <a:solidFill>
                  <a:srgbClr val="0000ff"/>
                </a:solidFill>
                <a:latin typeface="Monotype Corsiva"/>
              </a:rPr>
              <a:t>aequbitur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ili </a:t>
            </a:r>
            <a:r>
              <a:rPr b="1" lang="sr-Latn-CS" sz="3200" spc="-1" strike="noStrike">
                <a:solidFill>
                  <a:srgbClr val="0000ff"/>
                </a:solidFill>
                <a:latin typeface="Monotype Corsiva"/>
              </a:rPr>
              <a:t>eaquatus </a:t>
            </a:r>
            <a:r>
              <a:rPr b="1" lang="sr-Latn-C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403280" y="1052640"/>
            <a:ext cx="6175440" cy="1563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050920" y="404640"/>
            <a:ext cx="5183280" cy="4472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24000" y="5424480"/>
            <a:ext cx="8496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U njegovoj knjizi “The Whetstone of Witte”, tiskanoj 1557. godine, prvi put se u javnosti pojavljuje simbol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Latn-CS" sz="2800" spc="-1" strike="noStrike">
                <a:solidFill>
                  <a:srgbClr val="ff0000"/>
                </a:solidFill>
                <a:latin typeface="Comic Sans MS"/>
              </a:rPr>
              <a:t>=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Eglez </a:t>
            </a:r>
            <a:r>
              <a:rPr b="0" i="1" lang="sr-Latn-CS" sz="3200" spc="-1" strike="noStrike">
                <a:solidFill>
                  <a:srgbClr val="000000"/>
                </a:solidFill>
                <a:latin typeface="Comic Sans MS"/>
              </a:rPr>
              <a:t>William Oughtred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(1574.-1660.)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poznat je po tome što je u svojim matematičkim radovima predstavio preko 150 simbola od kojih su samo 3 opstala do današnjih d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Jedan od njih je 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simbol oper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množenja  </a:t>
            </a:r>
            <a:r>
              <a:rPr b="1" lang="sr-Latn-CS" sz="3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sr-Latn-C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580000" y="3213000"/>
            <a:ext cx="2190960" cy="2654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5508360" y="1843200"/>
            <a:ext cx="307188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Popis nekih simbola koje je William Oughtred korist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 rot="60000">
            <a:off x="468360" y="188640"/>
            <a:ext cx="4221000" cy="6381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284720" y="333360"/>
            <a:ext cx="4340160" cy="6120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Ova oznaka za množenje mnogim se matematičarima 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omic Sans MS"/>
              </a:rPr>
              <a:t>nije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dopa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Tako npr. poznati njemački matematičar Leibniz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(1646.-1715.)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ukazao je na poteškoću da se znak množenja </a:t>
            </a:r>
            <a:r>
              <a:rPr b="1" lang="sr-Latn-CS" sz="3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često miješa sa oznakom iks (x) za nepoznatu veličinu, te je za množenje radije koristio sljedeći zap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Comic Sans MS"/>
              </a:rPr>
              <a:t>5.9 = 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94920" y="549000"/>
            <a:ext cx="8209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Napokon, matematičar </a:t>
            </a:r>
            <a:r>
              <a:rPr b="0" i="1" lang="sr-Latn-CS" sz="3200" spc="-1" strike="noStrike">
                <a:solidFill>
                  <a:srgbClr val="000000"/>
                </a:solidFill>
                <a:latin typeface="Comic Sans MS"/>
              </a:rPr>
              <a:t>Thomas Harriot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(Engleska, 1560.-1621.),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prvi za množenje počinje koristi točku </a:t>
            </a:r>
            <a:r>
              <a:rPr b="1" lang="sr-Latn-CS" sz="3200" spc="-1" strike="noStrike">
                <a:solidFill>
                  <a:srgbClr val="ff0000"/>
                </a:solidFill>
                <a:latin typeface="Comic Sans MS"/>
              </a:rPr>
              <a:t>•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Također mu se pripisuju i simboli brojevnih relacija  </a:t>
            </a:r>
            <a:r>
              <a:rPr b="1" lang="sr-Latn-CS" sz="3200" spc="-1" strike="noStrike">
                <a:solidFill>
                  <a:srgbClr val="ff0000"/>
                </a:solidFill>
                <a:latin typeface="Comic Sans MS"/>
              </a:rPr>
              <a:t>&lt;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i   </a:t>
            </a:r>
            <a:r>
              <a:rPr b="1" lang="sr-Latn-CS" sz="3200" spc="-1" strike="noStrike">
                <a:solidFill>
                  <a:srgbClr val="ff0000"/>
                </a:solidFill>
                <a:latin typeface="Comic Sans MS"/>
              </a:rPr>
              <a:t>&gt;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On je kvadrat broja </a:t>
            </a:r>
            <a:r>
              <a:rPr b="0" lang="sr-Latn-CS" sz="44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zapisivao kao </a:t>
            </a:r>
            <a:r>
              <a:rPr b="1" lang="sr-Latn-CS" sz="4400" spc="-1" strike="noStrike">
                <a:solidFill>
                  <a:srgbClr val="ff0000"/>
                </a:solidFill>
                <a:latin typeface="Monotype Corsiva"/>
              </a:rPr>
              <a:t>aa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kub broja </a:t>
            </a:r>
            <a:r>
              <a:rPr b="0" lang="sr-Latn-CS" sz="44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sr-Latn-CS" sz="4400" spc="-1" strike="noStrike">
                <a:solidFill>
                  <a:srgbClr val="000000"/>
                </a:solidFill>
                <a:latin typeface="Rage Italic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kao </a:t>
            </a:r>
            <a:r>
              <a:rPr b="1" lang="sr-Latn-CS" sz="4400" spc="-1" strike="noStrike">
                <a:solidFill>
                  <a:srgbClr val="ff0000"/>
                </a:solidFill>
                <a:latin typeface="Monotype Corsiva"/>
              </a:rPr>
              <a:t>aaa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i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234120" y="3502080"/>
            <a:ext cx="1722600" cy="2374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564000" y="188640"/>
            <a:ext cx="540072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Nijemac</a:t>
            </a:r>
            <a:r>
              <a:rPr b="0" i="1" lang="sr-Latn-CS" sz="3200" spc="-1" strike="noStrike">
                <a:solidFill>
                  <a:srgbClr val="000000"/>
                </a:solidFill>
                <a:latin typeface="Comic Sans MS"/>
              </a:rPr>
              <a:t> Michael Stifel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(1487.-1576.)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u svojoj je knjiz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Latn-CS" sz="4400" spc="-1" strike="noStrike">
                <a:solidFill>
                  <a:srgbClr val="000000"/>
                </a:solidFill>
                <a:latin typeface="Monotype Corsiva"/>
              </a:rPr>
              <a:t>Arithmetica integ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iz 1544. godine koristio simbole </a:t>
            </a:r>
            <a:r>
              <a:rPr b="1" lang="sr-Latn-CS" sz="3200" spc="-1" strike="noStrike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sr-Latn-CS" sz="32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i  </a:t>
            </a:r>
            <a:r>
              <a:rPr b="1" lang="sr-Latn-CS" sz="3200" spc="-1" strike="noStrike">
                <a:solidFill>
                  <a:srgbClr val="ff0000"/>
                </a:solidFill>
                <a:latin typeface="Comic Sans MS"/>
              </a:rPr>
              <a:t>√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dok je za dijeljenje koristio desnu zagrad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Npr.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Latn-CS" sz="3200" spc="-1" strike="noStrike">
                <a:solidFill>
                  <a:srgbClr val="0000ff"/>
                </a:solidFill>
                <a:latin typeface="Comic Sans MS"/>
              </a:rPr>
              <a:t>24:8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pisao je ka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Latn-CS" sz="3200" spc="-1" strike="noStrike">
                <a:solidFill>
                  <a:srgbClr val="0000ff"/>
                </a:solidFill>
                <a:latin typeface="Comic Sans MS"/>
              </a:rPr>
              <a:t>8)24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242100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716360" y="404640"/>
            <a:ext cx="4187880" cy="5904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7956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Glavna matematička otkrića u dob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renesan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Rješenje jednadžbe trećeg i četvrtog stup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Logari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Nova i jednostavnija matematička simbol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50560" y="1557000"/>
            <a:ext cx="43923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Oznaka za korijen najvjerojatnije je nastala od prvog slova latinske riječi radix (korije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sr-Latn-CS" sz="44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Bradley Hand ITC"/>
              </a:rPr>
              <a:t>r</a:t>
            </a:r>
            <a:r>
              <a:rPr b="0" lang="sr-Latn-CS" sz="44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→  </a:t>
            </a:r>
            <a:r>
              <a:rPr b="0" lang="sr-Latn-CS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sr-Latn-CS" sz="4000" spc="-1" strike="noStrike">
                <a:solidFill>
                  <a:srgbClr val="ff0000"/>
                </a:solidFill>
                <a:latin typeface="Comic Sans MS"/>
              </a:rPr>
              <a:t>√</a:t>
            </a: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711680" y="907920"/>
            <a:ext cx="3943440" cy="4897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Francuz </a:t>
            </a:r>
            <a:r>
              <a:rPr b="0" i="1" lang="sr-Latn-CS" sz="3200" spc="-1" strike="noStrike">
                <a:solidFill>
                  <a:srgbClr val="000000"/>
                </a:solidFill>
                <a:latin typeface="Comic Sans MS"/>
              </a:rPr>
              <a:t>Nicolas Chuquet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(1445.-1500.)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koristi eksponent na način da zapis  </a:t>
            </a:r>
            <a:r>
              <a:rPr b="1" lang="sr-Latn-CS" sz="3200" spc="-1" strike="noStrike">
                <a:solidFill>
                  <a:srgbClr val="0000ff"/>
                </a:solidFill>
                <a:latin typeface="Comic Sans MS"/>
              </a:rPr>
              <a:t>12</a:t>
            </a:r>
            <a:r>
              <a:rPr b="1" lang="sr-Latn-CS" sz="3200" spc="-1" strike="noStrike" baseline="30000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njemu zapravo znači  </a:t>
            </a:r>
            <a:r>
              <a:rPr b="1" lang="sr-Latn-CS" sz="3200" spc="-1" strike="noStrike">
                <a:solidFill>
                  <a:srgbClr val="0000ff"/>
                </a:solidFill>
                <a:latin typeface="Comic Sans MS"/>
              </a:rPr>
              <a:t>12</a:t>
            </a:r>
            <a:r>
              <a:rPr b="1" lang="sr-Latn-CS" sz="1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sr-Latn-CS" sz="3200" spc="-1" strike="noStrike">
                <a:solidFill>
                  <a:srgbClr val="0000ff"/>
                </a:solidFill>
                <a:latin typeface="Comic Sans MS"/>
              </a:rPr>
              <a:t>x</a:t>
            </a:r>
            <a:r>
              <a:rPr b="1" lang="sr-Latn-CS" sz="3200" spc="-1" strike="noStrike" baseline="30000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Zagrade je označav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podvlačenj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Primjer jednog njegovo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zapis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Danas bismo to zapisali ovak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sr-Latn-C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sr-Latn-CS" sz="3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sr-Latn-C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sr-Latn-CS" sz="1000" spc="-1" strike="noStrike" baseline="30000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Comic Sans MS"/>
              </a:rPr>
              <a:t>+</a:t>
            </a:r>
            <a:r>
              <a:rPr b="1" lang="sr-Latn-CS" sz="1000" spc="-1" strike="noStrike" baseline="30000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Comic Sans MS"/>
              </a:rPr>
              <a:t>5x</a:t>
            </a:r>
            <a:r>
              <a:rPr b="1" lang="sr-Latn-CS" sz="1000" spc="-1" strike="noStrike" baseline="30000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Comic Sans MS"/>
              </a:rPr>
              <a:t>=</a:t>
            </a:r>
            <a:r>
              <a:rPr b="1" lang="sr-Latn-CS" sz="1000" spc="-1" strike="noStrike" baseline="30000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012000" y="2060640"/>
            <a:ext cx="1985760" cy="24494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330200" y="4292640"/>
            <a:ext cx="3241800" cy="83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424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Veliki doprinos razvoju i popularizaciji matematičke notacije dao je poznati matematičar </a:t>
            </a:r>
            <a:r>
              <a:rPr b="0" i="1" lang="sr-Latn-CS" sz="3200" spc="-1" strike="noStrike">
                <a:solidFill>
                  <a:srgbClr val="000000"/>
                </a:solidFill>
                <a:latin typeface="Comic Sans MS"/>
              </a:rPr>
              <a:t>Francois Viete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(1540.-1603.)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Prvi je počeo z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konstantne i nepozn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veličine koristiti slo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Za </a:t>
            </a:r>
            <a:r>
              <a:rPr b="1" lang="sr-Latn-CS" sz="3200" spc="-1" strike="noStrike">
                <a:solidFill>
                  <a:srgbClr val="0000ff"/>
                </a:solidFill>
                <a:latin typeface="Comic Sans MS"/>
              </a:rPr>
              <a:t>dijeljenje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koristi </a:t>
            </a:r>
            <a:r>
              <a:rPr b="1" lang="sr-Latn-CS" sz="3200" spc="-1" strike="noStrike">
                <a:solidFill>
                  <a:srgbClr val="0000ff"/>
                </a:solidFill>
                <a:latin typeface="Comic Sans MS"/>
              </a:rPr>
              <a:t>razlomačku crt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u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Comic Sans MS"/>
              </a:rPr>
              <a:t>množenje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označava sa </a:t>
            </a:r>
            <a:r>
              <a:rPr b="1" i="1" lang="sr-Latn-CS" sz="3200" spc="-1" strike="noStrike">
                <a:solidFill>
                  <a:srgbClr val="ff0000"/>
                </a:solidFill>
                <a:latin typeface="Comic Sans MS"/>
              </a:rPr>
              <a:t>in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867280" y="1981080"/>
            <a:ext cx="201636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Pogledajmo nekoliko matematičkih izraza zapisanih na način koji se koristio prije uvođenja današnjih matematičkih simbola. Kao što vidimo, postojale su razlike u tiskanoj i pisanoj form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619280" y="2963880"/>
            <a:ext cx="5329080" cy="3633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716360" y="404640"/>
            <a:ext cx="4187880" cy="5904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Mnogi matematički simboli koji su uvedeni u 15. i 16. stoljeću, koriste se i da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Matematički “jezik” postao je univerzalni jezik koji ne poznaje grani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Izrazi i jednadžbe danas  se gotovo jednako zapisuju u gotovo svim krajevima svijeta, što pomaže daljnjem razvoju znanosti jer olakšava komunikaciju znanstvenika širom svije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716000" y="907920"/>
            <a:ext cx="435636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utorica prezentaci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Comic Sans MS"/>
              </a:rPr>
              <a:t>Jelena Volar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rofesorica matemat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Š ”Đorđe Krstić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Beogr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Prijevod i prilagodba 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hrvatski jezik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ff"/>
                </a:solidFill>
                <a:latin typeface="Comic Sans MS"/>
              </a:rPr>
              <a:t>Antonija Horvate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a50021"/>
                </a:solidFill>
                <a:uFillTx/>
                <a:latin typeface="Comic Sans MS"/>
                <a:hlinkClick r:id="rId1"/>
              </a:rPr>
              <a:t>http://public.carnet.hr/~ahorvate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84360" y="476280"/>
            <a:ext cx="3931920" cy="5545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9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9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9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9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79280" y="404280"/>
            <a:ext cx="51134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Literatu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Matematika u doba renesans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Franka Miriam Bruck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skrip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A History of Mathematical Notatio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y </a:t>
            </a:r>
            <a:r>
              <a:rPr b="0" lang="en-US" sz="2400" spc="-1" strike="noStrike" u="sng">
                <a:solidFill>
                  <a:srgbClr val="a50021"/>
                </a:solidFill>
                <a:uFillTx/>
                <a:latin typeface="Comic Sans MS"/>
                <a:hlinkClick r:id="rId1"/>
              </a:rPr>
              <a:t>Florian Cajor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Ostala digitalna literatura sa Interneta, između ostaloga </a:t>
            </a:r>
            <a:r>
              <a:rPr b="0" lang="en-US" sz="2400" spc="-1" strike="noStrike" u="sng">
                <a:solidFill>
                  <a:srgbClr val="a50021"/>
                </a:solidFill>
                <a:uFillTx/>
                <a:latin typeface="Comic Sans MS"/>
                <a:hlinkClick r:id="rId2"/>
              </a:rPr>
              <a:t>Earliest Uses of Various Mathematical Symb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Wikipedia - slobodna encikloped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580000" y="1197000"/>
            <a:ext cx="3063960" cy="4319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624720" cy="4968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108000" y="765000"/>
            <a:ext cx="8893080" cy="122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80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A sad krenimo na putovanje kroz vrijeme!</a:t>
            </a:r>
            <a:endParaRPr b="0" lang="en-US" sz="32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Vrijeme:  15. stoljeć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Zemlje:   </a:t>
            </a:r>
            <a:r>
              <a:rPr b="0" lang="sr-Latn-CS" sz="3200" spc="-1" strike="noStrike">
                <a:solidFill>
                  <a:srgbClr val="ff0000"/>
                </a:solidFill>
                <a:latin typeface="Comic Sans MS"/>
              </a:rPr>
              <a:t>Italija (1. grup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sr-Latn-CS" sz="3200" spc="-1" strike="noStrike">
                <a:solidFill>
                  <a:srgbClr val="0000ff"/>
                </a:solidFill>
                <a:latin typeface="Comic Sans MS"/>
              </a:rPr>
              <a:t>Njemačka  (2. grup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sr-Latn-CS" sz="3200" spc="-1" strike="noStrike">
                <a:solidFill>
                  <a:srgbClr val="009900"/>
                </a:solidFill>
                <a:latin typeface="Comic Sans MS"/>
              </a:rPr>
              <a:t>Francuska  (3. grup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sr-Latn-CS" sz="3200" spc="-1" strike="noStrike">
                <a:solidFill>
                  <a:srgbClr val="ff9900"/>
                </a:solidFill>
                <a:latin typeface="Comic Sans MS"/>
              </a:rPr>
              <a:t>Engleska  (4. grup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sr-Latn-CS" sz="3200" spc="-1" strike="noStrike">
                <a:solidFill>
                  <a:srgbClr val="9900cc"/>
                </a:solidFill>
                <a:latin typeface="Comic Sans MS"/>
              </a:rPr>
              <a:t>Španjolska  (5. grup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Zanimanje: matematič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Zadatak:  Zapiši </a:t>
            </a:r>
            <a:r>
              <a:rPr b="0" lang="sr-Latn-CS" sz="3200" spc="-1" strike="noStrike" u="sng">
                <a:solidFill>
                  <a:srgbClr val="a50021"/>
                </a:solidFill>
                <a:uFillTx/>
                <a:latin typeface="Comic Sans MS"/>
                <a:hlinkClick r:id="rId1"/>
              </a:rPr>
              <a:t>zadane jednakosti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onako kako se to radilo u “tvojoj” zemlji u doba renesan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716360" y="404640"/>
            <a:ext cx="4187880" cy="5904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0920" y="2060280"/>
            <a:ext cx="777708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omic Sans MS"/>
              </a:rPr>
              <a:t>Razvoj  matematičkih </a:t>
            </a:r>
            <a:br>
              <a:rPr sz="4400"/>
            </a:br>
            <a:r>
              <a:rPr b="0" lang="sr-Latn-CS" sz="4400" spc="-1" strike="noStrike">
                <a:solidFill>
                  <a:srgbClr val="000000"/>
                </a:solidFill>
                <a:latin typeface="Comic Sans MS"/>
              </a:rPr>
              <a:t>oznaka (simbol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55640" y="620640"/>
            <a:ext cx="1511280" cy="1243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284720" y="333360"/>
            <a:ext cx="4390920" cy="6191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Većina matematičkih simbola koje danas upotrebljavamo, počela se upotrebljavat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sr-Latn-CS" sz="3600" spc="-1" strike="noStrike">
                <a:solidFill>
                  <a:srgbClr val="000000"/>
                </a:solidFill>
                <a:latin typeface="Comic Sans MS"/>
              </a:rPr>
              <a:t>tek početkom 16. stoljeća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258920" y="4149720"/>
            <a:ext cx="2087640" cy="1717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rije pojave tiskara knjige su se umnožavale ručnim prepisivanj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Takve ručno prepisivane knjige nazivale su se </a:t>
            </a:r>
            <a:r>
              <a:rPr b="0" i="1" lang="sr-Latn-CS" sz="2800" spc="-1" strike="noStrike">
                <a:solidFill>
                  <a:srgbClr val="000000"/>
                </a:solidFill>
                <a:latin typeface="Comic Sans MS"/>
              </a:rPr>
              <a:t>manuskripti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Manuskripti su bili vrlo skupocjeni i dostupni samo malobrojnim znanstvenic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6920" y="3789360"/>
            <a:ext cx="3816360" cy="2332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508720" y="3357720"/>
            <a:ext cx="257796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0920" y="620640"/>
            <a:ext cx="4681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2052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U 15. i 16. stoljeću zahvaljujući otkriću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tiskarskog stroja (Gutemberg)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raste obrazova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i  </a:t>
            </a:r>
            <a:r>
              <a:rPr b="0" i="1" lang="sr-Latn-CS" sz="3600" spc="-1" strike="noStrike">
                <a:solidFill>
                  <a:srgbClr val="000000"/>
                </a:solidFill>
                <a:latin typeface="Comic Sans MS"/>
              </a:rPr>
              <a:t>suradnja znanstvenika postaje sve češć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148360" y="404640"/>
            <a:ext cx="3593880" cy="5616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3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3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3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427640" y="404640"/>
            <a:ext cx="4392360" cy="6193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Najjednostavniji brojevni izraz, np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sr-Latn-CS" sz="1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Comic Sans MS"/>
              </a:rPr>
              <a:t>+</a:t>
            </a:r>
            <a:r>
              <a:rPr b="1" lang="sr-Latn-CS" sz="1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sr-Latn-CS" sz="1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Comic Sans MS"/>
              </a:rPr>
              <a:t>=</a:t>
            </a:r>
            <a:r>
              <a:rPr b="1" lang="sr-Latn-CS" sz="1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u 15. se stoljeću zapisivao na sljedeći nači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1" lang="sr-Latn-CS" sz="3200" spc="-1" strike="noStrike">
                <a:solidFill>
                  <a:srgbClr val="ff0000"/>
                </a:solidFill>
                <a:latin typeface="Comic Sans MS"/>
              </a:rPr>
              <a:t>.2.et.3.ae.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Za oznake računskih operacija i relacija koristile su se kratice (ili čak cijele riječi) tih pojmova na latinskom, talijanskom, španjolskom ili nekom drugom jezik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5280" y="618840"/>
            <a:ext cx="80755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Nerijetko su se za istu računsku operaciju ili relaciju koristile različite oznake (tj. riječi), ovisno o zemlji u kojoj su se korist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11280" y="3178080"/>
          <a:ext cx="7570800" cy="2411280"/>
        </p:xfrm>
        <a:graphic>
          <a:graphicData uri="http://schemas.openxmlformats.org/drawingml/2006/table">
            <a:tbl>
              <a:tblPr/>
              <a:tblGrid>
                <a:gridCol w="1514520"/>
                <a:gridCol w="1509480"/>
                <a:gridCol w="1517760"/>
                <a:gridCol w="1514520"/>
                <a:gridCol w="1514520"/>
              </a:tblGrid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tali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Španjols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ancus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jemač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dnak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equal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aquibit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gaul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 u="sng">
                          <a:solidFill>
                            <a:srgbClr val="a50021"/>
                          </a:solidFill>
                          <a:uFillTx/>
                          <a:latin typeface="Comic Sans MS"/>
                          <a:hlinkClick r:id="rId1" action="ppaction://hlinksldjump"/>
                        </a:rPr>
                        <a:t>zbraj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 u="sng">
                          <a:solidFill>
                            <a:srgbClr val="a50021"/>
                          </a:solidFill>
                          <a:uFillTx/>
                          <a:latin typeface="Comic Sans MS"/>
                          <a:hlinkClick r:id="rId2" action="ppaction://hlinksldjump"/>
                        </a:rPr>
                        <a:t>oduzim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n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i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716360" y="404640"/>
            <a:ext cx="4187880" cy="5904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803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Kratice za </a:t>
            </a:r>
            <a:r>
              <a:rPr b="0" lang="sr-Latn-CS" sz="3200" spc="-1" strike="noStrike" u="sng">
                <a:solidFill>
                  <a:srgbClr val="a50021"/>
                </a:solidFill>
                <a:uFillTx/>
                <a:latin typeface="Comic Sans MS"/>
                <a:hlinkClick r:id="rId2" action="ppaction://hlinksldjump"/>
              </a:rPr>
              <a:t>zbrajanje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U Njemačkoj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e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za zbrajanje koristila riječ </a:t>
            </a:r>
            <a:r>
              <a:rPr b="1" lang="sr-Latn-CS" sz="4000" spc="-1" strike="noStrike">
                <a:solidFill>
                  <a:srgbClr val="ff0000"/>
                </a:solidFill>
                <a:latin typeface="Rage Italic"/>
              </a:rPr>
              <a:t>et</a:t>
            </a:r>
            <a:r>
              <a:rPr b="0" lang="sr-Latn-CS" sz="3200" spc="-1" strike="noStrike">
                <a:solidFill>
                  <a:srgbClr val="000000"/>
                </a:solidFill>
                <a:latin typeface="Rage Italic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(et) što na latinskom znači  </a:t>
            </a:r>
            <a:r>
              <a:rPr b="1" lang="sr-Latn-CS" sz="4000" spc="-1" strike="noStrike">
                <a:solidFill>
                  <a:srgbClr val="ff0000"/>
                </a:solidFill>
                <a:latin typeface="Comic Sans MS"/>
              </a:rPr>
              <a:t>i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Pretpostavlja se da se znak  </a:t>
            </a:r>
            <a:r>
              <a:rPr b="1" lang="sr-Latn-CS" sz="4400" spc="-1" strike="noStrike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razvio uslijed brzog prepisivanja riječi </a:t>
            </a: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Latn-CS" sz="4000" spc="-1" strike="noStrike">
                <a:solidFill>
                  <a:srgbClr val="ff0000"/>
                </a:solidFill>
                <a:latin typeface="Rage Italic"/>
              </a:rPr>
              <a:t>et</a:t>
            </a:r>
            <a:r>
              <a:rPr b="0" lang="sr-Latn-CS" sz="4000" spc="-1" strike="noStrike">
                <a:solidFill>
                  <a:srgbClr val="000000"/>
                </a:solidFill>
                <a:latin typeface="Rage Italic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Rage Italic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u manuskriptima tog do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508720" y="476280"/>
            <a:ext cx="466560" cy="828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661080" y="476280"/>
            <a:ext cx="324000" cy="847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5T20:36:47Z</dcterms:created>
  <dc:creator>Jelena</dc:creator>
  <dc:description/>
  <dc:language>en-US</dc:language>
  <cp:lastModifiedBy>Antonija</cp:lastModifiedBy>
  <dcterms:modified xsi:type="dcterms:W3CDTF">2007-12-02T20:07:54Z</dcterms:modified>
  <cp:revision>68</cp:revision>
  <dc:subject/>
  <dc:title>M A T E M A T I K A  u doba    renesanse</dc:title>
</cp:coreProperties>
</file>